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0AA7-2C5B-40C5-90A9-01D4AD22C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EB06-6C3F-44F7-977F-7F2CF6F23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20AC-128D-45FC-ABAB-43EA29E24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FDD7-28A3-4E8C-A1B3-CF1C04004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727A-277F-425C-821D-37C6659D4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DC48-FD27-42CD-8DD4-5CDE7418E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98E3-9955-4270-8E61-E15CE72DA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EBDD-91AD-4567-B0BB-204F76988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A019-52A9-4AA2-A31A-CB180C291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303F-B48E-422D-801A-862EFC24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75FC-BA08-4623-A62F-E1A27945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9762-0FE3-4A98-9E7C-CD42E35C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B4B27-E287-459E-B009-C56C9A7B1A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2000" y="228600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89040" y="3886200"/>
            <a:ext cx="147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00600" y="38862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3" idx="0"/>
            <a:endCxn id="41" idx="2"/>
          </p:cNvCxnSpPr>
          <p:nvPr/>
        </p:nvCxnSpPr>
        <p:spPr>
          <a:xfrm flipH="1" flipV="1">
            <a:off x="4393800" y="2654280"/>
            <a:ext cx="1092960" cy="1232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5" name=""/>
          <p:cNvCxnSpPr>
            <a:stCxn id="42" idx="0"/>
            <a:endCxn id="41" idx="2"/>
          </p:cNvCxnSpPr>
          <p:nvPr/>
        </p:nvCxnSpPr>
        <p:spPr>
          <a:xfrm flipV="1">
            <a:off x="3225600" y="2654280"/>
            <a:ext cx="1168560" cy="1232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3962520" y="4207320"/>
            <a:ext cx="8384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7" name=""/>
          <p:cNvSpPr/>
          <p:nvPr/>
        </p:nvSpPr>
        <p:spPr>
          <a:xfrm>
            <a:off x="3962520" y="32004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505320" y="36576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48320" y="35812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4419720" y="2895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720" y="205740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2743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44956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52" idx="2"/>
            <a:endCxn id="53" idx="0"/>
          </p:cNvCxnSpPr>
          <p:nvPr/>
        </p:nvCxnSpPr>
        <p:spPr>
          <a:xfrm>
            <a:off x="2704680" y="3109680"/>
            <a:ext cx="1715400" cy="138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3276720" y="8380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52" idx="0"/>
            <a:endCxn id="55" idx="2"/>
          </p:cNvCxnSpPr>
          <p:nvPr/>
        </p:nvCxnSpPr>
        <p:spPr>
          <a:xfrm flipV="1">
            <a:off x="2705040" y="1204200"/>
            <a:ext cx="1410480" cy="153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7" name=""/>
          <p:cNvCxnSpPr>
            <a:stCxn id="55" idx="2"/>
            <a:endCxn id="51" idx="0"/>
          </p:cNvCxnSpPr>
          <p:nvPr/>
        </p:nvCxnSpPr>
        <p:spPr>
          <a:xfrm>
            <a:off x="4114800" y="1204920"/>
            <a:ext cx="1270800" cy="85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8" name=""/>
          <p:cNvCxnSpPr>
            <a:stCxn id="51" idx="2"/>
            <a:endCxn id="53" idx="0"/>
          </p:cNvCxnSpPr>
          <p:nvPr/>
        </p:nvCxnSpPr>
        <p:spPr>
          <a:xfrm flipH="1">
            <a:off x="4419000" y="2424240"/>
            <a:ext cx="965880" cy="207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4114800" y="1447920"/>
            <a:ext cx="228600" cy="2743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428640" y="236232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029920" y="281952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52480" y="281952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52680" y="44956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17524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" name=""/>
          <p:cNvCxnSpPr>
            <a:stCxn id="63" idx="0"/>
            <a:endCxn id="64" idx="2"/>
          </p:cNvCxnSpPr>
          <p:nvPr/>
        </p:nvCxnSpPr>
        <p:spPr>
          <a:xfrm flipV="1">
            <a:off x="4419360" y="2118600"/>
            <a:ext cx="1080" cy="237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6" name=""/>
          <p:cNvCxnSpPr>
            <a:stCxn id="64" idx="1"/>
            <a:endCxn id="63" idx="1"/>
          </p:cNvCxnSpPr>
          <p:nvPr/>
        </p:nvCxnSpPr>
        <p:spPr>
          <a:xfrm flipV="1" rot="10800000">
            <a:off x="3351960" y="1936440"/>
            <a:ext cx="229320" cy="2743920"/>
          </a:xfrm>
          <a:prstGeom prst="curvedConnector5">
            <a:avLst>
              <a:gd name="adj1" fmla="val 200000"/>
              <a:gd name="adj2" fmla="val 49993"/>
              <a:gd name="adj3" fmla="val 2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143000" y="3809880"/>
            <a:ext cx="1676520" cy="83844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urren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l contro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219320"/>
            <a:ext cx="182880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neric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vice sharing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733920" y="3809880"/>
            <a:ext cx="167616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rnal/Share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sed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819520" y="5257800"/>
            <a:ext cx="167616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teless control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sed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724280" y="5257800"/>
            <a:ext cx="16765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telful control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sed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67" idx="0"/>
            <a:endCxn id="69" idx="0"/>
          </p:cNvCxnSpPr>
          <p:nvPr/>
        </p:nvCxnSpPr>
        <p:spPr>
          <a:xfrm flipH="1" rot="16200000">
            <a:off x="3275280" y="2514240"/>
            <a:ext cx="2520" cy="2591640"/>
          </a:xfrm>
          <a:prstGeom prst="curvedConnector5">
            <a:avLst>
              <a:gd name="adj1" fmla="val -33900000"/>
              <a:gd name="adj2" fmla="val 50000"/>
              <a:gd name="adj3" fmla="val -339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6553080" y="3809880"/>
            <a:ext cx="167652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pliance base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67" idx="0"/>
            <a:endCxn id="73" idx="0"/>
          </p:cNvCxnSpPr>
          <p:nvPr/>
        </p:nvCxnSpPr>
        <p:spPr>
          <a:xfrm flipH="1" rot="16200000">
            <a:off x="4685040" y="1104480"/>
            <a:ext cx="2520" cy="5411160"/>
          </a:xfrm>
          <a:prstGeom prst="curvedConnector5">
            <a:avLst>
              <a:gd name="adj1" fmla="val -61200000"/>
              <a:gd name="adj2" fmla="val 50000"/>
              <a:gd name="adj3" fmla="val -61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6781680" y="1143000"/>
            <a:ext cx="1981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en System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centralized contro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stem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61520" y="1295280"/>
            <a:ext cx="1788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prietary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entralized Contro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stem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828800" y="2133360"/>
            <a:ext cx="2209680" cy="1447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5257800" y="2133360"/>
            <a:ext cx="2362320" cy="15238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724280" y="2209680"/>
            <a:ext cx="0" cy="15242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505320" y="4723920"/>
            <a:ext cx="457200" cy="3812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5257800" y="4723920"/>
            <a:ext cx="533520" cy="3812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5335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ld Business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705720" y="45720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 Business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2" idx="2"/>
            <a:endCxn id="76" idx="0"/>
          </p:cNvCxnSpPr>
          <p:nvPr/>
        </p:nvCxnSpPr>
        <p:spPr>
          <a:xfrm>
            <a:off x="1218960" y="869760"/>
            <a:ext cx="137160" cy="425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83" idx="2"/>
            <a:endCxn id="75" idx="0"/>
          </p:cNvCxnSpPr>
          <p:nvPr/>
        </p:nvCxnSpPr>
        <p:spPr>
          <a:xfrm flipH="1">
            <a:off x="7772040" y="793800"/>
            <a:ext cx="38880" cy="34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1295280" y="2209680"/>
            <a:ext cx="22860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772400" y="2133720"/>
            <a:ext cx="763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7162920" y="57150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315200" y="57913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heritance 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/>
          <p:nvPr/>
        </p:nvCxnSpPr>
        <p:spPr>
          <a:xfrm flipV="1" rot="16200000">
            <a:off x="6971760" y="6362280"/>
            <a:ext cx="381600" cy="15300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7315200" y="617220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rchitectural evolution 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" name=""/>
          <p:cNvCxnSpPr/>
          <p:nvPr/>
        </p:nvCxnSpPr>
        <p:spPr>
          <a:xfrm flipV="1">
            <a:off x="7162920" y="540936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7315200" y="54100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mpact” 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5029200"/>
            <a:ext cx="221004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391520" y="502920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Leg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5T18:05:08Z</dcterms:created>
  <dc:creator>The User</dc:creator>
  <dc:description/>
  <dc:language>en-US</dc:language>
  <cp:lastModifiedBy>ntuser</cp:lastModifiedBy>
  <dcterms:modified xsi:type="dcterms:W3CDTF">2001-03-12T21:14:10Z</dcterms:modified>
  <cp:revision>13</cp:revision>
  <dc:subject/>
  <dc:title>PowerPoint Presentation</dc:title>
</cp:coreProperties>
</file>