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82AD-A191-4AF2-87CE-2532E320C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6DC5-2F45-46C1-9E6F-A4AFC9FB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12A9-5E7C-4540-9C3E-792FEA122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0430-D8C1-407B-B3AE-609C0DB6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20B7-B1F6-4F03-8702-5D3D8786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6905-93C7-4D12-834E-B74D5E1A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B56C-82FC-4164-9478-0DA4B3C1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3D33-1153-4251-8186-7BA413C1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9045-6566-4E8F-954E-C6A6DAB3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2F69-273D-49AA-BEC5-D9EE52E9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146C-CB7E-4F61-8C17-F1829D1F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1C35-3888-4F72-9325-6D1263A1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8EAD-ECB7-4D69-A3FC-A21FAA8AB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2000" y="2286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89040" y="3886200"/>
            <a:ext cx="14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3886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3" idx="0"/>
            <a:endCxn id="41" idx="2"/>
          </p:cNvCxnSpPr>
          <p:nvPr/>
        </p:nvCxnSpPr>
        <p:spPr>
          <a:xfrm flipH="1" flipV="1">
            <a:off x="4393800" y="2654280"/>
            <a:ext cx="10929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5" name=""/>
          <p:cNvCxnSpPr>
            <a:stCxn id="42" idx="0"/>
            <a:endCxn id="41" idx="2"/>
          </p:cNvCxnSpPr>
          <p:nvPr/>
        </p:nvCxnSpPr>
        <p:spPr>
          <a:xfrm flipV="1">
            <a:off x="3225600" y="2654280"/>
            <a:ext cx="11685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3962520" y="4207320"/>
            <a:ext cx="8384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3962520" y="32004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505320" y="36576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35812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4197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720" y="20574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2743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2" idx="2"/>
            <a:endCxn id="53" idx="0"/>
          </p:cNvCxnSpPr>
          <p:nvPr/>
        </p:nvCxnSpPr>
        <p:spPr>
          <a:xfrm>
            <a:off x="2704680" y="3109680"/>
            <a:ext cx="1715400" cy="138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276720" y="8380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2" idx="0"/>
            <a:endCxn id="55" idx="2"/>
          </p:cNvCxnSpPr>
          <p:nvPr/>
        </p:nvCxnSpPr>
        <p:spPr>
          <a:xfrm flipV="1">
            <a:off x="2705040" y="1204200"/>
            <a:ext cx="1410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" name=""/>
          <p:cNvCxnSpPr>
            <a:stCxn id="55" idx="2"/>
            <a:endCxn id="51" idx="0"/>
          </p:cNvCxnSpPr>
          <p:nvPr/>
        </p:nvCxnSpPr>
        <p:spPr>
          <a:xfrm>
            <a:off x="4114800" y="1204920"/>
            <a:ext cx="127080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1" idx="2"/>
            <a:endCxn id="53" idx="0"/>
          </p:cNvCxnSpPr>
          <p:nvPr/>
        </p:nvCxnSpPr>
        <p:spPr>
          <a:xfrm flipH="1">
            <a:off x="4419000" y="2424240"/>
            <a:ext cx="965880" cy="207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4114800" y="1447920"/>
            <a:ext cx="22860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428640" y="23623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029920" y="281952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2819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1752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63" idx="0"/>
            <a:endCxn id="64" idx="2"/>
          </p:cNvCxnSpPr>
          <p:nvPr/>
        </p:nvCxnSpPr>
        <p:spPr>
          <a:xfrm flipV="1">
            <a:off x="4419360" y="2118600"/>
            <a:ext cx="1080" cy="23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6" name=""/>
          <p:cNvCxnSpPr>
            <a:stCxn id="64" idx="1"/>
            <a:endCxn id="63" idx="1"/>
          </p:cNvCxnSpPr>
          <p:nvPr/>
        </p:nvCxnSpPr>
        <p:spPr>
          <a:xfrm flipV="1" rot="10800000">
            <a:off x="3351960" y="1936440"/>
            <a:ext cx="229320" cy="2743920"/>
          </a:xfrm>
          <a:prstGeom prst="curvedConnector5">
            <a:avLst>
              <a:gd name="adj1" fmla="val 200000"/>
              <a:gd name="adj2" fmla="val 49993"/>
              <a:gd name="adj3" fmla="val 2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809880"/>
            <a:ext cx="1676520" cy="83844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l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219320"/>
            <a:ext cx="18288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ic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ice sharin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3809880"/>
            <a:ext cx="167616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rnal/Shar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5257800"/>
            <a:ext cx="16761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ess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5257800"/>
            <a:ext cx="16765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ful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7" idx="0"/>
            <a:endCxn id="69" idx="0"/>
          </p:cNvCxnSpPr>
          <p:nvPr/>
        </p:nvCxnSpPr>
        <p:spPr>
          <a:xfrm flipH="1" rot="16200000">
            <a:off x="3275280" y="2514240"/>
            <a:ext cx="2520" cy="2591640"/>
          </a:xfrm>
          <a:prstGeom prst="curvedConnector5">
            <a:avLst>
              <a:gd name="adj1" fmla="val -33900000"/>
              <a:gd name="adj2" fmla="val 50000"/>
              <a:gd name="adj3" fmla="val -33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6553080" y="3809880"/>
            <a:ext cx="167652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ance bas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7" idx="0"/>
            <a:endCxn id="73" idx="0"/>
          </p:cNvCxnSpPr>
          <p:nvPr/>
        </p:nvCxnSpPr>
        <p:spPr>
          <a:xfrm flipH="1" rot="16200000">
            <a:off x="4685040" y="1104480"/>
            <a:ext cx="2520" cy="5411160"/>
          </a:xfrm>
          <a:prstGeom prst="curvedConnector5">
            <a:avLst>
              <a:gd name="adj1" fmla="val -61200000"/>
              <a:gd name="adj2" fmla="val 50000"/>
              <a:gd name="adj3" fmla="val -61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781680" y="1143000"/>
            <a:ext cx="19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n Syste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1520" y="1295280"/>
            <a:ext cx="178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rietary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828800" y="2133360"/>
            <a:ext cx="220968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57800" y="2133360"/>
            <a:ext cx="2362320" cy="1523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724280" y="22096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4723920"/>
            <a:ext cx="45720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5257800" y="4723920"/>
            <a:ext cx="53352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533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ld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4572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2"/>
            <a:endCxn id="76" idx="0"/>
          </p:cNvCxnSpPr>
          <p:nvPr/>
        </p:nvCxnSpPr>
        <p:spPr>
          <a:xfrm>
            <a:off x="1218960" y="869760"/>
            <a:ext cx="13716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3" idx="2"/>
            <a:endCxn id="75" idx="0"/>
          </p:cNvCxnSpPr>
          <p:nvPr/>
        </p:nvCxnSpPr>
        <p:spPr>
          <a:xfrm flipH="1">
            <a:off x="7772040" y="793800"/>
            <a:ext cx="3888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1295280" y="2209680"/>
            <a:ext cx="228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72400" y="213372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162920" y="5715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5791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heritance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/>
          <p:nvPr/>
        </p:nvCxnSpPr>
        <p:spPr>
          <a:xfrm flipV="1" rot="16200000">
            <a:off x="6971760" y="6362280"/>
            <a:ext cx="381600" cy="15300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7315200" y="61722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chitectural evolution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/>
          <p:nvPr/>
        </p:nvCxnSpPr>
        <p:spPr>
          <a:xfrm flipV="1">
            <a:off x="7162920" y="540936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7315200" y="5410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act”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5029200"/>
            <a:ext cx="22100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502920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5T18:05:08Z</dcterms:created>
  <dc:creator>The User</dc:creator>
  <dc:description/>
  <dc:language>en-US</dc:language>
  <cp:lastModifiedBy>ntuser</cp:lastModifiedBy>
  <dcterms:modified xsi:type="dcterms:W3CDTF">2001-03-12T21:14:10Z</dcterms:modified>
  <cp:revision>13</cp:revision>
  <dc:subject/>
  <dc:title>PowerPoint Presentation</dc:title>
</cp:coreProperties>
</file>