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5435-7D06-4C9B-86BF-277594F19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5FBF-4923-4D20-B5D5-8A8392313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E849-F313-438F-B189-64C83F4FC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gothic"/>
              </a:rPr>
              <a:t>Can be any appearance model/object detector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gothic"/>
              </a:rPr>
              <a:t>Because it’s discriminative, can use 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gothic"/>
              </a:rPr>
              <a:t>OLD: contrast generative likelihoods (I tell you where the ball is, you draw me a photo-realistic picture containing Simon, the background, and the ball in the specified location) vs discriminative features (I give you a picture of Simon bouncing the ball, or possibly the whole video of the ball, and you give me a guess as to where the ball might b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gothic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C121-05C6-4E98-AAEE-28844344F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gothic"/>
              </a:rPr>
              <a:t>features need not make predictions about all dimensions/parts of the state (just make the corresponding precision value 0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gothic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5826240" y="3129120"/>
            <a:ext cx="1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D488-313E-4BBB-82B9-76AD5F22B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 switching is based on “switch potential” side information (e.g. observation model error) and “consistency” how many fe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N W3"/>
              </a:rPr>
              <a:t>_x0005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ures ag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rence via alternating sampling:  State sequence given switches is just a LDS (like Kalman filter), and switches given state sequence are independent binary RV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, of the feature weights, using contrastive divergence for approximate gradient d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4B65-FE11-4E07-B250-276C4C8A1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718F-536A-4E44-BF8B-77B9C7B61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gothic"/>
              </a:rPr>
              <a:t>runs at 10 fps on my old lap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051C-0DB1-42DE-9E80-8CA884105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”S BEING DISPLAY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&amp; yellow dots -- most likely locations of the ball as determined by observation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se are very noi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dots indicate inferred location given by our model (with a trail of the last 10 fra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ze of circle indicates uncertainty in location estimate.  It gets bigger when it loses tr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4CB1-931A-4C6B-8BF6-6FE297D85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C83F-67E5-487A-A9E7-922F3609E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to now, we have considered only the ability to track a single rigid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is serves as a key basic operation, in practice most interesting objects are not rig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are available for humans, but not for other cr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380F-202A-495C-9664-9E4065957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A383-F204-441D-B8CD-97975A378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* description goes here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s 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N W3"/>
              </a:rPr>
              <a:t>_x0004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t using 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learned by starting with a fully-disconnected model and adding joints between sticks (while resampling group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3201-6DE6-42C0-AD34-ADA59D7AC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Vision: (is the challenge of ) creating p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N W3"/>
              </a:rPr>
              <a:t>_x0005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grams that produce semantic representations from visual/sensory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N W3"/>
              </a:rPr>
              <a:t>_x0004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CV has received intense interest over the past few decades, in the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have trouble extending to the full spectrum of variability, in lighting, pose, and occlusion, that we cope with every da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reliance on this model, doesn’t easily extend to non-human animals for which such a model has not yet been bu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thesis, we’re going to explore 3 specific examples of how machine learning can be used automate the construction of models for visual motion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BFF5-76B6-46C9-82E8-469D9AE09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079F-9CBB-4F9A-8796-E0EAA090E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F909-3333-4152-801A-F139BFADC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D928-81F9-434F-8D1F-C3185D81E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8D65-046B-47CE-8B5C-4BEFFCEEB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B711-5E1D-465E-8F87-76F2D136A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N W3"/>
              </a:rPr>
              <a:t>_x0004__x0004__x0004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ch learning, data must be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8F52-85BE-423C-AD0B-13F74AA3D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N W3"/>
              </a:rPr>
              <a:t>_x0005__x0004_- _x0005_Our idea here, instead of fitting a PCA appearance model offline_x0005_, is to  …_x0001_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N W3"/>
              </a:rPr>
              <a:t>_x0005_This eliminates the need for a training set, allowing the tracker to be applied to targets for which we do not have a collection of images a priori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N W3"/>
              </a:rPr>
              <a:t>allows the the tracker to adapt to changes in the appearance of the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ch update requires storage 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N W3"/>
              </a:rPr>
              <a:t>_x0005_and process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ll appearances seen s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gorithm will get slower &amp; slower as the length of the video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result as batch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er than competitors , Requires only the current basis and new images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N W3"/>
              </a:rPr>
              <a:t>_x0001__x0001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7700-B735-4A5C-93FA-70BE806FF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F3A3-B09A-49DE-9202-02C9D3976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is competitive with other popular tracking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7DF0-2A19-4FBF-AAF8-627A3A5AF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73C0-3705-4FEB-841E-1CF5BFE5B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ntionally this selection is made manually by the experim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Furthermore, (to deal with the fact that any feature you include will eventually fail) during runtime our model switches features on or off, depending on their inferred relevance, allowing for a more flexible tradeoff between the expected dynamics of the target and the information provided by the observ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E964-E694-41B3-A725-A37BC8DB4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To do this, we developed a new discriminative conditional learning 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Instead of using a distribution based on a carefully crafted likelihood and a weak prior, we're going to build a model from a potentially large number of features that describe both the possible dynamics of the target, and how the state can be estimated from the observation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other ex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- robot localization: determining the true position of a robot based on various sources of information (odometry, visial featues, auditory cues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C20A-6AA5-4874-A871-236423F7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9B40-5ADF-468B-81EC-B084949E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1524-294A-452F-A699-93B9CEED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AB4F-E339-4F00-9488-99AFA400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951D-8538-4A23-8208-3CA23083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7DF-0EBA-4C94-86C5-085C1F96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64D8-2703-4532-B97B-FB3149DB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1AC1-4737-44E3-B1CE-48D4BE43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72E7-A25F-447D-913A-AC46B1F8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3759-802E-40CA-BA98-E0D1426A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9F18-6170-4047-839D-31687249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6C3-0E8E-4BB1-B1CE-560B5D8A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43C0-1671-42E2-9991-1132F90A5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earning Probabilistic Models for Visual Mo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id Ro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.D. 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23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Discriminative Featur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2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Dynamics featur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2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well do two states mat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2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GB" sz="2400" spc="-1" strike="noStrike">
                <a:solidFill>
                  <a:srgbClr val="000000"/>
                </a:solidFill>
                <a:latin typeface="ヒラギノ角ゴ ProN W3"/>
              </a:rPr>
              <a:t>_x0005_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ar dynamical models (fly, hold, roll, bou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2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Observation featur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2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 target a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GB" sz="2400" spc="-1" strike="noStrike" baseline="-20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2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include information from the                    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tire observation</a:t>
            </a:r>
            <a:r>
              <a:rPr b="0" lang="en-GB" sz="2400" spc="-1" strike="noStrike">
                <a:solidFill>
                  <a:srgbClr val="ff0000"/>
                </a:solidFill>
                <a:latin typeface="ヒラギノ角ゴ ProN W3"/>
              </a:rPr>
              <a:t>_x0005_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2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CA, templates, background sub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2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ustify by </a:t>
            </a: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switching featur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n and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2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dden switch vari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6060960" y="3276720"/>
            <a:ext cx="194004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6191280" y="5791320"/>
            <a:ext cx="1886040" cy="446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3"/>
          <a:stretch/>
        </p:blipFill>
        <p:spPr>
          <a:xfrm>
            <a:off x="6289560" y="1868400"/>
            <a:ext cx="1711440" cy="3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Features &amp; Switch Potential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4000" y="1906560"/>
            <a:ext cx="8312040" cy="20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ighted distance between state and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17480" y="2425680"/>
            <a:ext cx="7709040" cy="706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1039680" y="3220920"/>
            <a:ext cx="7191360" cy="708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4726080" y="4091040"/>
            <a:ext cx="351288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595440" y="4846680"/>
            <a:ext cx="78073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2040" indent="-293760">
              <a:lnSpc>
                <a:spcPct val="102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2500" spc="-1" strike="noStrike">
                <a:solidFill>
                  <a:srgbClr val="000080"/>
                </a:solidFill>
                <a:latin typeface="Arial"/>
                <a:ea typeface="msgothic"/>
              </a:rPr>
              <a:t>Switch Potentials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msgothic"/>
              </a:rPr>
              <a:t>: extra features help decide if switches should be on or of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2040" indent="-293760">
              <a:lnSpc>
                <a:spcPct val="102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msgothic"/>
              </a:rPr>
              <a:t>Any classifier (logistic / softmax regressio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Probability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0480" y="1935000"/>
            <a:ext cx="78091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673200" y="1832040"/>
            <a:ext cx="7770600" cy="968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5778360" y="2906640"/>
            <a:ext cx="2546640" cy="839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5792760" y="3735360"/>
            <a:ext cx="2739960" cy="968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255600" y="2867040"/>
            <a:ext cx="5300640" cy="35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Features Used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from one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from K-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A, 3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cal background 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Linear dynamics (fly, hol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ce:ground, bounce:wa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668920" y="2276640"/>
            <a:ext cx="2745000" cy="54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6827760" y="2925720"/>
            <a:ext cx="1586160" cy="528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7824960" y="159372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4"/>
          <a:stretch/>
        </p:blipFill>
        <p:spPr>
          <a:xfrm>
            <a:off x="7010280" y="3489480"/>
            <a:ext cx="1403640" cy="160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Tracking Performanc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719280" y="1568520"/>
            <a:ext cx="3592440" cy="2396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719280" y="4087800"/>
            <a:ext cx="3592440" cy="2394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>
            <a:off x="4708440" y="1568520"/>
            <a:ext cx="3592440" cy="2394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4975200" y="4141800"/>
            <a:ext cx="296532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89640" y="4262400"/>
            <a:ext cx="39830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2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xpected ball position (last 10 fra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2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servation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2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witche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2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witched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Macintosh HD:Users:dross:research:phd_thesis:talk:simon_60fps_hires.mov" descr="/Users/dross/research/phd_thesis/talk/simon_60fps_hires.mov"/>
          <p:cNvPicPr/>
          <p:nvPr/>
        </p:nvPicPr>
        <p:blipFill>
          <a:blip r:embed="rId1"/>
          <a:stretch/>
        </p:blipFill>
        <p:spPr>
          <a:xfrm>
            <a:off x="838080" y="91440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9933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Macintosh HD:Users:dross:research:phd_thesis:talk:newfeatures_mov028_30fps_hires.mov" descr="/Users/dross/research/phd_thesis/talk/newfeatures_mov028_30fps_hires.mov"/>
          <p:cNvPicPr/>
          <p:nvPr/>
        </p:nvPicPr>
        <p:blipFill>
          <a:blip r:embed="rId1"/>
          <a:stretch/>
        </p:blipFill>
        <p:spPr>
          <a:xfrm>
            <a:off x="762120" y="946080"/>
            <a:ext cx="77724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65866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. Learning Articulated Structure &amp; Mo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teresting objects are non-rig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s better-described as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articulated figures - rigid parts connected by j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higher-leve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 locations of occluded body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angles” between parts better representation for describing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: parsing articulated motion typically requires a detailed hand-built physical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obabilistic Stick Figur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rely-unsupervised recovery of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3D articulated stru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p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2D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model for stick fig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from fully-disconnected structure (SF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parame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5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s using EM, resampl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ally merge joints to greedily optimize data log-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selection by locating maximum in objecti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annotated_noaxis_10"/>
          <p:cNvPicPr/>
          <p:nvPr/>
        </p:nvPicPr>
        <p:blipFill>
          <a:blip r:embed="rId1"/>
          <a:stretch/>
        </p:blipFill>
        <p:spPr>
          <a:xfrm>
            <a:off x="6553080" y="3962520"/>
            <a:ext cx="1852560" cy="2435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giraffe with points"/>
          <p:cNvPicPr/>
          <p:nvPr/>
        </p:nvPicPr>
        <p:blipFill>
          <a:blip r:embed="rId2"/>
          <a:stretch/>
        </p:blipFill>
        <p:spPr>
          <a:xfrm>
            <a:off x="6629400" y="1523880"/>
            <a:ext cx="15922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obabilistic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6" name="Picture 4" descr="reconstruction"/>
          <p:cNvPicPr/>
          <p:nvPr/>
        </p:nvPicPr>
        <p:blipFill>
          <a:blip r:embed="rId1"/>
          <a:stretch/>
        </p:blipFill>
        <p:spPr>
          <a:xfrm>
            <a:off x="1371600" y="2057400"/>
            <a:ext cx="60199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earning for Motion Analysi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of the art: human ability is rivaled only in narrow domains, by carefully engineere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5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ing a face in video: difficulty with changes in lighting, pose, &amp; oc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ing 3D pose 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N W3"/>
              </a:rPr>
              <a:t>_x0005_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N W3"/>
              </a:rPr>
              <a:t>_x0005_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uman:  usually requires detailed kinematic model of human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nual construction limits flexibility &amp; coverage of vis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Machine le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methods: 2 address training of vi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5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l trackers, 1 analysis of non-rigid articulated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Macintosh HD:Users:dross:research:phd_thesis:talk:giraffe only.mov" descr="/Users/dross/research/phd_thesis/talk/giraffe only.mov"/>
          <p:cNvPicPr/>
          <p:nvPr/>
        </p:nvPicPr>
        <p:blipFill>
          <a:blip r:embed="rId1"/>
          <a:stretch/>
        </p:blipFill>
        <p:spPr>
          <a:xfrm>
            <a:off x="507960" y="380880"/>
            <a:ext cx="81295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36243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Macintosh HD:Users:dross:research:phd_thesis:talk:2d human only.mov" descr="/Users/dross/research/phd_thesis/talk/2d human only.mov"/>
          <p:cNvPicPr/>
          <p:nvPr/>
        </p:nvPicPr>
        <p:blipFill>
          <a:blip r:embed="rId1"/>
          <a:stretch/>
        </p:blipFill>
        <p:spPr>
          <a:xfrm>
            <a:off x="507960" y="380880"/>
            <a:ext cx="81295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4357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tribut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ly recover 3D structure from 2D, handling structured oc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licit objectiv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sticks competitors"/>
          <p:cNvPicPr/>
          <p:nvPr/>
        </p:nvPicPr>
        <p:blipFill>
          <a:blip r:embed="rId1"/>
          <a:stretch/>
        </p:blipFill>
        <p:spPr>
          <a:xfrm>
            <a:off x="5486400" y="228600"/>
            <a:ext cx="3116160" cy="3753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sticks 2d human"/>
          <p:cNvPicPr/>
          <p:nvPr/>
        </p:nvPicPr>
        <p:blipFill>
          <a:blip r:embed="rId2"/>
          <a:stretch/>
        </p:blipFill>
        <p:spPr>
          <a:xfrm>
            <a:off x="5410080" y="4038480"/>
            <a:ext cx="31752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uture Direction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Incremental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ify to uncertainty in position &amp; loss of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Combining Discriminative Fea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from partially-label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Articulate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N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5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grate tracking of feature points, knowledge of structure can solve oc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roader go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角ゴ ProN W3"/>
              </a:rPr>
              <a:t>_x0004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that improves with amount of data and # of machines, End-to-end le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al Learning for Visual Trac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g-Hsuan Yang, Jongwoo Lim, Ruei-sung 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ing Discriminativ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5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on Osindero, Rich Zem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culated Structure &amp;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ny Tarlow, Rich Zem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. Incremental Learning for Visual Track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ing requires models of appearance &amp;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l Components Analysis (PCA) aka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Eigen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Drawbac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quires training data, can’t adapt to appearanc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sylvester_eigs_horizontal"/>
          <p:cNvPicPr/>
          <p:nvPr/>
        </p:nvPicPr>
        <p:blipFill>
          <a:blip r:embed="rId1"/>
          <a:stretch/>
        </p:blipFill>
        <p:spPr>
          <a:xfrm>
            <a:off x="5334120" y="4181400"/>
            <a:ext cx="3429000" cy="695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sylvester_data_small"/>
          <p:cNvPicPr/>
          <p:nvPr/>
        </p:nvPicPr>
        <p:blipFill>
          <a:blip r:embed="rId2"/>
          <a:stretch/>
        </p:blipFill>
        <p:spPr>
          <a:xfrm>
            <a:off x="685800" y="3986280"/>
            <a:ext cx="3200400" cy="1271520"/>
          </a:xfrm>
          <a:prstGeom prst="rect">
            <a:avLst/>
          </a:prstGeom>
          <a:ln w="0">
            <a:noFill/>
          </a:ln>
        </p:spPr>
      </p:pic>
      <p:sp>
        <p:nvSpPr>
          <p:cNvPr id="56" name="Line 8"/>
          <p:cNvSpPr/>
          <p:nvPr/>
        </p:nvSpPr>
        <p:spPr>
          <a:xfrm>
            <a:off x="4114800" y="4572000"/>
            <a:ext cx="91440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193640" y="40384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cremental PCA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ally learn PCA model online, from appearances obtained during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ïve batch fitting via SVD does no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algorithm for incremental upd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: constant 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5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updates, constant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: same result as batch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ly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5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dates subspac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getting Factor” places more emphasis on recent appearances, improves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ivt_davidin_still"/>
          <p:cNvPicPr/>
          <p:nvPr/>
        </p:nvPicPr>
        <p:blipFill>
          <a:blip r:embed="rId1"/>
          <a:stretch/>
        </p:blipFill>
        <p:spPr>
          <a:xfrm>
            <a:off x="2355840" y="755640"/>
            <a:ext cx="4432320" cy="5346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7391520" y="2286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4920" y="31240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ed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28600" y="45720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ed Basis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315200" y="10666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ed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6781680" y="3048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 flipH="1">
            <a:off x="4343040" y="1523880"/>
            <a:ext cx="2895480" cy="2286000"/>
          </a:xfrm>
          <a:prstGeom prst="line">
            <a:avLst/>
          </a:prstGeom>
          <a:ln w="66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 flipH="1">
            <a:off x="5029200" y="2438280"/>
            <a:ext cx="2286000" cy="1447920"/>
          </a:xfrm>
          <a:prstGeom prst="line">
            <a:avLst/>
          </a:prstGeom>
          <a:ln w="66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3"/>
          <p:cNvSpPr/>
          <p:nvPr/>
        </p:nvSpPr>
        <p:spPr>
          <a:xfrm flipH="1">
            <a:off x="5943600" y="3352680"/>
            <a:ext cx="838080" cy="457200"/>
          </a:xfrm>
          <a:prstGeom prst="line">
            <a:avLst/>
          </a:prstGeom>
          <a:ln w="66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4"/>
          <p:cNvSpPr/>
          <p:nvPr/>
        </p:nvSpPr>
        <p:spPr>
          <a:xfrm>
            <a:off x="1676520" y="3429000"/>
            <a:ext cx="1295280" cy="685800"/>
          </a:xfrm>
          <a:prstGeom prst="line">
            <a:avLst/>
          </a:prstGeom>
          <a:ln w="66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5"/>
          <p:cNvSpPr/>
          <p:nvPr/>
        </p:nvSpPr>
        <p:spPr>
          <a:xfrm>
            <a:off x="1676520" y="5105520"/>
            <a:ext cx="990360" cy="0"/>
          </a:xfrm>
          <a:prstGeom prst="line">
            <a:avLst/>
          </a:prstGeom>
          <a:ln w="6660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Macintosh HD:Users:dross:research:phd_thesis:talk:davidin300_15fps.mov" descr="/Users/dross/research/phd_thesis/talk/davidin300_15fps.mov"/>
          <p:cNvPicPr/>
          <p:nvPr/>
        </p:nvPicPr>
        <p:blipFill>
          <a:blip r:embed="rId1"/>
          <a:stretch/>
        </p:blipFill>
        <p:spPr>
          <a:xfrm>
            <a:off x="2589120" y="912960"/>
            <a:ext cx="396252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66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Macintosh HD:Users:dross:research:phd_thesis:talk:comparison_dudek_small_30fps.mov" descr="/Users/dross/research/phd_thesis/talk/comparison_dudek_small_30fps.mov"/>
          <p:cNvPicPr/>
          <p:nvPr/>
        </p:nvPicPr>
        <p:blipFill>
          <a:blip r:embed="rId1"/>
          <a:stretch/>
        </p:blipFill>
        <p:spPr>
          <a:xfrm>
            <a:off x="609480" y="838080"/>
            <a:ext cx="7925040" cy="528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8166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2. Combining Discriminative Featur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:  Learn P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N W3"/>
              </a:rPr>
              <a:t>_x0004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 the only appearance                                                            model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new tracking task, how                                  to select most-appropriate                              appearance &amp; dynamics mode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Data driven appro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earn selection of models + parameters from labeled video sequ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Flexible Comb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ggregate tracker more reliable than constitu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001"/>
          <p:cNvPicPr/>
          <p:nvPr/>
        </p:nvPicPr>
        <p:blipFill>
          <a:blip r:embed="rId1"/>
          <a:stretch/>
        </p:blipFill>
        <p:spPr>
          <a:xfrm>
            <a:off x="5715000" y="2057400"/>
            <a:ext cx="32274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Discriminative Conditional Mode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38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 Pr(state|observations) as a (log-linear) combination of dynamics &amp; appearanc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le on”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any features that might be relev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which are useful via learned we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witch features on and off dynam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02:58:13Z</dcterms:created>
  <dc:creator>David Ross</dc:creator>
  <dc:description/>
  <dc:language>en-US</dc:language>
  <cp:lastModifiedBy>David Ross</cp:lastModifiedBy>
  <dcterms:modified xsi:type="dcterms:W3CDTF">2008-08-09T01:38:32Z</dcterms:modified>
  <cp:revision>68</cp:revision>
  <dc:subject/>
  <dc:title>Learning Probabilistic Models for Visual Motion</dc:title>
</cp:coreProperties>
</file>