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0B20-D795-4645-80EF-49EE8A5A9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6397-0CD8-4BA0-A515-587E075F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DABA-FB12-4888-B375-BB96D3C75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EBB6-DB58-405A-9D19-9A1FB4483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0258-BE87-46B8-9F9D-880570ED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32F6-8472-4A09-84E5-9FA5EDFA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D952-35E3-43E7-AEE1-57A2F10E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68EB-C2B8-42A0-AB1F-F2C5C234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631D-4781-4674-BAF9-E9DD974D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F8A8-DE47-4973-AFDA-7D4FD6AD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5598-CBFF-4383-A9B2-5549F983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FAC7-8FDC-4F1E-AD43-C3BC205F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6F89-C1DF-497F-8259-5E51EDCA5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utsc.utoronto.ca/" TargetMode="External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.wmf"/><Relationship Id="rId17" Type="http://schemas.openxmlformats.org/officeDocument/2006/relationships/image" Target="../media/image1.wmf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.wmf"/><Relationship Id="rId17" Type="http://schemas.openxmlformats.org/officeDocument/2006/relationships/image" Target="../media/image1.wmf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4560" y="1740960"/>
            <a:ext cx="811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tocols and HTTP,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Web Browsers and Servers,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aching, DN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17680" y="4314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rst some background on network-based applications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236D-37F1-4A59-A3E9-8DA7739D066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"/>
          <p:cNvGrpSpPr/>
          <p:nvPr/>
        </p:nvGrpSpPr>
        <p:grpSpPr>
          <a:xfrm>
            <a:off x="1434960" y="1090440"/>
            <a:ext cx="1216080" cy="1006560"/>
            <a:chOff x="1434960" y="1090440"/>
            <a:chExt cx="1216080" cy="1006560"/>
          </a:xfrm>
        </p:grpSpPr>
        <p:grpSp>
          <p:nvGrpSpPr>
            <p:cNvPr id="730" name=""/>
            <p:cNvGrpSpPr/>
            <p:nvPr/>
          </p:nvGrpSpPr>
          <p:grpSpPr>
            <a:xfrm>
              <a:off x="1434960" y="1090440"/>
              <a:ext cx="1216080" cy="1006560"/>
              <a:chOff x="1434960" y="1090440"/>
              <a:chExt cx="1216080" cy="1006560"/>
            </a:xfrm>
          </p:grpSpPr>
          <p:pic>
            <p:nvPicPr>
              <p:cNvPr id="73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34960" y="1090440"/>
                <a:ext cx="1216080" cy="100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92000" y="1209240"/>
                <a:ext cx="514080" cy="432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33" name=""/>
            <p:cNvSpPr/>
            <p:nvPr/>
          </p:nvSpPr>
          <p:spPr>
            <a:xfrm>
              <a:off x="1508760" y="1238040"/>
              <a:ext cx="763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Host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2735280" y="3517920"/>
            <a:ext cx="3424320" cy="2421000"/>
          </a:xfrm>
          <a:prstGeom prst="roundRect">
            <a:avLst>
              <a:gd name="adj" fmla="val 12426"/>
            </a:avLst>
          </a:prstGeom>
          <a:solidFill>
            <a:srgbClr val="cc99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844720" y="4280040"/>
            <a:ext cx="3206880" cy="1568160"/>
          </a:xfrm>
          <a:prstGeom prst="roundRect">
            <a:avLst>
              <a:gd name="adj" fmla="val 16667"/>
            </a:avLst>
          </a:prstGeom>
          <a:solidFill>
            <a:srgbClr val="ff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921040" y="5041800"/>
            <a:ext cx="3036960" cy="709560"/>
          </a:xfrm>
          <a:prstGeom prst="roundRect">
            <a:avLst>
              <a:gd name="adj" fmla="val 16667"/>
            </a:avLst>
          </a:pr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976400" y="1996920"/>
            <a:ext cx="11160" cy="37544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6480000" y="1100160"/>
            <a:ext cx="1216080" cy="1006560"/>
            <a:chOff x="6480000" y="1100160"/>
            <a:chExt cx="1216080" cy="1006560"/>
          </a:xfrm>
        </p:grpSpPr>
        <p:grpSp>
          <p:nvGrpSpPr>
            <p:cNvPr id="739" name=""/>
            <p:cNvGrpSpPr/>
            <p:nvPr/>
          </p:nvGrpSpPr>
          <p:grpSpPr>
            <a:xfrm>
              <a:off x="6480000" y="1100160"/>
              <a:ext cx="1216080" cy="1006560"/>
              <a:chOff x="6480000" y="1100160"/>
              <a:chExt cx="1216080" cy="1006560"/>
            </a:xfrm>
          </p:grpSpPr>
          <p:pic>
            <p:nvPicPr>
              <p:cNvPr id="74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480000" y="1100160"/>
                <a:ext cx="1216080" cy="100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737040" y="1218960"/>
                <a:ext cx="514080" cy="432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42" name=""/>
            <p:cNvSpPr/>
            <p:nvPr/>
          </p:nvSpPr>
          <p:spPr>
            <a:xfrm>
              <a:off x="6546600" y="1247760"/>
              <a:ext cx="760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Host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 flipV="1">
            <a:off x="6983280" y="2013120"/>
            <a:ext cx="0" cy="37382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295960" y="4192560"/>
            <a:ext cx="0" cy="11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598920" y="4184640"/>
            <a:ext cx="0" cy="11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934320" y="2577960"/>
            <a:ext cx="0" cy="280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924200" y="2643120"/>
            <a:ext cx="0" cy="280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970800" y="3492360"/>
            <a:ext cx="853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u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381400" y="2451240"/>
            <a:ext cx="40258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457360" y="3213000"/>
            <a:ext cx="40258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470320" y="4051440"/>
            <a:ext cx="5205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210200" y="4051440"/>
            <a:ext cx="5205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835600" y="4051440"/>
            <a:ext cx="5209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470320" y="4813200"/>
            <a:ext cx="5205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210200" y="4813200"/>
            <a:ext cx="5205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835600" y="4813200"/>
            <a:ext cx="5209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495520" y="5499000"/>
            <a:ext cx="520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222800" y="5499000"/>
            <a:ext cx="520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880240" y="5499000"/>
            <a:ext cx="520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501680" y="5216400"/>
            <a:ext cx="15912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ate raw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to media – l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electrical/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l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7524000" y="4487760"/>
            <a:ext cx="1452600" cy="705600"/>
            <a:chOff x="7524000" y="4487760"/>
            <a:chExt cx="1452600" cy="705600"/>
          </a:xfrm>
        </p:grpSpPr>
        <p:sp>
          <p:nvSpPr>
            <p:cNvPr id="762" name=""/>
            <p:cNvSpPr/>
            <p:nvPr/>
          </p:nvSpPr>
          <p:spPr>
            <a:xfrm>
              <a:off x="7525080" y="4487760"/>
              <a:ext cx="1310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aming, err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524000" y="4678200"/>
              <a:ext cx="145260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covery, med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7525080" y="3693960"/>
            <a:ext cx="1422000" cy="683280"/>
            <a:chOff x="7525080" y="3693960"/>
            <a:chExt cx="1422000" cy="683280"/>
          </a:xfrm>
        </p:grpSpPr>
        <p:sp>
          <p:nvSpPr>
            <p:cNvPr id="765" name=""/>
            <p:cNvSpPr/>
            <p:nvPr/>
          </p:nvSpPr>
          <p:spPr>
            <a:xfrm>
              <a:off x="7527240" y="3693960"/>
              <a:ext cx="84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ing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526520" y="3884760"/>
              <a:ext cx="1152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low-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525080" y="4075200"/>
              <a:ext cx="1422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gestion-cnt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163440" y="2197080"/>
            <a:ext cx="12128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, FTP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net,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959760" y="3835440"/>
            <a:ext cx="350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05000" y="3073320"/>
            <a:ext cx="961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P/UD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333440" y="2287440"/>
            <a:ext cx="1206720" cy="36828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333440" y="3049560"/>
            <a:ext cx="1206720" cy="368280"/>
          </a:xfrm>
          <a:prstGeom prst="rect">
            <a:avLst/>
          </a:prstGeom>
          <a:solidFill>
            <a:srgbClr val="00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333440" y="3811680"/>
            <a:ext cx="1206720" cy="36828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320840" y="4573440"/>
            <a:ext cx="1206360" cy="368280"/>
          </a:xfrm>
          <a:prstGeom prst="rect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333440" y="5259240"/>
            <a:ext cx="1206720" cy="3682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343560" y="2298600"/>
            <a:ext cx="1206720" cy="36828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343560" y="3060720"/>
            <a:ext cx="1206720" cy="368280"/>
          </a:xfrm>
          <a:prstGeom prst="rect">
            <a:avLst/>
          </a:prstGeom>
          <a:solidFill>
            <a:srgbClr val="00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343560" y="3822840"/>
            <a:ext cx="1206720" cy="36828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330960" y="4584600"/>
            <a:ext cx="1206360" cy="368280"/>
          </a:xfrm>
          <a:prstGeom prst="rect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343560" y="5270400"/>
            <a:ext cx="1206720" cy="3682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551720" y="3021120"/>
            <a:ext cx="15368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iable, effic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user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978280" y="4584600"/>
            <a:ext cx="1206360" cy="368280"/>
          </a:xfrm>
          <a:prstGeom prst="rect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990880" y="5270400"/>
            <a:ext cx="1206360" cy="3682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654440" y="4584600"/>
            <a:ext cx="1206720" cy="368280"/>
          </a:xfrm>
          <a:prstGeom prst="rect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667400" y="5270400"/>
            <a:ext cx="1206360" cy="3682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9600" y="4510080"/>
            <a:ext cx="1386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hernet, PPP, 802.11, FD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49760" y="5305320"/>
            <a:ext cx="1240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NET, DS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975480" y="4273560"/>
            <a:ext cx="8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id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586640" y="2111400"/>
            <a:ext cx="1535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 service across abstract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927240" y="501480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03040" y="1747800"/>
            <a:ext cx="11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Protoc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631280" y="1741320"/>
            <a:ext cx="11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Protocol Stac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160800" y="2879640"/>
            <a:ext cx="331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dered byte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747880" y="2117880"/>
            <a:ext cx="342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d/write from/to so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87560" y="5751360"/>
            <a:ext cx="167004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264280" y="5753160"/>
            <a:ext cx="1746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3657600" y="3746520"/>
            <a:ext cx="0" cy="203040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5245200" y="3746520"/>
            <a:ext cx="0" cy="20318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657600" y="3732120"/>
            <a:ext cx="1612800" cy="1440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990880" y="3822840"/>
            <a:ext cx="1206360" cy="36828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667400" y="3822840"/>
            <a:ext cx="1206360" cy="36828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BF88-4CBD-4F69-91DB-CB9885CDDB6D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2686680" y="412920"/>
            <a:ext cx="381384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Encaps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075440" y="1566720"/>
            <a:ext cx="1359000" cy="44460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417840" y="4309920"/>
            <a:ext cx="1206720" cy="444600"/>
          </a:xfrm>
          <a:prstGeom prst="rect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hernet 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637160" y="3395520"/>
            <a:ext cx="1206360" cy="44460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 data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856120" y="3395520"/>
            <a:ext cx="1206720" cy="444600"/>
          </a:xfrm>
          <a:prstGeom prst="rect">
            <a:avLst/>
          </a:prstGeom>
          <a:solidFill>
            <a:srgbClr val="00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P seg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075440" y="3395520"/>
            <a:ext cx="1359000" cy="44460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637160" y="4309920"/>
            <a:ext cx="1206360" cy="44460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 data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856120" y="4309920"/>
            <a:ext cx="1206720" cy="444600"/>
          </a:xfrm>
          <a:prstGeom prst="rect">
            <a:avLst/>
          </a:prstGeom>
          <a:solidFill>
            <a:srgbClr val="00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P seg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075440" y="4309920"/>
            <a:ext cx="1359000" cy="44460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70800" y="1546200"/>
            <a:ext cx="4736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(e.g. HTTP Web 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68640" y="2460600"/>
            <a:ext cx="3790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(e.g. TCP, UD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68280" y="3375000"/>
            <a:ext cx="2470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(e.g. 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69000" y="4289400"/>
            <a:ext cx="2775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(e.g. Ethern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8440560" y="202392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068960" y="202392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850000" y="293832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8440560" y="293832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8440560" y="385272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630680" y="385272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853240" y="2481120"/>
            <a:ext cx="1206360" cy="444600"/>
          </a:xfrm>
          <a:prstGeom prst="rect">
            <a:avLst/>
          </a:prstGeom>
          <a:solidFill>
            <a:srgbClr val="00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P seg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072200" y="2481120"/>
            <a:ext cx="1359000" cy="44460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76560" y="5208480"/>
            <a:ext cx="2028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SON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087640" y="5226120"/>
            <a:ext cx="1319040" cy="455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NET 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425760" y="5229360"/>
            <a:ext cx="1206720" cy="444240"/>
          </a:xfrm>
          <a:prstGeom prst="rect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hernet 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645080" y="5229360"/>
            <a:ext cx="1206360" cy="44424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 data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864400" y="5229360"/>
            <a:ext cx="1206360" cy="444240"/>
          </a:xfrm>
          <a:prstGeom prst="rect">
            <a:avLst/>
          </a:prstGeom>
          <a:solidFill>
            <a:srgbClr val="00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P seg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083360" y="5229360"/>
            <a:ext cx="1359000" cy="44424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416400" y="477216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8448840" y="479412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4AB5-2511-49BD-B626-B3426E4D96A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33" name=""/>
          <p:cNvSpPr/>
          <p:nvPr/>
        </p:nvSpPr>
        <p:spPr>
          <a:xfrm>
            <a:off x="546120" y="1238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tocol layering an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04960" y="1162080"/>
            <a:ext cx="777240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layer takes data from above a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s header information to create new data 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ses new data unit to layer be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2137320" y="3584520"/>
            <a:ext cx="1776600" cy="2022840"/>
            <a:chOff x="2137320" y="3584520"/>
            <a:chExt cx="1776600" cy="2022840"/>
          </a:xfrm>
        </p:grpSpPr>
        <p:grpSp>
          <p:nvGrpSpPr>
            <p:cNvPr id="836" name=""/>
            <p:cNvGrpSpPr/>
            <p:nvPr/>
          </p:nvGrpSpPr>
          <p:grpSpPr>
            <a:xfrm>
              <a:off x="2181240" y="3584520"/>
              <a:ext cx="1732680" cy="2009520"/>
              <a:chOff x="2181240" y="3584520"/>
              <a:chExt cx="1732680" cy="2009520"/>
            </a:xfrm>
          </p:grpSpPr>
          <p:sp>
            <p:nvSpPr>
              <p:cNvPr id="837" name=""/>
              <p:cNvSpPr/>
              <p:nvPr/>
            </p:nvSpPr>
            <p:spPr>
              <a:xfrm>
                <a:off x="2255400" y="3584520"/>
                <a:ext cx="1658520" cy="1926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2193480" y="3667680"/>
                <a:ext cx="1658520" cy="1926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V="1">
                <a:off x="2187360" y="4096440"/>
                <a:ext cx="1639800" cy="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V="1">
                <a:off x="2212200" y="4480200"/>
                <a:ext cx="16398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2212200" y="4825800"/>
                <a:ext cx="1639800" cy="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V="1">
                <a:off x="2181240" y="5203800"/>
                <a:ext cx="16398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3" name=""/>
            <p:cNvSpPr/>
            <p:nvPr/>
          </p:nvSpPr>
          <p:spPr>
            <a:xfrm>
              <a:off x="2137320" y="3684600"/>
              <a:ext cx="17640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4134600" y="3587760"/>
            <a:ext cx="1776600" cy="2022840"/>
            <a:chOff x="4134600" y="3587760"/>
            <a:chExt cx="1776600" cy="2022840"/>
          </a:xfrm>
        </p:grpSpPr>
        <p:grpSp>
          <p:nvGrpSpPr>
            <p:cNvPr id="845" name=""/>
            <p:cNvGrpSpPr/>
            <p:nvPr/>
          </p:nvGrpSpPr>
          <p:grpSpPr>
            <a:xfrm>
              <a:off x="4178520" y="3587760"/>
              <a:ext cx="1732680" cy="2009520"/>
              <a:chOff x="4178520" y="3587760"/>
              <a:chExt cx="1732680" cy="2009520"/>
            </a:xfrm>
          </p:grpSpPr>
          <p:sp>
            <p:nvSpPr>
              <p:cNvPr id="846" name=""/>
              <p:cNvSpPr/>
              <p:nvPr/>
            </p:nvSpPr>
            <p:spPr>
              <a:xfrm>
                <a:off x="4252680" y="3587760"/>
                <a:ext cx="1658520" cy="1926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190760" y="3670920"/>
                <a:ext cx="1658520" cy="1926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V="1">
                <a:off x="4184640" y="4099680"/>
                <a:ext cx="1639800" cy="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V="1">
                <a:off x="4209480" y="4483440"/>
                <a:ext cx="16398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V="1">
                <a:off x="4209480" y="4829040"/>
                <a:ext cx="1639800" cy="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V="1">
                <a:off x="4178520" y="5207040"/>
                <a:ext cx="16398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2" name=""/>
            <p:cNvSpPr/>
            <p:nvPr/>
          </p:nvSpPr>
          <p:spPr>
            <a:xfrm>
              <a:off x="4134600" y="3687840"/>
              <a:ext cx="17640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3" name=""/>
          <p:cNvSpPr/>
          <p:nvPr/>
        </p:nvSpPr>
        <p:spPr>
          <a:xfrm>
            <a:off x="2334240" y="308448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168440" y="314172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042920" y="3152880"/>
            <a:ext cx="5848560" cy="2828880"/>
          </a:xfrm>
          <a:custGeom>
            <a:avLst/>
            <a:gdLst/>
            <a:ahLst/>
            <a:rect l="l" t="t" r="r" b="b"/>
            <a:pathLst>
              <a:path w="4572" h="1752">
                <a:moveTo>
                  <a:pt x="0" y="264"/>
                </a:moveTo>
                <a:lnTo>
                  <a:pt x="0" y="1752"/>
                </a:lnTo>
                <a:lnTo>
                  <a:pt x="4572" y="1746"/>
                </a:lnTo>
                <a:lnTo>
                  <a:pt x="4572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504800" y="3719520"/>
            <a:ext cx="600120" cy="314280"/>
          </a:xfrm>
          <a:prstGeom prst="rect">
            <a:avLst/>
          </a:prstGeom>
          <a:solidFill>
            <a:srgbClr val="99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202520" y="3695760"/>
            <a:ext cx="600120" cy="314280"/>
          </a:xfrm>
          <a:prstGeom prst="rect">
            <a:avLst/>
          </a:prstGeom>
          <a:solidFill>
            <a:srgbClr val="99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668000" y="364644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75560" y="4046400"/>
            <a:ext cx="12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703640" y="4456080"/>
            <a:ext cx="13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at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722000" y="483228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558720" y="4100400"/>
            <a:ext cx="1563840" cy="1096920"/>
            <a:chOff x="558720" y="4100400"/>
            <a:chExt cx="1563840" cy="1096920"/>
          </a:xfrm>
        </p:grpSpPr>
        <p:sp>
          <p:nvSpPr>
            <p:cNvPr id="863" name=""/>
            <p:cNvSpPr/>
            <p:nvPr/>
          </p:nvSpPr>
          <p:spPr>
            <a:xfrm>
              <a:off x="1504800" y="4129200"/>
              <a:ext cx="600120" cy="314280"/>
            </a:xfrm>
            <a:prstGeom prst="rect">
              <a:avLst/>
            </a:prstGeom>
            <a:solidFill>
              <a:srgbClr val="99ff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522440" y="4513320"/>
              <a:ext cx="600120" cy="314280"/>
            </a:xfrm>
            <a:prstGeom prst="rect">
              <a:avLst/>
            </a:prstGeom>
            <a:solidFill>
              <a:srgbClr val="99ff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522440" y="4894200"/>
              <a:ext cx="600120" cy="303120"/>
            </a:xfrm>
            <a:prstGeom prst="rect">
              <a:avLst/>
            </a:prstGeom>
            <a:solidFill>
              <a:srgbClr val="99ff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1116000" y="4100400"/>
              <a:ext cx="487440" cy="407160"/>
              <a:chOff x="1116000" y="4100400"/>
              <a:chExt cx="487440" cy="407160"/>
            </a:xfrm>
          </p:grpSpPr>
          <p:sp>
            <p:nvSpPr>
              <p:cNvPr id="867" name=""/>
              <p:cNvSpPr/>
              <p:nvPr/>
            </p:nvSpPr>
            <p:spPr>
              <a:xfrm>
                <a:off x="1192320" y="4129200"/>
                <a:ext cx="3301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1116000" y="4100400"/>
                <a:ext cx="31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1306440" y="4170240"/>
                <a:ext cx="297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1114560" y="4484520"/>
              <a:ext cx="486720" cy="407160"/>
              <a:chOff x="1114560" y="4484520"/>
              <a:chExt cx="486720" cy="407160"/>
            </a:xfrm>
          </p:grpSpPr>
          <p:sp>
            <p:nvSpPr>
              <p:cNvPr id="871" name=""/>
              <p:cNvSpPr/>
              <p:nvPr/>
            </p:nvSpPr>
            <p:spPr>
              <a:xfrm>
                <a:off x="1190520" y="4513320"/>
                <a:ext cx="32976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1114560" y="4484520"/>
                <a:ext cx="3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1304640" y="45543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"/>
            <p:cNvGrpSpPr/>
            <p:nvPr/>
          </p:nvGrpSpPr>
          <p:grpSpPr>
            <a:xfrm>
              <a:off x="787320" y="4484520"/>
              <a:ext cx="487440" cy="407160"/>
              <a:chOff x="787320" y="4484520"/>
              <a:chExt cx="487440" cy="407160"/>
            </a:xfrm>
          </p:grpSpPr>
          <p:sp>
            <p:nvSpPr>
              <p:cNvPr id="875" name=""/>
              <p:cNvSpPr/>
              <p:nvPr/>
            </p:nvSpPr>
            <p:spPr>
              <a:xfrm>
                <a:off x="863640" y="4513320"/>
                <a:ext cx="33012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87320" y="4484520"/>
                <a:ext cx="31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977760" y="4554360"/>
                <a:ext cx="297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8" name=""/>
            <p:cNvSpPr/>
            <p:nvPr/>
          </p:nvSpPr>
          <p:spPr>
            <a:xfrm>
              <a:off x="1192320" y="4132440"/>
              <a:ext cx="32688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189080" y="4518000"/>
              <a:ext cx="32688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65080" y="4516560"/>
              <a:ext cx="327240" cy="3045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197000" y="4892760"/>
              <a:ext cx="32688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861840" y="4890960"/>
              <a:ext cx="327240" cy="3049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58720" y="4888080"/>
              <a:ext cx="306360" cy="30456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10000">
                  <a:solidFill>
                    <a:srgbClr val="000000"/>
                  </a:solidFill>
                  <a:latin typeface="Comic Sans MS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4" name=""/>
          <p:cNvSpPr/>
          <p:nvPr/>
        </p:nvSpPr>
        <p:spPr>
          <a:xfrm>
            <a:off x="1519200" y="5257800"/>
            <a:ext cx="600120" cy="303120"/>
          </a:xfrm>
          <a:prstGeom prst="rect">
            <a:avLst/>
          </a:prstGeom>
          <a:solidFill>
            <a:srgbClr val="99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193760" y="5256360"/>
            <a:ext cx="32724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858960" y="5265720"/>
            <a:ext cx="32688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55480" y="5262480"/>
            <a:ext cx="306360" cy="30492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10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52360" y="5259240"/>
            <a:ext cx="30636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10000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238880" y="5265720"/>
            <a:ext cx="600120" cy="303120"/>
          </a:xfrm>
          <a:prstGeom prst="rect">
            <a:avLst/>
          </a:prstGeom>
          <a:solidFill>
            <a:srgbClr val="99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913440" y="5264280"/>
            <a:ext cx="32724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578640" y="5262480"/>
            <a:ext cx="32688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275520" y="5259240"/>
            <a:ext cx="306360" cy="30492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10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972040" y="5256360"/>
            <a:ext cx="306360" cy="304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10000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6261120" y="4075200"/>
            <a:ext cx="1563840" cy="1096920"/>
            <a:chOff x="6261120" y="4075200"/>
            <a:chExt cx="1563840" cy="1096920"/>
          </a:xfrm>
        </p:grpSpPr>
        <p:sp>
          <p:nvSpPr>
            <p:cNvPr id="895" name=""/>
            <p:cNvSpPr/>
            <p:nvPr/>
          </p:nvSpPr>
          <p:spPr>
            <a:xfrm>
              <a:off x="7207200" y="4104000"/>
              <a:ext cx="600120" cy="314280"/>
            </a:xfrm>
            <a:prstGeom prst="rect">
              <a:avLst/>
            </a:prstGeom>
            <a:solidFill>
              <a:srgbClr val="99ff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224840" y="4488120"/>
              <a:ext cx="600120" cy="314280"/>
            </a:xfrm>
            <a:prstGeom prst="rect">
              <a:avLst/>
            </a:prstGeom>
            <a:solidFill>
              <a:srgbClr val="99ff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224840" y="4869000"/>
              <a:ext cx="600120" cy="303120"/>
            </a:xfrm>
            <a:prstGeom prst="rect">
              <a:avLst/>
            </a:prstGeom>
            <a:solidFill>
              <a:srgbClr val="99ff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8" name=""/>
            <p:cNvGrpSpPr/>
            <p:nvPr/>
          </p:nvGrpSpPr>
          <p:grpSpPr>
            <a:xfrm>
              <a:off x="6818400" y="4075200"/>
              <a:ext cx="487440" cy="407160"/>
              <a:chOff x="6818400" y="4075200"/>
              <a:chExt cx="487440" cy="407160"/>
            </a:xfrm>
          </p:grpSpPr>
          <p:sp>
            <p:nvSpPr>
              <p:cNvPr id="899" name=""/>
              <p:cNvSpPr/>
              <p:nvPr/>
            </p:nvSpPr>
            <p:spPr>
              <a:xfrm>
                <a:off x="6894720" y="4104000"/>
                <a:ext cx="3301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6818400" y="4075200"/>
                <a:ext cx="31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008840" y="4145040"/>
                <a:ext cx="297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6816960" y="4459320"/>
              <a:ext cx="486720" cy="407160"/>
              <a:chOff x="6816960" y="4459320"/>
              <a:chExt cx="486720" cy="407160"/>
            </a:xfrm>
          </p:grpSpPr>
          <p:sp>
            <p:nvSpPr>
              <p:cNvPr id="903" name=""/>
              <p:cNvSpPr/>
              <p:nvPr/>
            </p:nvSpPr>
            <p:spPr>
              <a:xfrm>
                <a:off x="6892920" y="4488120"/>
                <a:ext cx="32976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6816960" y="4459320"/>
                <a:ext cx="3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007040" y="4529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6" name=""/>
            <p:cNvGrpSpPr/>
            <p:nvPr/>
          </p:nvGrpSpPr>
          <p:grpSpPr>
            <a:xfrm>
              <a:off x="6489720" y="4459320"/>
              <a:ext cx="487440" cy="407160"/>
              <a:chOff x="6489720" y="4459320"/>
              <a:chExt cx="487440" cy="407160"/>
            </a:xfrm>
          </p:grpSpPr>
          <p:sp>
            <p:nvSpPr>
              <p:cNvPr id="907" name=""/>
              <p:cNvSpPr/>
              <p:nvPr/>
            </p:nvSpPr>
            <p:spPr>
              <a:xfrm>
                <a:off x="6566040" y="4488120"/>
                <a:ext cx="33012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6489720" y="4459320"/>
                <a:ext cx="31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6680160" y="4529160"/>
                <a:ext cx="297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0" name=""/>
            <p:cNvSpPr/>
            <p:nvPr/>
          </p:nvSpPr>
          <p:spPr>
            <a:xfrm>
              <a:off x="6894720" y="4107240"/>
              <a:ext cx="32688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891480" y="4492800"/>
              <a:ext cx="32688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567480" y="4491360"/>
              <a:ext cx="327240" cy="3045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899400" y="4867560"/>
              <a:ext cx="32688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564240" y="4865760"/>
              <a:ext cx="327240" cy="3049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261120" y="4862880"/>
              <a:ext cx="306360" cy="30456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10000">
                  <a:solidFill>
                    <a:srgbClr val="000000"/>
                  </a:solidFill>
                  <a:latin typeface="Comic Sans MS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" name=""/>
          <p:cNvSpPr/>
          <p:nvPr/>
        </p:nvSpPr>
        <p:spPr>
          <a:xfrm>
            <a:off x="7720920" y="521820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1EBC-9C3B-4A18-89EC-67A2CFDBEC5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800" y="-2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HTTP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15800" y="903240"/>
            <a:ext cx="826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yperText Transfer Protoc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ated by Tim Berners-Lee at C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ysicists, not Computer Scientis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are results from physics experi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ed 1989-199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ndardized and much expanded by the IET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des on top of TCP protoc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CP provides: reliable, bi-directional, in-order byte stre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: transfer objects between syste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not confuse with other WWW concept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 is not page layout language (that is HTML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 is not object naming scheme (that is URL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24CE-79E2-490D-815C-9769BB8338B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The Web: some jargon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440" y="1438200"/>
            <a:ext cx="380988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b pag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ists of “objects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ressed by a UR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st Web pages consist of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se HTML p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or more referenced objects such as im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RL has two components: </a:t>
            </a:r>
            <a:r>
              <a:rPr b="0" lang="en-US" sz="2400" spc="-1" strike="noStrike">
                <a:solidFill>
                  <a:srgbClr val="0099cc"/>
                </a:solidFill>
                <a:latin typeface="Comic Sans MS"/>
              </a:rPr>
              <a:t>host na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00cc66"/>
                </a:solidFill>
                <a:latin typeface="Comic Sans MS"/>
              </a:rPr>
              <a:t>path na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e.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848120" y="141912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r agent for Web is called a brows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S Internet Explor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scape Communica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rver for Web is called Web serv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ache (public domai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S Internet Information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2" name=""/>
          <p:cNvSpPr/>
          <p:nvPr/>
        </p:nvSpPr>
        <p:spPr>
          <a:xfrm>
            <a:off x="867240" y="5489640"/>
            <a:ext cx="74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Courier New"/>
              </a:rPr>
              <a:t>www.toronto.edu</a:t>
            </a:r>
            <a:r>
              <a:rPr b="1" lang="en-US" sz="2800" spc="-1" strike="noStrike">
                <a:solidFill>
                  <a:srgbClr val="00cc66"/>
                </a:solidFill>
                <a:latin typeface="Courier New"/>
              </a:rPr>
              <a:t>/depts/cs/pratt.jp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6649-BB24-49B8-AB02-56C44B96E683}" type="slidenum">
              <a:t>1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8276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The Web: HTTP protocol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28560" y="16318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HTTP: HyperText Transfer Protoc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b’s application layer protoc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/server mod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clien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rowser that requests, receives, “displays” Web objec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server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eb server sends objects in response to reques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1.0: RFC 194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1.1: RFC 206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"/>
          <p:cNvSpPr/>
          <p:nvPr/>
        </p:nvSpPr>
        <p:spPr>
          <a:xfrm>
            <a:off x="4665960" y="2422440"/>
            <a:ext cx="124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C ru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plor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609680" y="3759120"/>
            <a:ext cx="136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ache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776920" y="2166840"/>
            <a:ext cx="2052720" cy="928800"/>
          </a:xfrm>
          <a:prstGeom prst="line">
            <a:avLst/>
          </a:prstGeom>
          <a:ln w="2844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 flipV="1">
            <a:off x="5800320" y="2333520"/>
            <a:ext cx="1971720" cy="905040"/>
          </a:xfrm>
          <a:prstGeom prst="line">
            <a:avLst/>
          </a:prstGeom>
          <a:ln w="2844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739400" y="5173560"/>
            <a:ext cx="135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un ru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vig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rot="1422000">
            <a:off x="6117840" y="229392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HTTP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rot="1411200">
            <a:off x="5914440" y="2741400"/>
            <a:ext cx="161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HTT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2" name=""/>
          <p:cNvGraphicFramePr/>
          <p:nvPr/>
        </p:nvGraphicFramePr>
        <p:xfrm>
          <a:off x="7972560" y="2968560"/>
          <a:ext cx="601560" cy="75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2560" y="2968560"/>
                    <a:ext cx="60156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34" name=""/>
          <p:cNvGrpSpPr/>
          <p:nvPr/>
        </p:nvGrpSpPr>
        <p:grpSpPr>
          <a:xfrm>
            <a:off x="4875120" y="1803240"/>
            <a:ext cx="842760" cy="603000"/>
            <a:chOff x="4875120" y="1803240"/>
            <a:chExt cx="842760" cy="603000"/>
          </a:xfrm>
        </p:grpSpPr>
        <p:grpSp>
          <p:nvGrpSpPr>
            <p:cNvPr id="935" name=""/>
            <p:cNvGrpSpPr/>
            <p:nvPr/>
          </p:nvGrpSpPr>
          <p:grpSpPr>
            <a:xfrm>
              <a:off x="4875120" y="2252520"/>
              <a:ext cx="842760" cy="153720"/>
              <a:chOff x="4875120" y="2252520"/>
              <a:chExt cx="842760" cy="153720"/>
            </a:xfrm>
          </p:grpSpPr>
          <p:sp>
            <p:nvSpPr>
              <p:cNvPr id="936" name=""/>
              <p:cNvSpPr/>
              <p:nvPr/>
            </p:nvSpPr>
            <p:spPr>
              <a:xfrm>
                <a:off x="4875120" y="2252520"/>
                <a:ext cx="842760" cy="15372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66" y="0"/>
                    </a:moveTo>
                    <a:lnTo>
                      <a:pt x="466" y="0"/>
                    </a:lnTo>
                    <a:lnTo>
                      <a:pt x="529" y="87"/>
                    </a:lnTo>
                    <a:lnTo>
                      <a:pt x="530" y="91"/>
                    </a:lnTo>
                    <a:lnTo>
                      <a:pt x="528" y="95"/>
                    </a:lnTo>
                    <a:lnTo>
                      <a:pt x="524" y="96"/>
                    </a:lnTo>
                    <a:lnTo>
                      <a:pt x="8" y="96"/>
                    </a:lnTo>
                    <a:lnTo>
                      <a:pt x="3" y="94"/>
                    </a:lnTo>
                    <a:lnTo>
                      <a:pt x="0" y="90"/>
                    </a:lnTo>
                    <a:lnTo>
                      <a:pt x="1" y="85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4922640" y="2284200"/>
                <a:ext cx="560520" cy="98280"/>
              </a:xfrm>
              <a:custGeom>
                <a:avLst/>
                <a:gdLst/>
                <a:ahLst/>
                <a:rect l="l" t="t" r="r" b="b"/>
                <a:pathLst>
                  <a:path w="353" h="62">
                    <a:moveTo>
                      <a:pt x="47" y="0"/>
                    </a:moveTo>
                    <a:lnTo>
                      <a:pt x="335" y="0"/>
                    </a:lnTo>
                    <a:lnTo>
                      <a:pt x="352" y="61"/>
                    </a:lnTo>
                    <a:lnTo>
                      <a:pt x="0" y="6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499000" y="2284200"/>
                <a:ext cx="171360" cy="9828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0" y="0"/>
                    </a:moveTo>
                    <a:lnTo>
                      <a:pt x="63" y="0"/>
                    </a:lnTo>
                    <a:lnTo>
                      <a:pt x="107" y="61"/>
                    </a:lnTo>
                    <a:lnTo>
                      <a:pt x="20" y="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"/>
            <p:cNvGrpSpPr/>
            <p:nvPr/>
          </p:nvGrpSpPr>
          <p:grpSpPr>
            <a:xfrm>
              <a:off x="5019840" y="1803240"/>
              <a:ext cx="541080" cy="447480"/>
              <a:chOff x="5019840" y="1803240"/>
              <a:chExt cx="541080" cy="447480"/>
            </a:xfrm>
          </p:grpSpPr>
          <p:sp>
            <p:nvSpPr>
              <p:cNvPr id="940" name=""/>
              <p:cNvSpPr/>
              <p:nvPr/>
            </p:nvSpPr>
            <p:spPr>
              <a:xfrm>
                <a:off x="5019840" y="1803240"/>
                <a:ext cx="541080" cy="447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054400" y="1841400"/>
                <a:ext cx="469440" cy="37620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472000" y="1841400"/>
                <a:ext cx="50400" cy="376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489280" y="1861920"/>
                <a:ext cx="14040" cy="7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492520" y="2033280"/>
                <a:ext cx="6120" cy="6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492520" y="2104920"/>
                <a:ext cx="6120" cy="7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492520" y="2174760"/>
                <a:ext cx="6120" cy="4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7" name=""/>
            <p:cNvSpPr/>
            <p:nvPr/>
          </p:nvSpPr>
          <p:spPr>
            <a:xfrm>
              <a:off x="5067360" y="1828800"/>
              <a:ext cx="439560" cy="382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4959360" y="4556160"/>
            <a:ext cx="842760" cy="603000"/>
            <a:chOff x="4959360" y="4556160"/>
            <a:chExt cx="842760" cy="603000"/>
          </a:xfrm>
        </p:grpSpPr>
        <p:grpSp>
          <p:nvGrpSpPr>
            <p:cNvPr id="949" name=""/>
            <p:cNvGrpSpPr/>
            <p:nvPr/>
          </p:nvGrpSpPr>
          <p:grpSpPr>
            <a:xfrm>
              <a:off x="4959360" y="5005440"/>
              <a:ext cx="842760" cy="153720"/>
              <a:chOff x="4959360" y="5005440"/>
              <a:chExt cx="842760" cy="153720"/>
            </a:xfrm>
          </p:grpSpPr>
          <p:sp>
            <p:nvSpPr>
              <p:cNvPr id="950" name=""/>
              <p:cNvSpPr/>
              <p:nvPr/>
            </p:nvSpPr>
            <p:spPr>
              <a:xfrm>
                <a:off x="4959360" y="5005440"/>
                <a:ext cx="842760" cy="15372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66" y="0"/>
                    </a:moveTo>
                    <a:lnTo>
                      <a:pt x="466" y="0"/>
                    </a:lnTo>
                    <a:lnTo>
                      <a:pt x="529" y="87"/>
                    </a:lnTo>
                    <a:lnTo>
                      <a:pt x="530" y="91"/>
                    </a:lnTo>
                    <a:lnTo>
                      <a:pt x="528" y="95"/>
                    </a:lnTo>
                    <a:lnTo>
                      <a:pt x="524" y="96"/>
                    </a:lnTo>
                    <a:lnTo>
                      <a:pt x="8" y="96"/>
                    </a:lnTo>
                    <a:lnTo>
                      <a:pt x="3" y="94"/>
                    </a:lnTo>
                    <a:lnTo>
                      <a:pt x="0" y="90"/>
                    </a:lnTo>
                    <a:lnTo>
                      <a:pt x="1" y="85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006880" y="5037120"/>
                <a:ext cx="560520" cy="98280"/>
              </a:xfrm>
              <a:custGeom>
                <a:avLst/>
                <a:gdLst/>
                <a:ahLst/>
                <a:rect l="l" t="t" r="r" b="b"/>
                <a:pathLst>
                  <a:path w="353" h="62">
                    <a:moveTo>
                      <a:pt x="47" y="0"/>
                    </a:moveTo>
                    <a:lnTo>
                      <a:pt x="335" y="0"/>
                    </a:lnTo>
                    <a:lnTo>
                      <a:pt x="352" y="61"/>
                    </a:lnTo>
                    <a:lnTo>
                      <a:pt x="0" y="6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583240" y="5037120"/>
                <a:ext cx="171360" cy="9828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0" y="0"/>
                    </a:moveTo>
                    <a:lnTo>
                      <a:pt x="63" y="0"/>
                    </a:lnTo>
                    <a:lnTo>
                      <a:pt x="107" y="61"/>
                    </a:lnTo>
                    <a:lnTo>
                      <a:pt x="20" y="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3" name=""/>
            <p:cNvGrpSpPr/>
            <p:nvPr/>
          </p:nvGrpSpPr>
          <p:grpSpPr>
            <a:xfrm>
              <a:off x="5104080" y="4556160"/>
              <a:ext cx="541080" cy="447480"/>
              <a:chOff x="5104080" y="4556160"/>
              <a:chExt cx="541080" cy="447480"/>
            </a:xfrm>
          </p:grpSpPr>
          <p:sp>
            <p:nvSpPr>
              <p:cNvPr id="954" name=""/>
              <p:cNvSpPr/>
              <p:nvPr/>
            </p:nvSpPr>
            <p:spPr>
              <a:xfrm>
                <a:off x="5104080" y="4556160"/>
                <a:ext cx="541080" cy="447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138640" y="4594320"/>
                <a:ext cx="469440" cy="37620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5556240" y="4594320"/>
                <a:ext cx="50400" cy="376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573520" y="4614840"/>
                <a:ext cx="14040" cy="7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576760" y="4786200"/>
                <a:ext cx="6120" cy="6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576760" y="4857840"/>
                <a:ext cx="6120" cy="7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576760" y="4927680"/>
                <a:ext cx="6120" cy="4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>
              <a:off x="5151600" y="4581720"/>
              <a:ext cx="439560" cy="382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 flipV="1">
            <a:off x="5896080" y="3495240"/>
            <a:ext cx="1920600" cy="1041480"/>
          </a:xfrm>
          <a:prstGeom prst="line">
            <a:avLst/>
          </a:prstGeom>
          <a:ln w="2844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5857560" y="3638520"/>
            <a:ext cx="1955880" cy="1123920"/>
          </a:xfrm>
          <a:prstGeom prst="line">
            <a:avLst/>
          </a:prstGeom>
          <a:ln w="2844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rot="19906800">
            <a:off x="6068160" y="376992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http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rot="19861800">
            <a:off x="6166800" y="4214160"/>
            <a:ext cx="15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htt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1A6A-EB8C-4460-A455-B16DE1BA706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7667640" y="3238560"/>
            <a:ext cx="82872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HTTP protocol (cont)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440" y="1413000"/>
            <a:ext cx="773100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TTP rides on top of  TCP transport servic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ent initiates TCP connection (creates socket) to server, port 8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rver accepts TCP connection from cli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ttp messages (application-layer protocol messages) exchanged between browser (http client) and Web server (http server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CP connection clos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E39F-C859-465F-B808-96490D9FB79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9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HTTP protocol (cont)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5800" y="1269720"/>
            <a:ext cx="7873920" cy="15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ttp is “stateless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rver maintains no information about past client reques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"/>
          <p:cNvSpPr/>
          <p:nvPr/>
        </p:nvSpPr>
        <p:spPr>
          <a:xfrm>
            <a:off x="679320" y="2863800"/>
            <a:ext cx="780588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tocols that maintain “state” are 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st history (state) must be mainta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server/client crashes, their views of “state” may be inconsistent, must be reconci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D921-F2F9-48D2-89D7-09FEF8B9762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/>
          <p:nvPr/>
        </p:nvSpPr>
        <p:spPr>
          <a:xfrm>
            <a:off x="237960" y="6019920"/>
            <a:ext cx="65736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HTTP in operation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07800" y="1057320"/>
            <a:ext cx="834408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pose user enters URL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www.toronto.edu/cs/index.htm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517320" y="1900080"/>
            <a:ext cx="380988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a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ttp client initiates TCP connection to http server (process) a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toronto.edu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ort 80 is default for http serv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6" name=""/>
          <p:cNvSpPr/>
          <p:nvPr/>
        </p:nvSpPr>
        <p:spPr>
          <a:xfrm>
            <a:off x="546120" y="3773520"/>
            <a:ext cx="38098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 client sends http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request messag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containing URL) into TCP connection so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906800" y="2395440"/>
            <a:ext cx="381024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 server at ho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toronto.edu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iting for TCP connection at port 80.  “accepts” connection, notifying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960800" y="4164120"/>
            <a:ext cx="38102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 server receives request message, forms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response messag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ontaining requested object (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/index.htm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, sends message into so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048200" y="2647800"/>
            <a:ext cx="1095480" cy="524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029120" y="4357800"/>
            <a:ext cx="1095480" cy="52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4030200" y="5170320"/>
            <a:ext cx="1095480" cy="524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4000680" y="3352680"/>
            <a:ext cx="1095120" cy="524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853160" y="1495440"/>
            <a:ext cx="3603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cc"/>
                </a:solidFill>
                <a:latin typeface="Arial"/>
              </a:rPr>
              <a:t>(containing text and references to 10 jpeg im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76280" y="2095560"/>
            <a:ext cx="0" cy="44956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23920" y="5816520"/>
            <a:ext cx="6667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71AE-3886-4899-84E5-1E4149F7D3B5}" type="slidenum">
              <a:t>1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http in operation (cont.)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1024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ttp client receives response message containing html file, displays html.  Parsing html file, finds 10 referenced jpeg  objec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"/>
          <p:cNvSpPr/>
          <p:nvPr/>
        </p:nvSpPr>
        <p:spPr>
          <a:xfrm>
            <a:off x="714240" y="3524400"/>
            <a:ext cx="38102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eps 1-5 repeated for each of 10 jpeg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105520" y="1752480"/>
            <a:ext cx="3809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 server closes TCP connec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04920" y="3162240"/>
            <a:ext cx="34272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42880" y="1162080"/>
            <a:ext cx="0" cy="25718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59840" y="2104920"/>
            <a:ext cx="82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4A30-63E4-4749-83FB-AB4AEE1441E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71640" y="3762360"/>
            <a:ext cx="2162160" cy="438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373760" y="3629160"/>
            <a:ext cx="1250280" cy="610200"/>
            <a:chOff x="1373760" y="3629160"/>
            <a:chExt cx="1250280" cy="610200"/>
          </a:xfrm>
        </p:grpSpPr>
        <p:sp>
          <p:nvSpPr>
            <p:cNvPr id="45" name=""/>
            <p:cNvSpPr/>
            <p:nvPr/>
          </p:nvSpPr>
          <p:spPr>
            <a:xfrm>
              <a:off x="1765440" y="3658320"/>
              <a:ext cx="456120" cy="23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73760" y="3629160"/>
              <a:ext cx="1250280" cy="61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how mu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is this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What’s a protoco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371600"/>
            <a:ext cx="8153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uman protocol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network protoco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594360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4840" y="2720880"/>
            <a:ext cx="191448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78120" y="2611440"/>
            <a:ext cx="448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952560" y="3162240"/>
            <a:ext cx="2085840" cy="3621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9400" y="3122640"/>
            <a:ext cx="681120" cy="7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942840" y="4324320"/>
            <a:ext cx="2143440" cy="3715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693800" y="4361040"/>
            <a:ext cx="601560" cy="325440"/>
            <a:chOff x="1693800" y="4361040"/>
            <a:chExt cx="601560" cy="325440"/>
          </a:xfrm>
        </p:grpSpPr>
        <p:sp>
          <p:nvSpPr>
            <p:cNvPr id="56" name=""/>
            <p:cNvSpPr/>
            <p:nvPr/>
          </p:nvSpPr>
          <p:spPr>
            <a:xfrm>
              <a:off x="1742040" y="4390920"/>
              <a:ext cx="553320" cy="29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93800" y="4361040"/>
              <a:ext cx="439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$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5149440" y="2655720"/>
            <a:ext cx="202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CP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43520" y="4648320"/>
            <a:ext cx="2343240" cy="4284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19640" y="2981160"/>
            <a:ext cx="1762200" cy="276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896000" y="3476520"/>
            <a:ext cx="2085840" cy="3621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130360" y="3408480"/>
            <a:ext cx="2026440" cy="703800"/>
            <a:chOff x="5130360" y="3408480"/>
            <a:chExt cx="2026440" cy="703800"/>
          </a:xfrm>
        </p:grpSpPr>
        <p:sp>
          <p:nvSpPr>
            <p:cNvPr id="63" name=""/>
            <p:cNvSpPr/>
            <p:nvPr/>
          </p:nvSpPr>
          <p:spPr>
            <a:xfrm>
              <a:off x="5248440" y="3476520"/>
              <a:ext cx="143820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130360" y="3408480"/>
              <a:ext cx="2026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CP 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reply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4943520" y="4086360"/>
            <a:ext cx="2400120" cy="419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156280" y="4151160"/>
            <a:ext cx="3794040" cy="307080"/>
            <a:chOff x="5156280" y="4151160"/>
            <a:chExt cx="3794040" cy="307080"/>
          </a:xfrm>
        </p:grpSpPr>
        <p:sp>
          <p:nvSpPr>
            <p:cNvPr id="67" name=""/>
            <p:cNvSpPr/>
            <p:nvPr/>
          </p:nvSpPr>
          <p:spPr>
            <a:xfrm>
              <a:off x="5219640" y="4200480"/>
              <a:ext cx="333396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56280" y="4151160"/>
              <a:ext cx="379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</a:rPr>
                <a:t>Get http://www.toronto.edu/index.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576400" y="4680000"/>
            <a:ext cx="962640" cy="459720"/>
            <a:chOff x="5576400" y="4680000"/>
            <a:chExt cx="962640" cy="459720"/>
          </a:xfrm>
        </p:grpSpPr>
        <p:sp>
          <p:nvSpPr>
            <p:cNvPr id="70" name=""/>
            <p:cNvSpPr/>
            <p:nvPr/>
          </p:nvSpPr>
          <p:spPr>
            <a:xfrm>
              <a:off x="5695560" y="4757760"/>
              <a:ext cx="704880" cy="29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76400" y="4680000"/>
              <a:ext cx="96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&lt;file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179960" y="1962000"/>
            <a:ext cx="0" cy="38577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674520" y="5094360"/>
            <a:ext cx="826920" cy="459720"/>
            <a:chOff x="3674520" y="5094360"/>
            <a:chExt cx="826920" cy="459720"/>
          </a:xfrm>
        </p:grpSpPr>
        <p:sp>
          <p:nvSpPr>
            <p:cNvPr id="74" name=""/>
            <p:cNvSpPr/>
            <p:nvPr/>
          </p:nvSpPr>
          <p:spPr>
            <a:xfrm>
              <a:off x="3752640" y="5191200"/>
              <a:ext cx="64800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674520" y="5094360"/>
              <a:ext cx="82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971640" y="4857840"/>
            <a:ext cx="2162160" cy="438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563120" y="4789440"/>
            <a:ext cx="945720" cy="610200"/>
            <a:chOff x="1563120" y="4789440"/>
            <a:chExt cx="945720" cy="610200"/>
          </a:xfrm>
        </p:grpSpPr>
        <p:sp>
          <p:nvSpPr>
            <p:cNvPr id="78" name=""/>
            <p:cNvSpPr/>
            <p:nvPr/>
          </p:nvSpPr>
          <p:spPr>
            <a:xfrm>
              <a:off x="1647720" y="4819320"/>
              <a:ext cx="704880" cy="29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63120" y="4789440"/>
              <a:ext cx="945720" cy="61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I’ll g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you $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368960" y="2401920"/>
            <a:ext cx="923760" cy="824040"/>
            <a:chOff x="4368960" y="2401920"/>
            <a:chExt cx="923760" cy="824040"/>
          </a:xfrm>
        </p:grpSpPr>
        <p:grpSp>
          <p:nvGrpSpPr>
            <p:cNvPr id="81" name=""/>
            <p:cNvGrpSpPr/>
            <p:nvPr/>
          </p:nvGrpSpPr>
          <p:grpSpPr>
            <a:xfrm>
              <a:off x="4368960" y="2401920"/>
              <a:ext cx="923760" cy="824040"/>
              <a:chOff x="4368960" y="2401920"/>
              <a:chExt cx="923760" cy="824040"/>
            </a:xfrm>
          </p:grpSpPr>
          <p:pic>
            <p:nvPicPr>
              <p:cNvPr id="8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68960" y="2401920"/>
                <a:ext cx="923760" cy="82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564080" y="2499120"/>
                <a:ext cx="390600" cy="353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4" name=""/>
            <p:cNvSpPr/>
            <p:nvPr/>
          </p:nvSpPr>
          <p:spPr>
            <a:xfrm>
              <a:off x="4392720" y="2522520"/>
              <a:ext cx="1807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5" name=""/>
          <p:cNvGraphicFramePr/>
          <p:nvPr/>
        </p:nvGraphicFramePr>
        <p:xfrm>
          <a:off x="7139160" y="2935440"/>
          <a:ext cx="534960" cy="87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39160" y="2935440"/>
                    <a:ext cx="534960" cy="87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bd06790_" descr=""/>
          <p:cNvPicPr/>
          <p:nvPr/>
        </p:nvPicPr>
        <p:blipFill>
          <a:blip r:embed="rId5"/>
          <a:srcRect l="0" t="0" r="38101" b="0"/>
          <a:stretch/>
        </p:blipFill>
        <p:spPr>
          <a:xfrm>
            <a:off x="452520" y="2325600"/>
            <a:ext cx="628560" cy="762120"/>
          </a:xfrm>
          <a:prstGeom prst="rect">
            <a:avLst/>
          </a:prstGeom>
          <a:ln w="0">
            <a:noFill/>
          </a:ln>
        </p:spPr>
      </p:pic>
      <p:pic>
        <p:nvPicPr>
          <p:cNvPr id="88" name="bd06784_" descr=""/>
          <p:cNvPicPr/>
          <p:nvPr/>
        </p:nvPicPr>
        <p:blipFill>
          <a:blip r:embed="rId6"/>
          <a:srcRect l="18745" t="0" r="0" b="0"/>
          <a:stretch/>
        </p:blipFill>
        <p:spPr>
          <a:xfrm>
            <a:off x="3078000" y="2598840"/>
            <a:ext cx="719280" cy="91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BC21-1296-43DE-9DE0-5DD274D1C7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/>
          </p:nvPr>
        </p:nvSpPr>
        <p:spPr>
          <a:xfrm>
            <a:off x="380520" y="11430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action between Web client (browser) and Web server occurs in two phas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quest ph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owser requests p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Web ser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spon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h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rver sends ba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quested page or c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phase consists of two part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eader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request line, response status, header field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HTTP 1.0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95" name=""/>
          <p:cNvSpPr/>
          <p:nvPr/>
        </p:nvSpPr>
        <p:spPr>
          <a:xfrm>
            <a:off x="838080" y="18288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4654440" y="3452760"/>
            <a:ext cx="1395360" cy="1155600"/>
            <a:chOff x="4654440" y="3452760"/>
            <a:chExt cx="1395360" cy="1155600"/>
          </a:xfrm>
        </p:grpSpPr>
        <p:pic>
          <p:nvPicPr>
            <p:cNvPr id="997" name="" descr=""/>
            <p:cNvPicPr/>
            <p:nvPr/>
          </p:nvPicPr>
          <p:blipFill>
            <a:blip r:embed="rId1"/>
            <a:stretch/>
          </p:blipFill>
          <p:spPr>
            <a:xfrm>
              <a:off x="4654440" y="3452760"/>
              <a:ext cx="139536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" descr=""/>
            <p:cNvPicPr/>
            <p:nvPr/>
          </p:nvPicPr>
          <p:blipFill>
            <a:blip r:embed="rId2"/>
            <a:stretch/>
          </p:blipFill>
          <p:spPr>
            <a:xfrm>
              <a:off x="4949280" y="3589200"/>
              <a:ext cx="589680" cy="495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9" name=""/>
          <p:cNvGrpSpPr/>
          <p:nvPr/>
        </p:nvGrpSpPr>
        <p:grpSpPr>
          <a:xfrm>
            <a:off x="4648320" y="2057400"/>
            <a:ext cx="1395360" cy="1155600"/>
            <a:chOff x="4648320" y="2057400"/>
            <a:chExt cx="1395360" cy="1155600"/>
          </a:xfrm>
        </p:grpSpPr>
        <p:pic>
          <p:nvPicPr>
            <p:cNvPr id="1000" name="" descr=""/>
            <p:cNvPicPr/>
            <p:nvPr/>
          </p:nvPicPr>
          <p:blipFill>
            <a:blip r:embed="rId3"/>
            <a:stretch/>
          </p:blipFill>
          <p:spPr>
            <a:xfrm>
              <a:off x="4648320" y="2057400"/>
              <a:ext cx="139536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1" name="" descr=""/>
            <p:cNvPicPr/>
            <p:nvPr/>
          </p:nvPicPr>
          <p:blipFill>
            <a:blip r:embed="rId4"/>
            <a:stretch/>
          </p:blipFill>
          <p:spPr>
            <a:xfrm>
              <a:off x="4943160" y="2193840"/>
              <a:ext cx="589680" cy="495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2" name=""/>
          <p:cNvGrpSpPr/>
          <p:nvPr/>
        </p:nvGrpSpPr>
        <p:grpSpPr>
          <a:xfrm>
            <a:off x="5745240" y="2255760"/>
            <a:ext cx="1395000" cy="364680"/>
            <a:chOff x="5745240" y="2255760"/>
            <a:chExt cx="1395000" cy="364680"/>
          </a:xfrm>
        </p:grpSpPr>
        <p:sp>
          <p:nvSpPr>
            <p:cNvPr id="1003" name=""/>
            <p:cNvSpPr/>
            <p:nvPr/>
          </p:nvSpPr>
          <p:spPr>
            <a:xfrm>
              <a:off x="5939640" y="2255760"/>
              <a:ext cx="1073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745240" y="2620440"/>
              <a:ext cx="1395000" cy="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5" name=""/>
          <p:cNvGrpSpPr/>
          <p:nvPr/>
        </p:nvGrpSpPr>
        <p:grpSpPr>
          <a:xfrm>
            <a:off x="5751360" y="3741840"/>
            <a:ext cx="1466640" cy="348840"/>
            <a:chOff x="5751360" y="3741840"/>
            <a:chExt cx="1466640" cy="348840"/>
          </a:xfrm>
        </p:grpSpPr>
        <p:sp>
          <p:nvSpPr>
            <p:cNvPr id="1006" name=""/>
            <p:cNvSpPr/>
            <p:nvPr/>
          </p:nvSpPr>
          <p:spPr>
            <a:xfrm>
              <a:off x="5929560" y="3741840"/>
              <a:ext cx="1288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pon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5751360" y="4090680"/>
              <a:ext cx="1395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08" name="" descr=""/>
          <p:cNvPicPr/>
          <p:nvPr/>
        </p:nvPicPr>
        <p:blipFill>
          <a:blip r:embed="rId5"/>
          <a:stretch/>
        </p:blipFill>
        <p:spPr>
          <a:xfrm>
            <a:off x="7218360" y="2081160"/>
            <a:ext cx="934920" cy="1116000"/>
          </a:xfrm>
          <a:prstGeom prst="rect">
            <a:avLst/>
          </a:prstGeom>
          <a:ln w="0">
            <a:noFill/>
          </a:ln>
        </p:spPr>
      </p:pic>
      <p:pic>
        <p:nvPicPr>
          <p:cNvPr id="1009" name="" descr=""/>
          <p:cNvPicPr/>
          <p:nvPr/>
        </p:nvPicPr>
        <p:blipFill>
          <a:blip r:embed="rId6"/>
          <a:stretch/>
        </p:blipFill>
        <p:spPr>
          <a:xfrm>
            <a:off x="7218360" y="3502080"/>
            <a:ext cx="934920" cy="111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DE61-24C0-4A46-BEC9-7FFDDDC2B2C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HTTP request message: general format</a:t>
            </a:r>
            <a:endParaRPr b="0" lang="en-US" sz="3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11" name=""/>
          <p:cNvSpPr/>
          <p:nvPr/>
        </p:nvSpPr>
        <p:spPr>
          <a:xfrm>
            <a:off x="3562200" y="1576440"/>
            <a:ext cx="1800" cy="455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567320" y="1576440"/>
            <a:ext cx="1440" cy="455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76280" y="1576440"/>
            <a:ext cx="19810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816280" y="1577880"/>
            <a:ext cx="772920" cy="455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562200" y="1576440"/>
            <a:ext cx="331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894120" y="1576440"/>
            <a:ext cx="21337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 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027840" y="1576440"/>
            <a:ext cx="380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408720" y="1577880"/>
            <a:ext cx="380880" cy="45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79520" y="2131920"/>
            <a:ext cx="2698560" cy="435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ader field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178080" y="2131920"/>
            <a:ext cx="155520" cy="4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333600" y="2131920"/>
            <a:ext cx="1619280" cy="435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eld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960800" y="2130480"/>
            <a:ext cx="462240" cy="4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423040" y="2130480"/>
            <a:ext cx="463320" cy="4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758640" y="157644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quest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468520" y="1576440"/>
            <a:ext cx="331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76280" y="2949480"/>
            <a:ext cx="2698560" cy="435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ader field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174840" y="2949480"/>
            <a:ext cx="155880" cy="4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330720" y="2949480"/>
            <a:ext cx="1619280" cy="435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eld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946760" y="2948040"/>
            <a:ext cx="461880" cy="4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408640" y="2948040"/>
            <a:ext cx="463680" cy="4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76280" y="3382920"/>
            <a:ext cx="461880" cy="4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938160" y="3382920"/>
            <a:ext cx="463680" cy="4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76280" y="3817800"/>
            <a:ext cx="6426000" cy="22305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tity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039000" y="2185920"/>
            <a:ext cx="380880" cy="1143000"/>
          </a:xfrm>
          <a:custGeom>
            <a:avLst/>
            <a:gdLst>
              <a:gd name="textAreaLeft" fmla="*/ 0 w 380880"/>
              <a:gd name="textAreaRight" fmla="*/ 137520 w 3808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419880" y="23544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ader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96720" y="2228760"/>
            <a:ext cx="76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7EA9-DA4A-47B0-819D-7C7D28A2E0C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http message format: request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ttp request messag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e all HTTP messages are 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CII (text forma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9" name=""/>
          <p:cNvSpPr/>
          <p:nvPr/>
        </p:nvSpPr>
        <p:spPr>
          <a:xfrm>
            <a:off x="632160" y="2622600"/>
            <a:ext cx="627660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 /somedir/page.html HTTP/1.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r-agent: Mozilla/4.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cept: text/html, image/gif,image/jpe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cept-language:f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xtra carriage return, line fe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953400" y="1487520"/>
            <a:ext cx="1928520" cy="1332000"/>
          </a:xfrm>
          <a:prstGeom prst="wedgeRoundRectCallout">
            <a:avLst>
              <a:gd name="adj1" fmla="val -126129"/>
              <a:gd name="adj2" fmla="val 45828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quest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GET, POS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AD comman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728120" y="3100320"/>
            <a:ext cx="934920" cy="689040"/>
          </a:xfrm>
          <a:prstGeom prst="wedgeRoundRectCallout">
            <a:avLst>
              <a:gd name="adj1" fmla="val -140662"/>
              <a:gd name="adj2" fmla="val -2763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6673680" y="29844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691320" y="4059360"/>
            <a:ext cx="2152800" cy="1409400"/>
          </a:xfrm>
          <a:prstGeom prst="wedgeRoundRectCallout">
            <a:avLst>
              <a:gd name="adj1" fmla="val -158703"/>
              <a:gd name="adj2" fmla="val -23759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arriage retur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ine fe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dicates e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of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318D-A616-47E1-ACF6-259F3F5ED22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HTTP 1.0 Request Phas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TTP meth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T – return content of specified docu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AD – return headers only of GET respon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ST – execute specified doc with enclosed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RL (only domain portio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host-identifier/pat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 /www.toronto.edu/headlines/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TTP ver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 HTTP/1.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6" name=""/>
          <p:cNvSpPr/>
          <p:nvPr/>
        </p:nvSpPr>
        <p:spPr>
          <a:xfrm>
            <a:off x="4395960" y="2109960"/>
            <a:ext cx="1440" cy="455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400720" y="2109960"/>
            <a:ext cx="1440" cy="455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309680" y="2109960"/>
            <a:ext cx="19810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649680" y="2111400"/>
            <a:ext cx="772920" cy="455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395960" y="2109960"/>
            <a:ext cx="331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727520" y="2109960"/>
            <a:ext cx="21337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 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861240" y="2109960"/>
            <a:ext cx="380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242120" y="2111400"/>
            <a:ext cx="380880" cy="45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301920" y="2109960"/>
            <a:ext cx="331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888C-0D83-4127-AF00-B260D752C42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"/>
          <p:cNvSpPr/>
          <p:nvPr/>
        </p:nvSpPr>
        <p:spPr>
          <a:xfrm>
            <a:off x="1523880" y="1906560"/>
            <a:ext cx="2405160" cy="598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ader field na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940200" y="1908000"/>
            <a:ext cx="1479600" cy="600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eld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HTTP 1.0 Request Phase (cont)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65280" y="1312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ader fiel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cept: text/htm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cept: image/jp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cept-language: en; en-gr; f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-modified-since: 17 May 200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ent-Length: 254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9" name=""/>
          <p:cNvSpPr/>
          <p:nvPr/>
        </p:nvSpPr>
        <p:spPr>
          <a:xfrm>
            <a:off x="3817800" y="1909800"/>
            <a:ext cx="115920" cy="6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A88E-9975-492F-8F7E-9413CDC9193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HTTP 1.0 Response Phas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onse consists of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us lin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 vers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-digit status code (success, error, redirection, etc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ief text explanation of status code (e.g. OK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ponse Header field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page attributes (content type, content length, expiration, last modified, server type, etc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itional information (if redirection, other locatio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ank line (delimiter between header and bod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ponse bod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E051-D04A-46F6-8262-B3275B5A1E9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HTTP response message: general format</a:t>
            </a:r>
            <a:endParaRPr b="0" lang="en-US" sz="3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63" name=""/>
          <p:cNvSpPr/>
          <p:nvPr/>
        </p:nvSpPr>
        <p:spPr>
          <a:xfrm>
            <a:off x="3573360" y="1587600"/>
            <a:ext cx="1800" cy="455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700520" y="1587600"/>
            <a:ext cx="1800" cy="455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76280" y="1576440"/>
            <a:ext cx="16984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 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522520" y="1577880"/>
            <a:ext cx="1517760" cy="455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us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040280" y="1576440"/>
            <a:ext cx="331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376880" y="1576440"/>
            <a:ext cx="178416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us phr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149880" y="1576440"/>
            <a:ext cx="381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531120" y="1577880"/>
            <a:ext cx="380880" cy="45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79520" y="2131920"/>
            <a:ext cx="2698560" cy="435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ader field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178080" y="2131920"/>
            <a:ext cx="155520" cy="4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333600" y="2131920"/>
            <a:ext cx="1619280" cy="4352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eld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960800" y="2130480"/>
            <a:ext cx="462240" cy="4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423040" y="2130480"/>
            <a:ext cx="463320" cy="4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900840" y="1576440"/>
            <a:ext cx="21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pons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179800" y="1576440"/>
            <a:ext cx="331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76280" y="2949480"/>
            <a:ext cx="2698560" cy="435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ader field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174840" y="2949480"/>
            <a:ext cx="155880" cy="4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330720" y="2949480"/>
            <a:ext cx="1619280" cy="4352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eld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946760" y="2948040"/>
            <a:ext cx="461880" cy="4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408640" y="2948040"/>
            <a:ext cx="463680" cy="4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76280" y="3382920"/>
            <a:ext cx="461880" cy="4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938160" y="3382920"/>
            <a:ext cx="463680" cy="4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76280" y="3817800"/>
            <a:ext cx="6426000" cy="22305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ponse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039000" y="2185920"/>
            <a:ext cx="380880" cy="1143000"/>
          </a:xfrm>
          <a:custGeom>
            <a:avLst/>
            <a:gdLst>
              <a:gd name="textAreaLeft" fmla="*/ 0 w 380880"/>
              <a:gd name="textAreaRight" fmla="*/ 137520 w 3808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419880" y="23544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ader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6720" y="2228760"/>
            <a:ext cx="76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BF60-86D8-46B3-BCF9-B00DD5DD5A5C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Response status cod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 digit response co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XX – information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XX – succ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XX – redire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XX – client err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XX – server err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sponse code text phra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BEEE-AE4C-4BDE-804E-E0287C706DE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Response status code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33160" y="1758960"/>
            <a:ext cx="7934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200 O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quest succeeded, requested object later in this mess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301 Moved Permanent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quested object moved, new location specified later in this message (Location: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400 Bad Reque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quest message not understood by ser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404 Not Fou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quested document not found on this ser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505 HTTP Version Not Suppor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3" name=""/>
          <p:cNvSpPr/>
          <p:nvPr/>
        </p:nvSpPr>
        <p:spPr>
          <a:xfrm>
            <a:off x="523800" y="825480"/>
            <a:ext cx="81630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4000"/>
          </a:bodyPr>
          <a:p>
            <a:pPr marL="150840" indent="-150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first line in server-&gt;client response mess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ew commonly occurring sample cod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602D-BA70-4570-8F33-615322D1499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http message format: response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95" name=""/>
          <p:cNvSpPr/>
          <p:nvPr/>
        </p:nvSpPr>
        <p:spPr>
          <a:xfrm>
            <a:off x="760680" y="1987560"/>
            <a:ext cx="58194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/1.0 200 O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e: Thu, 25 Aug 2001 12:00:15 GM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rver: Apache/1.3.0 (Unix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-Modified: Mon, 22 Aug 2001 …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ent-Length: 682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ent-Type: text/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 data data data data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 data data data data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 data data data data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7423200" y="3225960"/>
            <a:ext cx="934920" cy="688680"/>
          </a:xfrm>
          <a:prstGeom prst="wedgeRoundRectCallout">
            <a:avLst>
              <a:gd name="adj1" fmla="val -146773"/>
              <a:gd name="adj2" fmla="val -65208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H="1">
            <a:off x="5218200" y="4216320"/>
            <a:ext cx="185760" cy="846360"/>
          </a:xfrm>
          <a:custGeom>
            <a:avLst/>
            <a:gdLst>
              <a:gd name="textAreaLeft" fmla="*/ 119160 w 185760"/>
              <a:gd name="textAreaRight" fmla="*/ 186480 w 185760"/>
              <a:gd name="textAreaTop" fmla="*/ 21960 h 846360"/>
              <a:gd name="textAreaBottom" fmla="*/ 824400 h 84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796080" y="1487520"/>
            <a:ext cx="2085840" cy="1332000"/>
          </a:xfrm>
          <a:prstGeom prst="wedgeRoundRectCallout">
            <a:avLst>
              <a:gd name="adj1" fmla="val -213013"/>
              <a:gd name="adj2" fmla="val -1611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atus li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atus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atus phr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353280" y="4465800"/>
            <a:ext cx="1531800" cy="1060200"/>
          </a:xfrm>
          <a:prstGeom prst="wedgeRoundRectCallout">
            <a:avLst>
              <a:gd name="adj1" fmla="val -105439"/>
              <a:gd name="adj2" fmla="val -33981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data, e.g.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ques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tml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6308640" y="2394000"/>
            <a:ext cx="185760" cy="1490760"/>
          </a:xfrm>
          <a:custGeom>
            <a:avLst/>
            <a:gdLst>
              <a:gd name="textAreaLeft" fmla="*/ 119160 w 185760"/>
              <a:gd name="textAreaRight" fmla="*/ 186480 w 185760"/>
              <a:gd name="textAreaTop" fmla="*/ 38880 h 1490760"/>
              <a:gd name="textAreaBottom" fmla="*/ 1451880 h 14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925B-4997-4EAE-A222-A1DCE6A775D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What’s a protoco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6360" y="1247760"/>
            <a:ext cx="393228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Human Protoco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nk you … you’re welcom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llo … hi … my name is … pleased to meet you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ce hagg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ific msgs 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ific actions taken when msgs re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y be context or culture sen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59240" y="1271520"/>
            <a:ext cx="44784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Network protoco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ive device, rather than human,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communication activity in Internet is governed by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3962520"/>
            <a:ext cx="42670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54560" y="4243320"/>
            <a:ext cx="4457520" cy="192276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rotocols define format &amp; order of messages sent and received among network entities, and actions taken on message transmission, rece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F6D4-DCEF-4F2C-B930-F3BD270FFAA0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89000" y="22824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Try out HTTP (client side) for yourself</a:t>
            </a:r>
            <a:endParaRPr b="0" lang="en-US" sz="3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390240" y="1590840"/>
            <a:ext cx="809604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Telnet to your favorite Web server, e.g.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"/>
          <p:cNvSpPr/>
          <p:nvPr/>
        </p:nvSpPr>
        <p:spPr>
          <a:xfrm>
            <a:off x="755640" y="2552760"/>
            <a:ext cx="846756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en TCP connection to port 80 (default http server port) at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www.utsc.utoronto.c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 Anything typed is sent to port 80 at www.utsc.utoronto.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562400" y="2021040"/>
            <a:ext cx="42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elnet www.utsc.utoronto.ca 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61800" y="3600360"/>
            <a:ext cx="8096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Type in a GET HTTP reque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907920" y="4079880"/>
            <a:ext cx="562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GET /~rosselet/cscc09/index.html HTTP/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792000" y="4651200"/>
            <a:ext cx="849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ype this at the prompt (followed by two carriage return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send this minimal GET request to the HTTP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61800" y="5429160"/>
            <a:ext cx="83343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 Look at response message sent by http serv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rot="5400000">
            <a:off x="3932640" y="-928080"/>
            <a:ext cx="358920" cy="6875640"/>
          </a:xfrm>
          <a:custGeom>
            <a:avLst/>
            <a:gdLst>
              <a:gd name="textAreaLeft" fmla="*/ 229320 w 358920"/>
              <a:gd name="textAreaRight" fmla="*/ 359280 w 358920"/>
              <a:gd name="textAreaTop" fmla="*/ 179280 h 6875640"/>
              <a:gd name="textAreaBottom" fmla="*/ 6696360 h 687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51"/>
                </a:lnTo>
                <a:cubicBezTo>
                  <a:pt x="10800" y="9951"/>
                  <a:pt x="5400" y="10851"/>
                  <a:pt x="0" y="10851"/>
                </a:cubicBezTo>
                <a:cubicBezTo>
                  <a:pt x="5400" y="10851"/>
                  <a:pt x="10800" y="11751"/>
                  <a:pt x="10800" y="1265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rot="5400000">
            <a:off x="3793680" y="1326960"/>
            <a:ext cx="390600" cy="6537240"/>
          </a:xfrm>
          <a:custGeom>
            <a:avLst/>
            <a:gdLst>
              <a:gd name="textAreaLeft" fmla="*/ 249480 w 390600"/>
              <a:gd name="textAreaRight" fmla="*/ 390960 w 390600"/>
              <a:gd name="textAreaTop" fmla="*/ 170280 h 6537240"/>
              <a:gd name="textAreaBottom" fmla="*/ 6366960 h 653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FE0A-5690-4C17-BBC7-832664A0379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HTTP 1.0 other featur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ent can send information to serv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ms, annot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-modified-since request head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ent tells server it has data and asks server whether it has fresher version or client is up to d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DFC4-41A1-4B47-A02B-89121788318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User-server interaction: conditional GET</a:t>
            </a:r>
            <a:endParaRPr b="0" lang="en-US" sz="3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3886200" cy="43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on’t send object if client has up-to-date copy (cached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ent: specify date of cached copy in http reque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-modified-since: &lt;date&g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rver: response contains no object if cached copy is up-to-dat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/1.0 304 Not Modifi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5" name=""/>
          <p:cNvSpPr/>
          <p:nvPr/>
        </p:nvSpPr>
        <p:spPr>
          <a:xfrm>
            <a:off x="4514760" y="177336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127040" y="1095480"/>
            <a:ext cx="9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571880" y="10666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4533480" y="2763720"/>
            <a:ext cx="33051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677360" y="1808280"/>
            <a:ext cx="124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obj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d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638600" y="3830760"/>
            <a:ext cx="3905280" cy="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581360" y="4125960"/>
            <a:ext cx="33055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4600080" y="511668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743960" y="4467240"/>
            <a:ext cx="124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obj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d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386240" y="2016000"/>
            <a:ext cx="1996920" cy="789120"/>
          </a:xfrm>
          <a:prstGeom prst="wedgeRoundRectCallout">
            <a:avLst>
              <a:gd name="adj1" fmla="val 88472"/>
              <a:gd name="adj2" fmla="val -41750"/>
              <a:gd name="adj3" fmla="val 16667"/>
            </a:avLst>
          </a:pr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 request ms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-modified-since: &lt;d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5" name=""/>
          <p:cNvGrpSpPr/>
          <p:nvPr/>
        </p:nvGrpSpPr>
        <p:grpSpPr>
          <a:xfrm>
            <a:off x="3854160" y="1569960"/>
            <a:ext cx="718560" cy="4143240"/>
            <a:chOff x="3854160" y="1569960"/>
            <a:chExt cx="718560" cy="4143240"/>
          </a:xfrm>
        </p:grpSpPr>
        <p:sp>
          <p:nvSpPr>
            <p:cNvPr id="1126" name=""/>
            <p:cNvSpPr/>
            <p:nvPr/>
          </p:nvSpPr>
          <p:spPr>
            <a:xfrm>
              <a:off x="4198680" y="1569960"/>
              <a:ext cx="0" cy="4143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7" name=""/>
            <p:cNvGrpSpPr/>
            <p:nvPr/>
          </p:nvGrpSpPr>
          <p:grpSpPr>
            <a:xfrm>
              <a:off x="3854160" y="2706480"/>
              <a:ext cx="718560" cy="398880"/>
              <a:chOff x="3854160" y="2706480"/>
              <a:chExt cx="718560" cy="398880"/>
            </a:xfrm>
          </p:grpSpPr>
          <p:sp>
            <p:nvSpPr>
              <p:cNvPr id="1128" name=""/>
              <p:cNvSpPr/>
              <p:nvPr/>
            </p:nvSpPr>
            <p:spPr>
              <a:xfrm>
                <a:off x="3943440" y="2803320"/>
                <a:ext cx="57168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3854160" y="2706480"/>
                <a:ext cx="71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tim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0" name=""/>
          <p:cNvSpPr/>
          <p:nvPr/>
        </p:nvSpPr>
        <p:spPr>
          <a:xfrm>
            <a:off x="6659640" y="2984400"/>
            <a:ext cx="2122560" cy="790560"/>
          </a:xfrm>
          <a:prstGeom prst="wedgeRoundRectCallout">
            <a:avLst>
              <a:gd name="adj1" fmla="val -112152"/>
              <a:gd name="adj2" fmla="val -40560"/>
              <a:gd name="adj3" fmla="val 16667"/>
            </a:avLst>
          </a:pr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 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TTP/1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04 Not Modif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383000" y="4332240"/>
            <a:ext cx="2008440" cy="790560"/>
          </a:xfrm>
          <a:prstGeom prst="wedgeRoundRectCallout">
            <a:avLst>
              <a:gd name="adj1" fmla="val 96245"/>
              <a:gd name="adj2" fmla="val -39157"/>
              <a:gd name="adj3" fmla="val 16667"/>
            </a:avLst>
          </a:pr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 request ms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-modified-since: &lt;d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670800" y="5318280"/>
            <a:ext cx="1996920" cy="834840"/>
          </a:xfrm>
          <a:prstGeom prst="wedgeRoundRectCallout">
            <a:avLst>
              <a:gd name="adj1" fmla="val -113833"/>
              <a:gd name="adj2" fmla="val -42013"/>
              <a:gd name="adj3" fmla="val 16667"/>
            </a:avLst>
          </a:pr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 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TTP/1.1 200 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62F8-3FE0-4C29-8165-77A1B69A910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HTTP 1.0 authenticatio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sic authentic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challenged, client sends user id and password in clear to serv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secure enough (snooping is easy) but useful for simple thing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B1FC-EAC2-4296-A96B-C1C07B939F4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User-server interaction: authentication</a:t>
            </a:r>
            <a:endParaRPr b="0" lang="en-US" sz="3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201600" y="1219320"/>
            <a:ext cx="4718160" cy="38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uthentication goal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ntrol access to server docu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l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lient must present authorization in each reque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ization: typically name, passwor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uthorizatio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eader line in reque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no authorization presented, server refuses access, sen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WW authenticate:”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ader line in respon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7" name=""/>
          <p:cNvSpPr/>
          <p:nvPr/>
        </p:nvSpPr>
        <p:spPr>
          <a:xfrm>
            <a:off x="4800600" y="199080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727160" y="1285920"/>
            <a:ext cx="9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265520" y="126216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flipH="1">
            <a:off x="4828680" y="2438280"/>
            <a:ext cx="33051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809960" y="3581280"/>
            <a:ext cx="330552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H="1">
            <a:off x="4800240" y="406728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781520" y="506736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4809960" y="5562720"/>
            <a:ext cx="33055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8467560" y="2019240"/>
            <a:ext cx="0" cy="4143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8122680" y="4883040"/>
            <a:ext cx="718560" cy="398880"/>
            <a:chOff x="8122680" y="4883040"/>
            <a:chExt cx="718560" cy="398880"/>
          </a:xfrm>
        </p:grpSpPr>
        <p:sp>
          <p:nvSpPr>
            <p:cNvPr id="1147" name=""/>
            <p:cNvSpPr/>
            <p:nvPr/>
          </p:nvSpPr>
          <p:spPr>
            <a:xfrm>
              <a:off x="8211960" y="4979880"/>
              <a:ext cx="5716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122680" y="488304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9" name=""/>
          <p:cNvSpPr/>
          <p:nvPr/>
        </p:nvSpPr>
        <p:spPr>
          <a:xfrm>
            <a:off x="220680" y="5694480"/>
            <a:ext cx="565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Browser caches name &amp; password 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hat user does not have to repeatedly enter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149800" y="1874880"/>
            <a:ext cx="1511280" cy="598320"/>
          </a:xfrm>
          <a:prstGeom prst="wedgeRoundRectCallout">
            <a:avLst>
              <a:gd name="adj1" fmla="val 91805"/>
              <a:gd name="adj2" fmla="val 17374"/>
              <a:gd name="adj3" fmla="val 16667"/>
            </a:avLst>
          </a:pr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rmal http request ms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729400" y="2568600"/>
            <a:ext cx="2697120" cy="598320"/>
          </a:xfrm>
          <a:prstGeom prst="wedgeRoundRectCallout">
            <a:avLst>
              <a:gd name="adj1" fmla="val -67541"/>
              <a:gd name="adj2" fmla="val -16314"/>
              <a:gd name="adj3" fmla="val 16667"/>
            </a:avLst>
          </a:pr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01: authorization re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 authentica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908600" y="3397320"/>
            <a:ext cx="2697120" cy="598320"/>
          </a:xfrm>
          <a:prstGeom prst="wedgeRoundRectCallout">
            <a:avLst>
              <a:gd name="adj1" fmla="val 59712"/>
              <a:gd name="adj2" fmla="val 40449"/>
              <a:gd name="adj3" fmla="val 16667"/>
            </a:avLst>
          </a:pr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ual http request ms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uthorization: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413320" y="4227480"/>
            <a:ext cx="2979720" cy="339840"/>
          </a:xfrm>
          <a:prstGeom prst="wedgeRoundRectCallout">
            <a:avLst>
              <a:gd name="adj1" fmla="val 30662"/>
              <a:gd name="adj2" fmla="val -86916"/>
              <a:gd name="adj3" fmla="val 16667"/>
            </a:avLst>
          </a:pr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rmal http response ms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003640" y="4802040"/>
            <a:ext cx="2697480" cy="598680"/>
          </a:xfrm>
          <a:prstGeom prst="wedgeRoundRectCallout">
            <a:avLst>
              <a:gd name="adj1" fmla="val 53592"/>
              <a:gd name="adj2" fmla="val 50000"/>
              <a:gd name="adj3" fmla="val 16667"/>
            </a:avLst>
          </a:pr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ual http request ms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uthorization: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238720" y="5735520"/>
            <a:ext cx="2979720" cy="339840"/>
          </a:xfrm>
          <a:prstGeom prst="wedgeRoundRectCallout">
            <a:avLst>
              <a:gd name="adj1" fmla="val 40092"/>
              <a:gd name="adj2" fmla="val -97194"/>
              <a:gd name="adj3" fmla="val 16667"/>
            </a:avLst>
          </a:pr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rmal http response ms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27E4-C600-4FA1-99A3-90D2EDE36A6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ooki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: HTTP is statel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rver does not maintain status information across client reques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way to correlate multiple request from same us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ution: store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cooki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n client sid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mall amount of information (typically server-generated user id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nt by client with each reque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pdated by server with respon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C8FE-A191-4103-A042-9F59EE5818E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User-server interaction: cookies</a:t>
            </a:r>
            <a:endParaRPr b="0" lang="en-US" sz="3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377640" y="898560"/>
            <a:ext cx="382716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rver sends “cookie” to client in response ms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-cookie: 167845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ent presents cookie in later reques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okie: 167845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rver matches presented-cookie with server-stored inf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ent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embering user preferences, previous choi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"/>
          <p:cNvSpPr/>
          <p:nvPr/>
        </p:nvSpPr>
        <p:spPr>
          <a:xfrm>
            <a:off x="4765680" y="1892160"/>
            <a:ext cx="2806560" cy="46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227120" y="1379520"/>
            <a:ext cx="9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333920" y="140796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4723920" y="2664000"/>
            <a:ext cx="2854440" cy="291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762440" y="3597120"/>
            <a:ext cx="2819520" cy="34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H="1">
            <a:off x="4752720" y="4437000"/>
            <a:ext cx="281916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516080" y="3689280"/>
            <a:ext cx="106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ookie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peci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246560" y="2077920"/>
            <a:ext cx="1511280" cy="598680"/>
          </a:xfrm>
          <a:prstGeom prst="wedgeRoundRectCallout">
            <a:avLst>
              <a:gd name="adj1" fmla="val 120902"/>
              <a:gd name="adj2" fmla="val -25861"/>
              <a:gd name="adj3" fmla="val 16667"/>
            </a:avLst>
          </a:pr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rmal http request ms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024600" y="2919240"/>
            <a:ext cx="2697120" cy="598680"/>
          </a:xfrm>
          <a:prstGeom prst="wedgeRoundRectCallout">
            <a:avLst>
              <a:gd name="adj1" fmla="val -73898"/>
              <a:gd name="adj2" fmla="val -57958"/>
              <a:gd name="adj3" fmla="val 16667"/>
            </a:avLst>
          </a:pr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rmal http response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-cookie: #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433760" y="3870360"/>
            <a:ext cx="2349720" cy="565200"/>
          </a:xfrm>
          <a:prstGeom prst="wedgeRoundRectCallout">
            <a:avLst>
              <a:gd name="adj1" fmla="val 61958"/>
              <a:gd name="adj2" fmla="val -44101"/>
              <a:gd name="adj3" fmla="val 16667"/>
            </a:avLst>
          </a:pr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rmal http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okie: #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853320" y="4809960"/>
            <a:ext cx="1442880" cy="609840"/>
          </a:xfrm>
          <a:prstGeom prst="wedgeRoundRectCallout">
            <a:avLst>
              <a:gd name="adj1" fmla="val -127337"/>
              <a:gd name="adj2" fmla="val -79689"/>
              <a:gd name="adj3" fmla="val 16667"/>
            </a:avLst>
          </a:pr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rmal http 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3854160" y="1803240"/>
            <a:ext cx="718560" cy="4143240"/>
            <a:chOff x="3854160" y="1803240"/>
            <a:chExt cx="718560" cy="4143240"/>
          </a:xfrm>
        </p:grpSpPr>
        <p:sp>
          <p:nvSpPr>
            <p:cNvPr id="1172" name=""/>
            <p:cNvSpPr/>
            <p:nvPr/>
          </p:nvSpPr>
          <p:spPr>
            <a:xfrm>
              <a:off x="4198680" y="1803240"/>
              <a:ext cx="0" cy="4143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3854160" y="2939760"/>
              <a:ext cx="718560" cy="398880"/>
              <a:chOff x="3854160" y="2939760"/>
              <a:chExt cx="718560" cy="398880"/>
            </a:xfrm>
          </p:grpSpPr>
          <p:sp>
            <p:nvSpPr>
              <p:cNvPr id="1174" name=""/>
              <p:cNvSpPr/>
              <p:nvPr/>
            </p:nvSpPr>
            <p:spPr>
              <a:xfrm>
                <a:off x="3943440" y="3036600"/>
                <a:ext cx="57168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3854160" y="2939760"/>
                <a:ext cx="71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tim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72FA-C2EB-4E17-B6A3-2058D089EC5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HTTP 1.0: Problem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ch request opens new conne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rting up is slow (why?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kes several packets (why?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DB08-419F-44C0-9281-8057E2DAB2A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"/>
          <p:cNvSpPr/>
          <p:nvPr/>
        </p:nvSpPr>
        <p:spPr>
          <a:xfrm>
            <a:off x="304920" y="1600200"/>
            <a:ext cx="845820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Web Page with Single Imag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3504960" y="1599840"/>
            <a:ext cx="91116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"/>
          <p:cNvSpPr/>
          <p:nvPr/>
        </p:nvSpPr>
        <p:spPr>
          <a:xfrm>
            <a:off x="6553080" y="160020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343400" y="1905120"/>
            <a:ext cx="0" cy="4114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553080" y="1905120"/>
            <a:ext cx="0" cy="4114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343400" y="2057400"/>
            <a:ext cx="2209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H="1">
            <a:off x="4343400" y="2286000"/>
            <a:ext cx="2209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34340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343400" y="259092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H="1">
            <a:off x="4343400" y="28954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H="1">
            <a:off x="4343400" y="31240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343400" y="350532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343400" y="365760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343400" y="3886200"/>
            <a:ext cx="2209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H="1">
            <a:off x="4343400" y="3886200"/>
            <a:ext cx="2209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H="1">
            <a:off x="4343400" y="4343400"/>
            <a:ext cx="2209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343400" y="4724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343400" y="487692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H="1">
            <a:off x="4343400" y="510552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H="1">
            <a:off x="4343400" y="54100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019920" y="1905120"/>
            <a:ext cx="609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SY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343400" y="2133720"/>
            <a:ext cx="609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SY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019920" y="40384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SY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343400" y="4419720"/>
            <a:ext cx="609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SY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019920" y="24382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343400" y="2819520"/>
            <a:ext cx="609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019920" y="34290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019920" y="4648320"/>
            <a:ext cx="609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343400" y="5334120"/>
            <a:ext cx="609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019920" y="28954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99"/>
                </a:solidFill>
                <a:latin typeface="Arial"/>
              </a:rPr>
              <a:t>D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343400" y="2590920"/>
            <a:ext cx="609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99"/>
                </a:solidFill>
                <a:latin typeface="Arial"/>
              </a:rPr>
              <a:t>D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343400" y="4876920"/>
            <a:ext cx="609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99"/>
                </a:solidFill>
                <a:latin typeface="Arial"/>
              </a:rPr>
              <a:t>D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343400" y="57150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99"/>
                </a:solidFill>
                <a:latin typeface="Arial"/>
              </a:rPr>
              <a:t>D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343400" y="36576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F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H="1">
            <a:off x="4343400" y="327672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343400" y="3962520"/>
            <a:ext cx="609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2590920" y="190512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 RT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H="1">
            <a:off x="3200040" y="2057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590920" y="228600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RT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H="1">
            <a:off x="3200040" y="2438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590920" y="320040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RT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H="1">
            <a:off x="3200040" y="3352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590920" y="457200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 RT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3200040" y="4724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590920" y="556272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RT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H="1">
            <a:off x="3200040" y="5715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629400" y="2819520"/>
            <a:ext cx="2057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reads from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629400" y="2819520"/>
            <a:ext cx="0" cy="30456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095880" y="3124080"/>
            <a:ext cx="609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F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629400" y="5105520"/>
            <a:ext cx="2057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reads from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629400" y="5105520"/>
            <a:ext cx="0" cy="30456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80880" y="2133720"/>
            <a:ext cx="2743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6291a"/>
                </a:solidFill>
                <a:latin typeface="Arial"/>
              </a:rPr>
              <a:t>Client opens TCP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80880" y="2666880"/>
            <a:ext cx="2743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sends HTTP request for 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80880" y="3581280"/>
            <a:ext cx="2743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parses 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opens TCP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80880" y="4876920"/>
            <a:ext cx="2743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sends HTTP request for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80880" y="5867280"/>
            <a:ext cx="2743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6291a"/>
                </a:solidFill>
                <a:latin typeface="Arial"/>
              </a:rPr>
              <a:t>Image begins to arr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267080" y="3429000"/>
            <a:ext cx="0" cy="45720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Cloud"/>
          <p:cNvSpPr/>
          <p:nvPr/>
        </p:nvSpPr>
        <p:spPr>
          <a:xfrm>
            <a:off x="4630680" y="1382760"/>
            <a:ext cx="1719360" cy="63648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0F73-2959-4EEC-BA2C-6D13C303DEF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More Problem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rt transfers are hard on TC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ck in “slow start” phase of TCP conne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s recovery is poor when windows are sma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ts of extra conne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es server state/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rver also forced to keep TIME_WAIT connection st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y must server keep thes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5C11-F641-4B8A-84B4-30D31C61E41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pplications and application-layer protocol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7400" y="1208160"/>
            <a:ext cx="419076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pplication: communicating, distributed proce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nning in network hosts in “user space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change messages to implement ap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, email, file transfer, the W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pplication-layer protoco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“piece” of an ap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e messages exchanged by apps and actions tak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r services provided by lower layer protoco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5130720" y="3594240"/>
            <a:ext cx="3054600" cy="2224080"/>
          </a:xfrm>
          <a:custGeom>
            <a:avLst/>
            <a:gdLst/>
            <a:ahLst/>
            <a:rect l="l" t="t" r="r" b="b"/>
            <a:pathLst>
              <a:path w="1924" h="1401">
                <a:moveTo>
                  <a:pt x="12" y="549"/>
                </a:moveTo>
                <a:cubicBezTo>
                  <a:pt x="0" y="411"/>
                  <a:pt x="3" y="130"/>
                  <a:pt x="80" y="65"/>
                </a:cubicBezTo>
                <a:cubicBezTo>
                  <a:pt x="157" y="0"/>
                  <a:pt x="375" y="133"/>
                  <a:pt x="474" y="158"/>
                </a:cubicBezTo>
                <a:cubicBezTo>
                  <a:pt x="573" y="183"/>
                  <a:pt x="577" y="188"/>
                  <a:pt x="673" y="215"/>
                </a:cubicBezTo>
                <a:cubicBezTo>
                  <a:pt x="769" y="242"/>
                  <a:pt x="935" y="310"/>
                  <a:pt x="1050" y="321"/>
                </a:cubicBezTo>
                <a:cubicBezTo>
                  <a:pt x="1165" y="332"/>
                  <a:pt x="1237" y="266"/>
                  <a:pt x="1363" y="279"/>
                </a:cubicBezTo>
                <a:cubicBezTo>
                  <a:pt x="1489" y="292"/>
                  <a:pt x="1722" y="270"/>
                  <a:pt x="1804" y="400"/>
                </a:cubicBezTo>
                <a:cubicBezTo>
                  <a:pt x="1886" y="530"/>
                  <a:pt x="1924" y="903"/>
                  <a:pt x="1853" y="1061"/>
                </a:cubicBezTo>
                <a:cubicBezTo>
                  <a:pt x="1782" y="1219"/>
                  <a:pt x="1518" y="1293"/>
                  <a:pt x="1376" y="1347"/>
                </a:cubicBezTo>
                <a:cubicBezTo>
                  <a:pt x="1234" y="1401"/>
                  <a:pt x="1113" y="1399"/>
                  <a:pt x="1001" y="1387"/>
                </a:cubicBezTo>
                <a:cubicBezTo>
                  <a:pt x="889" y="1375"/>
                  <a:pt x="806" y="1330"/>
                  <a:pt x="702" y="1276"/>
                </a:cubicBezTo>
                <a:cubicBezTo>
                  <a:pt x="598" y="1222"/>
                  <a:pt x="467" y="1123"/>
                  <a:pt x="375" y="1060"/>
                </a:cubicBezTo>
                <a:cubicBezTo>
                  <a:pt x="283" y="997"/>
                  <a:pt x="209" y="983"/>
                  <a:pt x="149" y="898"/>
                </a:cubicBezTo>
                <a:cubicBezTo>
                  <a:pt x="89" y="813"/>
                  <a:pt x="10" y="690"/>
                  <a:pt x="12" y="549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80160" y="2327400"/>
            <a:ext cx="1730520" cy="1474560"/>
          </a:xfrm>
          <a:custGeom>
            <a:avLst/>
            <a:gdLst/>
            <a:ahLst/>
            <a:rect l="l" t="t" r="r" b="b"/>
            <a:pathLst>
              <a:path w="1090" h="929">
                <a:moveTo>
                  <a:pt x="238" y="9"/>
                </a:moveTo>
                <a:cubicBezTo>
                  <a:pt x="139" y="18"/>
                  <a:pt x="50" y="64"/>
                  <a:pt x="25" y="123"/>
                </a:cubicBezTo>
                <a:cubicBezTo>
                  <a:pt x="0" y="182"/>
                  <a:pt x="71" y="290"/>
                  <a:pt x="89" y="365"/>
                </a:cubicBezTo>
                <a:cubicBezTo>
                  <a:pt x="107" y="440"/>
                  <a:pt x="119" y="487"/>
                  <a:pt x="131" y="571"/>
                </a:cubicBezTo>
                <a:cubicBezTo>
                  <a:pt x="143" y="655"/>
                  <a:pt x="93" y="811"/>
                  <a:pt x="160" y="870"/>
                </a:cubicBezTo>
                <a:cubicBezTo>
                  <a:pt x="227" y="929"/>
                  <a:pt x="421" y="921"/>
                  <a:pt x="531" y="924"/>
                </a:cubicBezTo>
                <a:cubicBezTo>
                  <a:pt x="641" y="927"/>
                  <a:pt x="738" y="908"/>
                  <a:pt x="821" y="891"/>
                </a:cubicBezTo>
                <a:cubicBezTo>
                  <a:pt x="904" y="874"/>
                  <a:pt x="984" y="911"/>
                  <a:pt x="1027" y="821"/>
                </a:cubicBezTo>
                <a:cubicBezTo>
                  <a:pt x="1070" y="731"/>
                  <a:pt x="1090" y="458"/>
                  <a:pt x="1079" y="349"/>
                </a:cubicBezTo>
                <a:cubicBezTo>
                  <a:pt x="1068" y="240"/>
                  <a:pt x="1039" y="212"/>
                  <a:pt x="963" y="166"/>
                </a:cubicBezTo>
                <a:cubicBezTo>
                  <a:pt x="887" y="120"/>
                  <a:pt x="742" y="98"/>
                  <a:pt x="621" y="72"/>
                </a:cubicBezTo>
                <a:cubicBezTo>
                  <a:pt x="500" y="46"/>
                  <a:pt x="337" y="0"/>
                  <a:pt x="238" y="9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86480" y="2136600"/>
            <a:ext cx="1881000" cy="1587600"/>
          </a:xfrm>
          <a:custGeom>
            <a:avLst/>
            <a:gdLst/>
            <a:ahLst/>
            <a:rect l="l" t="t" r="r" b="b"/>
            <a:pathLst>
              <a:path w="1185" h="1000">
                <a:moveTo>
                  <a:pt x="512" y="33"/>
                </a:moveTo>
                <a:cubicBezTo>
                  <a:pt x="413" y="1"/>
                  <a:pt x="185" y="0"/>
                  <a:pt x="101" y="48"/>
                </a:cubicBezTo>
                <a:cubicBezTo>
                  <a:pt x="17" y="96"/>
                  <a:pt x="16" y="229"/>
                  <a:pt x="8" y="321"/>
                </a:cubicBezTo>
                <a:cubicBezTo>
                  <a:pt x="0" y="413"/>
                  <a:pt x="34" y="529"/>
                  <a:pt x="54" y="603"/>
                </a:cubicBezTo>
                <a:cubicBezTo>
                  <a:pt x="74" y="677"/>
                  <a:pt x="70" y="726"/>
                  <a:pt x="129" y="762"/>
                </a:cubicBezTo>
                <a:cubicBezTo>
                  <a:pt x="188" y="798"/>
                  <a:pt x="309" y="787"/>
                  <a:pt x="406" y="819"/>
                </a:cubicBezTo>
                <a:cubicBezTo>
                  <a:pt x="503" y="851"/>
                  <a:pt x="594" y="937"/>
                  <a:pt x="712" y="954"/>
                </a:cubicBezTo>
                <a:cubicBezTo>
                  <a:pt x="830" y="971"/>
                  <a:pt x="1039" y="1000"/>
                  <a:pt x="1112" y="921"/>
                </a:cubicBezTo>
                <a:cubicBezTo>
                  <a:pt x="1185" y="842"/>
                  <a:pt x="1153" y="583"/>
                  <a:pt x="1149" y="477"/>
                </a:cubicBezTo>
                <a:cubicBezTo>
                  <a:pt x="1144" y="371"/>
                  <a:pt x="1157" y="336"/>
                  <a:pt x="1086" y="285"/>
                </a:cubicBezTo>
                <a:cubicBezTo>
                  <a:pt x="1015" y="234"/>
                  <a:pt x="822" y="214"/>
                  <a:pt x="726" y="172"/>
                </a:cubicBezTo>
                <a:cubicBezTo>
                  <a:pt x="630" y="130"/>
                  <a:pt x="557" y="62"/>
                  <a:pt x="512" y="33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389560" y="2513160"/>
            <a:ext cx="13320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3073320"/>
            <a:ext cx="4953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46760" y="3070080"/>
            <a:ext cx="144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42120" y="3068640"/>
            <a:ext cx="144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43640" y="2533680"/>
            <a:ext cx="28872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556240" y="2819160"/>
            <a:ext cx="27612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083280" y="2905200"/>
            <a:ext cx="144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651640" y="4008600"/>
            <a:ext cx="7272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651640" y="4608000"/>
            <a:ext cx="72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18240" y="4006800"/>
            <a:ext cx="0" cy="60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369120" y="4717800"/>
            <a:ext cx="0" cy="15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743440" y="4707000"/>
            <a:ext cx="0" cy="12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745240" y="471312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724360" y="4250880"/>
            <a:ext cx="235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34120" y="4361040"/>
            <a:ext cx="441360" cy="30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7097400" y="4359240"/>
            <a:ext cx="415800" cy="40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80400" y="48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7586640" y="4331880"/>
            <a:ext cx="0" cy="67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94560" y="5008680"/>
            <a:ext cx="1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91320" y="453240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337440" y="2584440"/>
            <a:ext cx="458640" cy="20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7532640" y="2870280"/>
            <a:ext cx="488880" cy="739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21440" y="2681280"/>
            <a:ext cx="406440" cy="442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67440" y="2639880"/>
            <a:ext cx="208080" cy="83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85040" y="3684600"/>
            <a:ext cx="122400" cy="469800"/>
          </a:xfrm>
          <a:custGeom>
            <a:avLst/>
            <a:gdLst/>
            <a:ahLst/>
            <a:rect l="l" t="t" r="r" b="b"/>
            <a:pathLst>
              <a:path w="77" h="296">
                <a:moveTo>
                  <a:pt x="0" y="0"/>
                </a:moveTo>
                <a:lnTo>
                  <a:pt x="77" y="29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631280" y="2873520"/>
            <a:ext cx="20952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267320" y="1851120"/>
            <a:ext cx="803160" cy="63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8007480" y="1936800"/>
            <a:ext cx="303120" cy="72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818320" y="2692440"/>
            <a:ext cx="501480" cy="232920"/>
            <a:chOff x="5818320" y="2692440"/>
            <a:chExt cx="501480" cy="232920"/>
          </a:xfrm>
        </p:grpSpPr>
        <p:sp>
          <p:nvSpPr>
            <p:cNvPr id="128" name=""/>
            <p:cNvSpPr/>
            <p:nvPr/>
          </p:nvSpPr>
          <p:spPr>
            <a:xfrm>
              <a:off x="5822280" y="2796480"/>
              <a:ext cx="497160" cy="1288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822280" y="27853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19800" y="27853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22280" y="2785320"/>
              <a:ext cx="492840" cy="78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18320" y="2692440"/>
              <a:ext cx="496800" cy="1504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5937840" y="2725200"/>
              <a:ext cx="246240" cy="88200"/>
              <a:chOff x="5937840" y="2725200"/>
              <a:chExt cx="246240" cy="88200"/>
            </a:xfrm>
          </p:grpSpPr>
          <p:sp>
            <p:nvSpPr>
              <p:cNvPr id="134" name=""/>
              <p:cNvSpPr/>
              <p:nvPr/>
            </p:nvSpPr>
            <p:spPr>
              <a:xfrm flipV="1">
                <a:off x="5937840" y="27252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106680" y="28134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018840" y="27273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5937840" y="2724480"/>
              <a:ext cx="246240" cy="88200"/>
              <a:chOff x="5937840" y="2724480"/>
              <a:chExt cx="246240" cy="88200"/>
            </a:xfrm>
          </p:grpSpPr>
          <p:sp>
            <p:nvSpPr>
              <p:cNvPr id="138" name=""/>
              <p:cNvSpPr/>
              <p:nvPr/>
            </p:nvSpPr>
            <p:spPr>
              <a:xfrm>
                <a:off x="5937840" y="28108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106680" y="27244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6018840" y="27244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" name=""/>
          <p:cNvGrpSpPr/>
          <p:nvPr/>
        </p:nvGrpSpPr>
        <p:grpSpPr>
          <a:xfrm>
            <a:off x="6770520" y="2452680"/>
            <a:ext cx="501840" cy="232920"/>
            <a:chOff x="6770520" y="2452680"/>
            <a:chExt cx="501840" cy="232920"/>
          </a:xfrm>
        </p:grpSpPr>
        <p:sp>
          <p:nvSpPr>
            <p:cNvPr id="142" name=""/>
            <p:cNvSpPr/>
            <p:nvPr/>
          </p:nvSpPr>
          <p:spPr>
            <a:xfrm>
              <a:off x="6774480" y="2556720"/>
              <a:ext cx="497520" cy="1288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74480" y="25455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72360" y="25455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74480" y="2545560"/>
              <a:ext cx="493200" cy="78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70520" y="2452680"/>
              <a:ext cx="497160" cy="1504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6890040" y="2485440"/>
              <a:ext cx="246240" cy="88200"/>
              <a:chOff x="6890040" y="2485440"/>
              <a:chExt cx="246240" cy="88200"/>
            </a:xfrm>
          </p:grpSpPr>
          <p:sp>
            <p:nvSpPr>
              <p:cNvPr id="148" name=""/>
              <p:cNvSpPr/>
              <p:nvPr/>
            </p:nvSpPr>
            <p:spPr>
              <a:xfrm flipV="1">
                <a:off x="6890040" y="24854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058880" y="2573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971040" y="24876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6890040" y="2484720"/>
              <a:ext cx="246240" cy="88200"/>
              <a:chOff x="6890040" y="2484720"/>
              <a:chExt cx="246240" cy="88200"/>
            </a:xfrm>
          </p:grpSpPr>
          <p:sp>
            <p:nvSpPr>
              <p:cNvPr id="152" name=""/>
              <p:cNvSpPr/>
              <p:nvPr/>
            </p:nvSpPr>
            <p:spPr>
              <a:xfrm>
                <a:off x="6890040" y="25711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058880" y="24847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6971040" y="24847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"/>
          <p:cNvGrpSpPr/>
          <p:nvPr/>
        </p:nvGrpSpPr>
        <p:grpSpPr>
          <a:xfrm>
            <a:off x="7758000" y="2660760"/>
            <a:ext cx="500040" cy="232920"/>
            <a:chOff x="7758000" y="2660760"/>
            <a:chExt cx="500040" cy="232920"/>
          </a:xfrm>
        </p:grpSpPr>
        <p:sp>
          <p:nvSpPr>
            <p:cNvPr id="156" name=""/>
            <p:cNvSpPr/>
            <p:nvPr/>
          </p:nvSpPr>
          <p:spPr>
            <a:xfrm>
              <a:off x="7761960" y="2764800"/>
              <a:ext cx="495720" cy="1288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61960" y="27536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58040" y="27536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761960" y="2753640"/>
              <a:ext cx="491400" cy="78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58000" y="2660760"/>
              <a:ext cx="495360" cy="1504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7877160" y="2693520"/>
              <a:ext cx="245520" cy="88200"/>
              <a:chOff x="7877160" y="2693520"/>
              <a:chExt cx="245520" cy="88200"/>
            </a:xfrm>
          </p:grpSpPr>
          <p:sp>
            <p:nvSpPr>
              <p:cNvPr id="162" name=""/>
              <p:cNvSpPr/>
              <p:nvPr/>
            </p:nvSpPr>
            <p:spPr>
              <a:xfrm flipV="1">
                <a:off x="7877160" y="26935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045640" y="27817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957800" y="269568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7877160" y="2692800"/>
              <a:ext cx="245520" cy="88200"/>
              <a:chOff x="7877160" y="2692800"/>
              <a:chExt cx="245520" cy="88200"/>
            </a:xfrm>
          </p:grpSpPr>
          <p:sp>
            <p:nvSpPr>
              <p:cNvPr id="166" name=""/>
              <p:cNvSpPr/>
              <p:nvPr/>
            </p:nvSpPr>
            <p:spPr>
              <a:xfrm>
                <a:off x="7877160" y="27792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045640" y="26928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7957800" y="26928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" name=""/>
          <p:cNvGrpSpPr/>
          <p:nvPr/>
        </p:nvGrpSpPr>
        <p:grpSpPr>
          <a:xfrm>
            <a:off x="7061040" y="3457440"/>
            <a:ext cx="501840" cy="233280"/>
            <a:chOff x="7061040" y="3457440"/>
            <a:chExt cx="501840" cy="233280"/>
          </a:xfrm>
        </p:grpSpPr>
        <p:sp>
          <p:nvSpPr>
            <p:cNvPr id="170" name=""/>
            <p:cNvSpPr/>
            <p:nvPr/>
          </p:nvSpPr>
          <p:spPr>
            <a:xfrm>
              <a:off x="7065000" y="3561480"/>
              <a:ext cx="497520" cy="12924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065000" y="355068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62880" y="355068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65000" y="3550680"/>
              <a:ext cx="493200" cy="78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61040" y="3457440"/>
              <a:ext cx="497160" cy="15084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7180560" y="3490200"/>
              <a:ext cx="246240" cy="88560"/>
              <a:chOff x="7180560" y="3490200"/>
              <a:chExt cx="246240" cy="88560"/>
            </a:xfrm>
          </p:grpSpPr>
          <p:sp>
            <p:nvSpPr>
              <p:cNvPr id="176" name=""/>
              <p:cNvSpPr/>
              <p:nvPr/>
            </p:nvSpPr>
            <p:spPr>
              <a:xfrm flipV="1">
                <a:off x="7180560" y="34902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349400" y="3578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261560" y="349236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7180560" y="3489120"/>
              <a:ext cx="246240" cy="88560"/>
              <a:chOff x="7180560" y="3489120"/>
              <a:chExt cx="246240" cy="88560"/>
            </a:xfrm>
          </p:grpSpPr>
          <p:sp>
            <p:nvSpPr>
              <p:cNvPr id="180" name=""/>
              <p:cNvSpPr/>
              <p:nvPr/>
            </p:nvSpPr>
            <p:spPr>
              <a:xfrm>
                <a:off x="7180560" y="35758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349400" y="3489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7261560" y="34891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3" name=""/>
          <p:cNvGrpSpPr/>
          <p:nvPr/>
        </p:nvGrpSpPr>
        <p:grpSpPr>
          <a:xfrm>
            <a:off x="7230960" y="4141800"/>
            <a:ext cx="501840" cy="234720"/>
            <a:chOff x="7230960" y="4141800"/>
            <a:chExt cx="501840" cy="234720"/>
          </a:xfrm>
        </p:grpSpPr>
        <p:sp>
          <p:nvSpPr>
            <p:cNvPr id="184" name=""/>
            <p:cNvSpPr/>
            <p:nvPr/>
          </p:nvSpPr>
          <p:spPr>
            <a:xfrm>
              <a:off x="7234920" y="4246560"/>
              <a:ext cx="497520" cy="12996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34920" y="42354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732800" y="42354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234920" y="4235400"/>
              <a:ext cx="493200" cy="79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230960" y="4141800"/>
              <a:ext cx="497160" cy="15156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7350480" y="4174920"/>
              <a:ext cx="246240" cy="88920"/>
              <a:chOff x="7350480" y="4174920"/>
              <a:chExt cx="246240" cy="88920"/>
            </a:xfrm>
          </p:grpSpPr>
          <p:sp>
            <p:nvSpPr>
              <p:cNvPr id="190" name=""/>
              <p:cNvSpPr/>
              <p:nvPr/>
            </p:nvSpPr>
            <p:spPr>
              <a:xfrm flipV="1">
                <a:off x="7350480" y="41749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519320" y="4263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431480" y="41770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7350480" y="4173840"/>
              <a:ext cx="246240" cy="88920"/>
              <a:chOff x="7350480" y="4173840"/>
              <a:chExt cx="246240" cy="88920"/>
            </a:xfrm>
          </p:grpSpPr>
          <p:sp>
            <p:nvSpPr>
              <p:cNvPr id="194" name=""/>
              <p:cNvSpPr/>
              <p:nvPr/>
            </p:nvSpPr>
            <p:spPr>
              <a:xfrm>
                <a:off x="7350480" y="4260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519320" y="4173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7431480" y="41738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 flipH="1" flipV="1">
            <a:off x="6186600" y="4344840"/>
            <a:ext cx="9360" cy="37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637240" y="4792680"/>
          <a:ext cx="330120" cy="43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7240" y="4792680"/>
                    <a:ext cx="33012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6162840" y="4797360"/>
          <a:ext cx="33012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62840" y="4797360"/>
                    <a:ext cx="33012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2" name=""/>
          <p:cNvGrpSpPr/>
          <p:nvPr/>
        </p:nvGrpSpPr>
        <p:grpSpPr>
          <a:xfrm>
            <a:off x="5299200" y="3774960"/>
            <a:ext cx="380880" cy="286920"/>
            <a:chOff x="5299200" y="3774960"/>
            <a:chExt cx="380880" cy="286920"/>
          </a:xfrm>
        </p:grpSpPr>
        <p:grpSp>
          <p:nvGrpSpPr>
            <p:cNvPr id="203" name=""/>
            <p:cNvGrpSpPr/>
            <p:nvPr/>
          </p:nvGrpSpPr>
          <p:grpSpPr>
            <a:xfrm>
              <a:off x="5299200" y="3988800"/>
              <a:ext cx="380880" cy="73080"/>
              <a:chOff x="5299200" y="3988800"/>
              <a:chExt cx="380880" cy="73080"/>
            </a:xfrm>
          </p:grpSpPr>
          <p:sp>
            <p:nvSpPr>
              <p:cNvPr id="204" name=""/>
              <p:cNvSpPr/>
              <p:nvPr/>
            </p:nvSpPr>
            <p:spPr>
              <a:xfrm>
                <a:off x="5299200" y="3988800"/>
                <a:ext cx="380880" cy="7308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66" y="0"/>
                    </a:moveTo>
                    <a:lnTo>
                      <a:pt x="466" y="0"/>
                    </a:lnTo>
                    <a:lnTo>
                      <a:pt x="529" y="87"/>
                    </a:lnTo>
                    <a:lnTo>
                      <a:pt x="530" y="91"/>
                    </a:lnTo>
                    <a:lnTo>
                      <a:pt x="528" y="95"/>
                    </a:lnTo>
                    <a:lnTo>
                      <a:pt x="524" y="96"/>
                    </a:lnTo>
                    <a:lnTo>
                      <a:pt x="8" y="96"/>
                    </a:lnTo>
                    <a:lnTo>
                      <a:pt x="3" y="94"/>
                    </a:lnTo>
                    <a:lnTo>
                      <a:pt x="0" y="90"/>
                    </a:lnTo>
                    <a:lnTo>
                      <a:pt x="1" y="85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320440" y="4003560"/>
                <a:ext cx="253440" cy="46800"/>
              </a:xfrm>
              <a:custGeom>
                <a:avLst/>
                <a:gdLst/>
                <a:ahLst/>
                <a:rect l="l" t="t" r="r" b="b"/>
                <a:pathLst>
                  <a:path w="353" h="62">
                    <a:moveTo>
                      <a:pt x="47" y="0"/>
                    </a:moveTo>
                    <a:lnTo>
                      <a:pt x="335" y="0"/>
                    </a:lnTo>
                    <a:lnTo>
                      <a:pt x="352" y="61"/>
                    </a:lnTo>
                    <a:lnTo>
                      <a:pt x="0" y="6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581080" y="4003560"/>
                <a:ext cx="77400" cy="4680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0" y="0"/>
                    </a:moveTo>
                    <a:lnTo>
                      <a:pt x="63" y="0"/>
                    </a:lnTo>
                    <a:lnTo>
                      <a:pt x="107" y="61"/>
                    </a:lnTo>
                    <a:lnTo>
                      <a:pt x="20" y="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5364360" y="3774960"/>
              <a:ext cx="244440" cy="213120"/>
              <a:chOff x="5364360" y="3774960"/>
              <a:chExt cx="244440" cy="213120"/>
            </a:xfrm>
          </p:grpSpPr>
          <p:sp>
            <p:nvSpPr>
              <p:cNvPr id="208" name=""/>
              <p:cNvSpPr/>
              <p:nvPr/>
            </p:nvSpPr>
            <p:spPr>
              <a:xfrm>
                <a:off x="5364360" y="3774960"/>
                <a:ext cx="244440" cy="213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379840" y="3792960"/>
                <a:ext cx="212040" cy="1792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568480" y="3792960"/>
                <a:ext cx="22680" cy="179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576400" y="3802680"/>
                <a:ext cx="6480" cy="3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577840" y="3884400"/>
                <a:ext cx="2880" cy="2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577840" y="3918600"/>
                <a:ext cx="2880" cy="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577840" y="3951720"/>
                <a:ext cx="2880" cy="2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5385960" y="3786840"/>
              <a:ext cx="198360" cy="182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305320" y="4378320"/>
            <a:ext cx="381240" cy="286920"/>
            <a:chOff x="5305320" y="4378320"/>
            <a:chExt cx="381240" cy="286920"/>
          </a:xfrm>
        </p:grpSpPr>
        <p:grpSp>
          <p:nvGrpSpPr>
            <p:cNvPr id="217" name=""/>
            <p:cNvGrpSpPr/>
            <p:nvPr/>
          </p:nvGrpSpPr>
          <p:grpSpPr>
            <a:xfrm>
              <a:off x="5305320" y="4592160"/>
              <a:ext cx="381240" cy="73080"/>
              <a:chOff x="5305320" y="4592160"/>
              <a:chExt cx="381240" cy="73080"/>
            </a:xfrm>
          </p:grpSpPr>
          <p:sp>
            <p:nvSpPr>
              <p:cNvPr id="218" name=""/>
              <p:cNvSpPr/>
              <p:nvPr/>
            </p:nvSpPr>
            <p:spPr>
              <a:xfrm>
                <a:off x="5305320" y="4592160"/>
                <a:ext cx="381240" cy="7308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66" y="0"/>
                    </a:moveTo>
                    <a:lnTo>
                      <a:pt x="466" y="0"/>
                    </a:lnTo>
                    <a:lnTo>
                      <a:pt x="529" y="87"/>
                    </a:lnTo>
                    <a:lnTo>
                      <a:pt x="530" y="91"/>
                    </a:lnTo>
                    <a:lnTo>
                      <a:pt x="528" y="95"/>
                    </a:lnTo>
                    <a:lnTo>
                      <a:pt x="524" y="96"/>
                    </a:lnTo>
                    <a:lnTo>
                      <a:pt x="8" y="96"/>
                    </a:lnTo>
                    <a:lnTo>
                      <a:pt x="3" y="94"/>
                    </a:lnTo>
                    <a:lnTo>
                      <a:pt x="0" y="90"/>
                    </a:lnTo>
                    <a:lnTo>
                      <a:pt x="1" y="85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326560" y="4606920"/>
                <a:ext cx="253440" cy="46800"/>
              </a:xfrm>
              <a:custGeom>
                <a:avLst/>
                <a:gdLst/>
                <a:ahLst/>
                <a:rect l="l" t="t" r="r" b="b"/>
                <a:pathLst>
                  <a:path w="353" h="62">
                    <a:moveTo>
                      <a:pt x="47" y="0"/>
                    </a:moveTo>
                    <a:lnTo>
                      <a:pt x="335" y="0"/>
                    </a:lnTo>
                    <a:lnTo>
                      <a:pt x="352" y="61"/>
                    </a:lnTo>
                    <a:lnTo>
                      <a:pt x="0" y="6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587560" y="4606920"/>
                <a:ext cx="77400" cy="4680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0" y="0"/>
                    </a:moveTo>
                    <a:lnTo>
                      <a:pt x="63" y="0"/>
                    </a:lnTo>
                    <a:lnTo>
                      <a:pt x="107" y="61"/>
                    </a:lnTo>
                    <a:lnTo>
                      <a:pt x="20" y="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5370480" y="4378320"/>
              <a:ext cx="244440" cy="213120"/>
              <a:chOff x="5370480" y="4378320"/>
              <a:chExt cx="244440" cy="213120"/>
            </a:xfrm>
          </p:grpSpPr>
          <p:sp>
            <p:nvSpPr>
              <p:cNvPr id="222" name=""/>
              <p:cNvSpPr/>
              <p:nvPr/>
            </p:nvSpPr>
            <p:spPr>
              <a:xfrm>
                <a:off x="5370480" y="4378320"/>
                <a:ext cx="244440" cy="213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385960" y="4396320"/>
                <a:ext cx="212040" cy="1792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574600" y="4396320"/>
                <a:ext cx="22680" cy="179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582520" y="4406040"/>
                <a:ext cx="6480" cy="3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583960" y="4487760"/>
                <a:ext cx="2880" cy="2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583960" y="4521960"/>
                <a:ext cx="2880" cy="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583960" y="4555080"/>
                <a:ext cx="2880" cy="2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5392080" y="4390200"/>
              <a:ext cx="198720" cy="182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943600" y="4127400"/>
            <a:ext cx="501480" cy="233280"/>
            <a:chOff x="5943600" y="4127400"/>
            <a:chExt cx="501480" cy="233280"/>
          </a:xfrm>
        </p:grpSpPr>
        <p:sp>
          <p:nvSpPr>
            <p:cNvPr id="231" name=""/>
            <p:cNvSpPr/>
            <p:nvPr/>
          </p:nvSpPr>
          <p:spPr>
            <a:xfrm>
              <a:off x="5947560" y="4231440"/>
              <a:ext cx="497160" cy="12924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47560" y="42206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445080" y="42206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7560" y="4220640"/>
              <a:ext cx="492840" cy="78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943600" y="4127400"/>
              <a:ext cx="496800" cy="15084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6063120" y="4160160"/>
              <a:ext cx="246240" cy="88560"/>
              <a:chOff x="6063120" y="4160160"/>
              <a:chExt cx="246240" cy="88560"/>
            </a:xfrm>
          </p:grpSpPr>
          <p:sp>
            <p:nvSpPr>
              <p:cNvPr id="237" name=""/>
              <p:cNvSpPr/>
              <p:nvPr/>
            </p:nvSpPr>
            <p:spPr>
              <a:xfrm flipV="1">
                <a:off x="6063120" y="4160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231960" y="42487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144120" y="41623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6063120" y="4159080"/>
              <a:ext cx="246240" cy="88560"/>
              <a:chOff x="6063120" y="4159080"/>
              <a:chExt cx="246240" cy="88560"/>
            </a:xfrm>
          </p:grpSpPr>
          <p:sp>
            <p:nvSpPr>
              <p:cNvPr id="241" name=""/>
              <p:cNvSpPr/>
              <p:nvPr/>
            </p:nvSpPr>
            <p:spPr>
              <a:xfrm>
                <a:off x="6063120" y="4245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231960" y="4159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6144120" y="41590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4" name=""/>
          <p:cNvGrpSpPr/>
          <p:nvPr/>
        </p:nvGrpSpPr>
        <p:grpSpPr>
          <a:xfrm>
            <a:off x="6993000" y="5375160"/>
            <a:ext cx="379440" cy="325440"/>
            <a:chOff x="6993000" y="5375160"/>
            <a:chExt cx="379440" cy="325440"/>
          </a:xfrm>
        </p:grpSpPr>
        <p:pic>
          <p:nvPicPr>
            <p:cNvPr id="245" name="" descr=""/>
            <p:cNvPicPr/>
            <p:nvPr/>
          </p:nvPicPr>
          <p:blipFill>
            <a:blip r:embed="rId5"/>
            <a:stretch/>
          </p:blipFill>
          <p:spPr>
            <a:xfrm>
              <a:off x="6993000" y="5375160"/>
              <a:ext cx="379440" cy="3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6"/>
            <a:stretch/>
          </p:blipFill>
          <p:spPr>
            <a:xfrm>
              <a:off x="7073280" y="5413680"/>
              <a:ext cx="160200" cy="13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7" name=""/>
          <p:cNvGrpSpPr/>
          <p:nvPr/>
        </p:nvGrpSpPr>
        <p:grpSpPr>
          <a:xfrm>
            <a:off x="6616800" y="4653000"/>
            <a:ext cx="501480" cy="232920"/>
            <a:chOff x="6616800" y="4653000"/>
            <a:chExt cx="501480" cy="232920"/>
          </a:xfrm>
        </p:grpSpPr>
        <p:sp>
          <p:nvSpPr>
            <p:cNvPr id="248" name=""/>
            <p:cNvSpPr/>
            <p:nvPr/>
          </p:nvSpPr>
          <p:spPr>
            <a:xfrm>
              <a:off x="6620760" y="4757040"/>
              <a:ext cx="497160" cy="1288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620760" y="47458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118280" y="47458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620760" y="4745880"/>
              <a:ext cx="492840" cy="78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616800" y="4653000"/>
              <a:ext cx="496800" cy="1504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6736320" y="4685760"/>
              <a:ext cx="246240" cy="88200"/>
              <a:chOff x="6736320" y="4685760"/>
              <a:chExt cx="246240" cy="88200"/>
            </a:xfrm>
          </p:grpSpPr>
          <p:sp>
            <p:nvSpPr>
              <p:cNvPr id="254" name=""/>
              <p:cNvSpPr/>
              <p:nvPr/>
            </p:nvSpPr>
            <p:spPr>
              <a:xfrm flipV="1">
                <a:off x="6736320" y="46857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905160" y="47739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817320" y="46879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6736320" y="4685040"/>
              <a:ext cx="246240" cy="88200"/>
              <a:chOff x="6736320" y="4685040"/>
              <a:chExt cx="246240" cy="88200"/>
            </a:xfrm>
          </p:grpSpPr>
          <p:sp>
            <p:nvSpPr>
              <p:cNvPr id="258" name=""/>
              <p:cNvSpPr/>
              <p:nvPr/>
            </p:nvSpPr>
            <p:spPr>
              <a:xfrm>
                <a:off x="6736320" y="47714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905160" y="46850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6817320" y="46850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1" name=""/>
          <p:cNvGrpSpPr/>
          <p:nvPr/>
        </p:nvGrpSpPr>
        <p:grpSpPr>
          <a:xfrm>
            <a:off x="7281720" y="2992320"/>
            <a:ext cx="501840" cy="233280"/>
            <a:chOff x="7281720" y="2992320"/>
            <a:chExt cx="501840" cy="233280"/>
          </a:xfrm>
        </p:grpSpPr>
        <p:sp>
          <p:nvSpPr>
            <p:cNvPr id="262" name=""/>
            <p:cNvSpPr/>
            <p:nvPr/>
          </p:nvSpPr>
          <p:spPr>
            <a:xfrm>
              <a:off x="7285680" y="3096360"/>
              <a:ext cx="497520" cy="12924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285680" y="308556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783560" y="308556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85680" y="3085560"/>
              <a:ext cx="493200" cy="78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281720" y="2992320"/>
              <a:ext cx="497160" cy="15084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7401240" y="3025080"/>
              <a:ext cx="246240" cy="88560"/>
              <a:chOff x="7401240" y="3025080"/>
              <a:chExt cx="246240" cy="88560"/>
            </a:xfrm>
          </p:grpSpPr>
          <p:sp>
            <p:nvSpPr>
              <p:cNvPr id="268" name=""/>
              <p:cNvSpPr/>
              <p:nvPr/>
            </p:nvSpPr>
            <p:spPr>
              <a:xfrm flipV="1">
                <a:off x="7401240" y="30250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570080" y="3113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482240" y="302724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7401240" y="3024000"/>
              <a:ext cx="246240" cy="88560"/>
              <a:chOff x="7401240" y="3024000"/>
              <a:chExt cx="246240" cy="88560"/>
            </a:xfrm>
          </p:grpSpPr>
          <p:sp>
            <p:nvSpPr>
              <p:cNvPr id="272" name=""/>
              <p:cNvSpPr/>
              <p:nvPr/>
            </p:nvSpPr>
            <p:spPr>
              <a:xfrm>
                <a:off x="7401240" y="31107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570080" y="30240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82240" y="302400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275" name=""/>
          <p:cNvGraphicFramePr/>
          <p:nvPr/>
        </p:nvGraphicFramePr>
        <p:xfrm>
          <a:off x="5711760" y="3149640"/>
          <a:ext cx="250920" cy="425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1760" y="3149640"/>
                    <a:ext cx="25092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7686720" y="4309920"/>
          <a:ext cx="250920" cy="425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86720" y="4309920"/>
                    <a:ext cx="25092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6202440" y="3165480"/>
          <a:ext cx="250920" cy="425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02440" y="3165480"/>
                    <a:ext cx="25092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1" name=""/>
          <p:cNvGrpSpPr/>
          <p:nvPr/>
        </p:nvGrpSpPr>
        <p:grpSpPr>
          <a:xfrm>
            <a:off x="4853160" y="2933640"/>
            <a:ext cx="380880" cy="286920"/>
            <a:chOff x="4853160" y="2933640"/>
            <a:chExt cx="380880" cy="286920"/>
          </a:xfrm>
        </p:grpSpPr>
        <p:grpSp>
          <p:nvGrpSpPr>
            <p:cNvPr id="282" name=""/>
            <p:cNvGrpSpPr/>
            <p:nvPr/>
          </p:nvGrpSpPr>
          <p:grpSpPr>
            <a:xfrm>
              <a:off x="4853160" y="3147480"/>
              <a:ext cx="380880" cy="73080"/>
              <a:chOff x="4853160" y="3147480"/>
              <a:chExt cx="380880" cy="73080"/>
            </a:xfrm>
          </p:grpSpPr>
          <p:sp>
            <p:nvSpPr>
              <p:cNvPr id="283" name=""/>
              <p:cNvSpPr/>
              <p:nvPr/>
            </p:nvSpPr>
            <p:spPr>
              <a:xfrm>
                <a:off x="4853160" y="3147480"/>
                <a:ext cx="380880" cy="7308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66" y="0"/>
                    </a:moveTo>
                    <a:lnTo>
                      <a:pt x="466" y="0"/>
                    </a:lnTo>
                    <a:lnTo>
                      <a:pt x="529" y="87"/>
                    </a:lnTo>
                    <a:lnTo>
                      <a:pt x="530" y="91"/>
                    </a:lnTo>
                    <a:lnTo>
                      <a:pt x="528" y="95"/>
                    </a:lnTo>
                    <a:lnTo>
                      <a:pt x="524" y="96"/>
                    </a:lnTo>
                    <a:lnTo>
                      <a:pt x="8" y="96"/>
                    </a:lnTo>
                    <a:lnTo>
                      <a:pt x="3" y="94"/>
                    </a:lnTo>
                    <a:lnTo>
                      <a:pt x="0" y="90"/>
                    </a:lnTo>
                    <a:lnTo>
                      <a:pt x="1" y="85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874400" y="3162240"/>
                <a:ext cx="253440" cy="46800"/>
              </a:xfrm>
              <a:custGeom>
                <a:avLst/>
                <a:gdLst/>
                <a:ahLst/>
                <a:rect l="l" t="t" r="r" b="b"/>
                <a:pathLst>
                  <a:path w="353" h="62">
                    <a:moveTo>
                      <a:pt x="47" y="0"/>
                    </a:moveTo>
                    <a:lnTo>
                      <a:pt x="335" y="0"/>
                    </a:lnTo>
                    <a:lnTo>
                      <a:pt x="352" y="61"/>
                    </a:lnTo>
                    <a:lnTo>
                      <a:pt x="0" y="6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135040" y="3162240"/>
                <a:ext cx="77400" cy="4680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0" y="0"/>
                    </a:moveTo>
                    <a:lnTo>
                      <a:pt x="63" y="0"/>
                    </a:lnTo>
                    <a:lnTo>
                      <a:pt x="107" y="61"/>
                    </a:lnTo>
                    <a:lnTo>
                      <a:pt x="20" y="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918320" y="2933640"/>
              <a:ext cx="244440" cy="213120"/>
              <a:chOff x="4918320" y="2933640"/>
              <a:chExt cx="244440" cy="213120"/>
            </a:xfrm>
          </p:grpSpPr>
          <p:sp>
            <p:nvSpPr>
              <p:cNvPr id="287" name=""/>
              <p:cNvSpPr/>
              <p:nvPr/>
            </p:nvSpPr>
            <p:spPr>
              <a:xfrm>
                <a:off x="4918320" y="2933640"/>
                <a:ext cx="244440" cy="213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933800" y="2951640"/>
                <a:ext cx="212040" cy="1792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122440" y="2951640"/>
                <a:ext cx="22680" cy="179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130360" y="2961360"/>
                <a:ext cx="6480" cy="3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131800" y="3043080"/>
                <a:ext cx="2880" cy="2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131800" y="3077280"/>
                <a:ext cx="2880" cy="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131800" y="3110400"/>
                <a:ext cx="2880" cy="2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4939920" y="2945520"/>
              <a:ext cx="198360" cy="182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4848120" y="2330280"/>
            <a:ext cx="381240" cy="287640"/>
            <a:chOff x="4848120" y="2330280"/>
            <a:chExt cx="381240" cy="287640"/>
          </a:xfrm>
        </p:grpSpPr>
        <p:grpSp>
          <p:nvGrpSpPr>
            <p:cNvPr id="296" name=""/>
            <p:cNvGrpSpPr/>
            <p:nvPr/>
          </p:nvGrpSpPr>
          <p:grpSpPr>
            <a:xfrm>
              <a:off x="4848120" y="2544480"/>
              <a:ext cx="381240" cy="73440"/>
              <a:chOff x="4848120" y="2544480"/>
              <a:chExt cx="381240" cy="73440"/>
            </a:xfrm>
          </p:grpSpPr>
          <p:sp>
            <p:nvSpPr>
              <p:cNvPr id="297" name=""/>
              <p:cNvSpPr/>
              <p:nvPr/>
            </p:nvSpPr>
            <p:spPr>
              <a:xfrm>
                <a:off x="4848120" y="2544480"/>
                <a:ext cx="381240" cy="7344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66" y="0"/>
                    </a:moveTo>
                    <a:lnTo>
                      <a:pt x="466" y="0"/>
                    </a:lnTo>
                    <a:lnTo>
                      <a:pt x="529" y="87"/>
                    </a:lnTo>
                    <a:lnTo>
                      <a:pt x="530" y="91"/>
                    </a:lnTo>
                    <a:lnTo>
                      <a:pt x="528" y="95"/>
                    </a:lnTo>
                    <a:lnTo>
                      <a:pt x="524" y="96"/>
                    </a:lnTo>
                    <a:lnTo>
                      <a:pt x="8" y="96"/>
                    </a:lnTo>
                    <a:lnTo>
                      <a:pt x="3" y="94"/>
                    </a:lnTo>
                    <a:lnTo>
                      <a:pt x="0" y="90"/>
                    </a:lnTo>
                    <a:lnTo>
                      <a:pt x="1" y="85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869360" y="2559600"/>
                <a:ext cx="253440" cy="46800"/>
              </a:xfrm>
              <a:custGeom>
                <a:avLst/>
                <a:gdLst/>
                <a:ahLst/>
                <a:rect l="l" t="t" r="r" b="b"/>
                <a:pathLst>
                  <a:path w="353" h="62">
                    <a:moveTo>
                      <a:pt x="47" y="0"/>
                    </a:moveTo>
                    <a:lnTo>
                      <a:pt x="335" y="0"/>
                    </a:lnTo>
                    <a:lnTo>
                      <a:pt x="352" y="61"/>
                    </a:lnTo>
                    <a:lnTo>
                      <a:pt x="0" y="6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130360" y="2559600"/>
                <a:ext cx="77400" cy="4680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0" y="0"/>
                    </a:moveTo>
                    <a:lnTo>
                      <a:pt x="63" y="0"/>
                    </a:lnTo>
                    <a:lnTo>
                      <a:pt x="107" y="61"/>
                    </a:lnTo>
                    <a:lnTo>
                      <a:pt x="20" y="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4913280" y="2330280"/>
              <a:ext cx="244440" cy="213480"/>
              <a:chOff x="4913280" y="2330280"/>
              <a:chExt cx="244440" cy="213480"/>
            </a:xfrm>
          </p:grpSpPr>
          <p:sp>
            <p:nvSpPr>
              <p:cNvPr id="301" name=""/>
              <p:cNvSpPr/>
              <p:nvPr/>
            </p:nvSpPr>
            <p:spPr>
              <a:xfrm>
                <a:off x="4913280" y="2330280"/>
                <a:ext cx="244440" cy="213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928760" y="2348280"/>
                <a:ext cx="212040" cy="1792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117400" y="2348280"/>
                <a:ext cx="22680" cy="179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125320" y="2358000"/>
                <a:ext cx="6480" cy="3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126760" y="2440080"/>
                <a:ext cx="2880" cy="2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126760" y="2474280"/>
                <a:ext cx="2880" cy="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126760" y="2507400"/>
                <a:ext cx="2880" cy="2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4934880" y="2342160"/>
              <a:ext cx="198720" cy="182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 flipV="1">
            <a:off x="6527880" y="3131640"/>
            <a:ext cx="1455480" cy="218916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6700680" y="3335040"/>
            <a:ext cx="1366200" cy="207720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8040600" y="1565280"/>
            <a:ext cx="625320" cy="367920"/>
            <a:chOff x="8040600" y="1565280"/>
            <a:chExt cx="625320" cy="367920"/>
          </a:xfrm>
        </p:grpSpPr>
        <p:sp>
          <p:nvSpPr>
            <p:cNvPr id="312" name=""/>
            <p:cNvSpPr/>
            <p:nvPr/>
          </p:nvSpPr>
          <p:spPr>
            <a:xfrm>
              <a:off x="8045640" y="1729440"/>
              <a:ext cx="620280" cy="20376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045640" y="1712160"/>
              <a:ext cx="0" cy="12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665920" y="1712160"/>
              <a:ext cx="0" cy="12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045640" y="1712160"/>
              <a:ext cx="614880" cy="124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040600" y="1565280"/>
              <a:ext cx="619920" cy="23760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8189640" y="1617480"/>
              <a:ext cx="307080" cy="138600"/>
              <a:chOff x="8189640" y="1617480"/>
              <a:chExt cx="307080" cy="138600"/>
            </a:xfrm>
          </p:grpSpPr>
          <p:sp>
            <p:nvSpPr>
              <p:cNvPr id="318" name=""/>
              <p:cNvSpPr/>
              <p:nvPr/>
            </p:nvSpPr>
            <p:spPr>
              <a:xfrm flipV="1">
                <a:off x="8189640" y="1617480"/>
                <a:ext cx="10944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8400240" y="1756080"/>
                <a:ext cx="96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290440" y="1620360"/>
                <a:ext cx="113760" cy="13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8189640" y="1615320"/>
              <a:ext cx="307080" cy="138600"/>
              <a:chOff x="8189640" y="1615320"/>
              <a:chExt cx="307080" cy="138600"/>
            </a:xfrm>
          </p:grpSpPr>
          <p:sp>
            <p:nvSpPr>
              <p:cNvPr id="322" name=""/>
              <p:cNvSpPr/>
              <p:nvPr/>
            </p:nvSpPr>
            <p:spPr>
              <a:xfrm>
                <a:off x="8189640" y="1751040"/>
                <a:ext cx="10944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400240" y="1615320"/>
                <a:ext cx="96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8290440" y="1615320"/>
                <a:ext cx="113760" cy="13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8113680" y="2203560"/>
            <a:ext cx="814320" cy="1033200"/>
            <a:chOff x="8113680" y="2203560"/>
            <a:chExt cx="814320" cy="1033200"/>
          </a:xfrm>
        </p:grpSpPr>
        <p:grpSp>
          <p:nvGrpSpPr>
            <p:cNvPr id="326" name=""/>
            <p:cNvGrpSpPr/>
            <p:nvPr/>
          </p:nvGrpSpPr>
          <p:grpSpPr>
            <a:xfrm>
              <a:off x="8172360" y="2203560"/>
              <a:ext cx="709560" cy="823680"/>
              <a:chOff x="8172360" y="2203560"/>
              <a:chExt cx="709560" cy="823680"/>
            </a:xfrm>
          </p:grpSpPr>
          <p:sp>
            <p:nvSpPr>
              <p:cNvPr id="327" name=""/>
              <p:cNvSpPr/>
              <p:nvPr/>
            </p:nvSpPr>
            <p:spPr>
              <a:xfrm>
                <a:off x="8205480" y="220356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8172360" y="2227320"/>
                <a:ext cx="690480" cy="799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177040" y="2232000"/>
                <a:ext cx="676080" cy="20016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8172360" y="25700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8181720" y="27082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181720" y="28465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8113680" y="2229120"/>
              <a:ext cx="8143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34" name=""/>
          <p:cNvGraphicFramePr/>
          <p:nvPr/>
        </p:nvGraphicFramePr>
        <p:xfrm>
          <a:off x="7991640" y="2987640"/>
          <a:ext cx="250560" cy="425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991640" y="2987640"/>
                    <a:ext cx="25056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7693200" y="4800600"/>
          <a:ext cx="250560" cy="425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93200" y="4800600"/>
                    <a:ext cx="25056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 flipH="1" flipV="1">
            <a:off x="8066160" y="2904840"/>
            <a:ext cx="2232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580000" y="5392800"/>
            <a:ext cx="814320" cy="1033200"/>
            <a:chOff x="5580000" y="5392800"/>
            <a:chExt cx="814320" cy="1033200"/>
          </a:xfrm>
        </p:grpSpPr>
        <p:grpSp>
          <p:nvGrpSpPr>
            <p:cNvPr id="340" name=""/>
            <p:cNvGrpSpPr/>
            <p:nvPr/>
          </p:nvGrpSpPr>
          <p:grpSpPr>
            <a:xfrm>
              <a:off x="5638680" y="5392800"/>
              <a:ext cx="709560" cy="823680"/>
              <a:chOff x="5638680" y="5392800"/>
              <a:chExt cx="709560" cy="823680"/>
            </a:xfrm>
          </p:grpSpPr>
          <p:sp>
            <p:nvSpPr>
              <p:cNvPr id="341" name=""/>
              <p:cNvSpPr/>
              <p:nvPr/>
            </p:nvSpPr>
            <p:spPr>
              <a:xfrm>
                <a:off x="5671800" y="539280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638680" y="5416560"/>
                <a:ext cx="690480" cy="799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643360" y="5421240"/>
                <a:ext cx="676080" cy="20016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638680" y="57592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648040" y="58975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648040" y="60357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5580000" y="5418360"/>
              <a:ext cx="8143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354720" y="5348160"/>
            <a:ext cx="379440" cy="325440"/>
            <a:chOff x="6354720" y="5348160"/>
            <a:chExt cx="379440" cy="325440"/>
          </a:xfrm>
        </p:grpSpPr>
        <p:pic>
          <p:nvPicPr>
            <p:cNvPr id="349" name="" descr=""/>
            <p:cNvPicPr/>
            <p:nvPr/>
          </p:nvPicPr>
          <p:blipFill>
            <a:blip r:embed="rId17"/>
            <a:stretch/>
          </p:blipFill>
          <p:spPr>
            <a:xfrm>
              <a:off x="6354720" y="5348160"/>
              <a:ext cx="379440" cy="3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18"/>
            <a:stretch/>
          </p:blipFill>
          <p:spPr>
            <a:xfrm>
              <a:off x="6435000" y="5386680"/>
              <a:ext cx="160200" cy="13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"/>
          <p:cNvSpPr/>
          <p:nvPr/>
        </p:nvSpPr>
        <p:spPr>
          <a:xfrm>
            <a:off x="6661080" y="5407200"/>
            <a:ext cx="82800" cy="180720"/>
          </a:xfrm>
          <a:custGeom>
            <a:avLst/>
            <a:gdLst/>
            <a:ahLst/>
            <a:rect l="l" t="t" r="r" b="b"/>
            <a:pathLst>
              <a:path w="52" h="114">
                <a:moveTo>
                  <a:pt x="0" y="114"/>
                </a:moveTo>
                <a:cubicBezTo>
                  <a:pt x="19" y="86"/>
                  <a:pt x="26" y="79"/>
                  <a:pt x="7" y="50"/>
                </a:cubicBezTo>
                <a:cubicBezTo>
                  <a:pt x="52" y="35"/>
                  <a:pt x="14" y="55"/>
                  <a:pt x="14" y="22"/>
                </a:cubicBezTo>
                <a:cubicBezTo>
                  <a:pt x="14" y="21"/>
                  <a:pt x="31" y="4"/>
                  <a:pt x="3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hone3"/>
          <p:cNvSpPr/>
          <p:nvPr/>
        </p:nvSpPr>
        <p:spPr>
          <a:xfrm>
            <a:off x="5359320" y="2376360"/>
            <a:ext cx="231840" cy="2653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hone3"/>
          <p:cNvSpPr/>
          <p:nvPr/>
        </p:nvSpPr>
        <p:spPr>
          <a:xfrm>
            <a:off x="5400720" y="2962440"/>
            <a:ext cx="231840" cy="2649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5138640" y="2523600"/>
            <a:ext cx="23832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154480" y="3129120"/>
            <a:ext cx="23832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291440" y="5437080"/>
            <a:ext cx="82440" cy="181080"/>
          </a:xfrm>
          <a:custGeom>
            <a:avLst/>
            <a:gdLst/>
            <a:ahLst/>
            <a:rect l="l" t="t" r="r" b="b"/>
            <a:pathLst>
              <a:path w="52" h="114">
                <a:moveTo>
                  <a:pt x="0" y="114"/>
                </a:moveTo>
                <a:cubicBezTo>
                  <a:pt x="19" y="86"/>
                  <a:pt x="26" y="79"/>
                  <a:pt x="7" y="50"/>
                </a:cubicBezTo>
                <a:cubicBezTo>
                  <a:pt x="52" y="35"/>
                  <a:pt x="14" y="55"/>
                  <a:pt x="14" y="22"/>
                </a:cubicBezTo>
                <a:cubicBezTo>
                  <a:pt x="14" y="21"/>
                  <a:pt x="31" y="4"/>
                  <a:pt x="3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78600" y="2448000"/>
            <a:ext cx="1150920" cy="236052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5059080" y="2624040"/>
            <a:ext cx="1106280" cy="217800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5106960" y="1542960"/>
            <a:ext cx="814320" cy="1033200"/>
            <a:chOff x="5106960" y="1542960"/>
            <a:chExt cx="814320" cy="1033200"/>
          </a:xfrm>
        </p:grpSpPr>
        <p:grpSp>
          <p:nvGrpSpPr>
            <p:cNvPr id="360" name=""/>
            <p:cNvGrpSpPr/>
            <p:nvPr/>
          </p:nvGrpSpPr>
          <p:grpSpPr>
            <a:xfrm>
              <a:off x="5165640" y="1542960"/>
              <a:ext cx="709560" cy="823680"/>
              <a:chOff x="5165640" y="1542960"/>
              <a:chExt cx="709560" cy="823680"/>
            </a:xfrm>
          </p:grpSpPr>
          <p:sp>
            <p:nvSpPr>
              <p:cNvPr id="361" name=""/>
              <p:cNvSpPr/>
              <p:nvPr/>
            </p:nvSpPr>
            <p:spPr>
              <a:xfrm>
                <a:off x="5198760" y="154296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165640" y="1566720"/>
                <a:ext cx="690480" cy="799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170320" y="1571400"/>
                <a:ext cx="676080" cy="20016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165640" y="19094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175000" y="20476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175000" y="21859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5106960" y="1568520"/>
              <a:ext cx="8143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6835680" y="4968720"/>
            <a:ext cx="271440" cy="328680"/>
          </a:xfrm>
          <a:prstGeom prst="sun">
            <a:avLst>
              <a:gd name="adj" fmla="val 374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Cloud"/>
          <p:cNvSpPr/>
          <p:nvPr/>
        </p:nvSpPr>
        <p:spPr>
          <a:xfrm>
            <a:off x="7105680" y="1446120"/>
            <a:ext cx="1785960" cy="792360"/>
          </a:xfrm>
          <a:prstGeom prst="pie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1D35-5791-40A7-B4AD-92A3AEABF92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Netscape Solutio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multiple concurrent connections to improve response ti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t parts of Web page arrive independent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grab more of the network bandwidth than other us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esn’t necessarily improve response ti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CP loss recovery ends up being timeout dominated because windows are sma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B5BA-52C0-48EB-A7F3-06BFB43004A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HTTP 1.1: Persistent Connection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eeps connection open for a time after server response so that multiple requests can ride on single connectio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&gt; reduced connection setup overhea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T index.htm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nection: keep-ali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ltiple HTTP requests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t banner.gi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nection: clo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E5F0-3126-450A-9A39-8376AC9D645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ersistent Connection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44" name=""/>
          <p:cNvSpPr/>
          <p:nvPr/>
        </p:nvSpPr>
        <p:spPr>
          <a:xfrm>
            <a:off x="304920" y="1752480"/>
            <a:ext cx="8458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3504960" y="1828440"/>
            <a:ext cx="91116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6" name=""/>
          <p:cNvSpPr/>
          <p:nvPr/>
        </p:nvSpPr>
        <p:spPr>
          <a:xfrm>
            <a:off x="6553080" y="182880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43400" y="1905120"/>
            <a:ext cx="0" cy="4114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553080" y="1905120"/>
            <a:ext cx="0" cy="4114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343400" y="2438280"/>
            <a:ext cx="2209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4343400" y="274320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H="1">
            <a:off x="4343400" y="31240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343400" y="33526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343400" y="373392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flipH="1">
            <a:off x="4343400" y="3962520"/>
            <a:ext cx="2209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4343400" y="4343400"/>
            <a:ext cx="2209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343400" y="26668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019920" y="3276720"/>
            <a:ext cx="609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019920" y="41148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99"/>
                </a:solidFill>
                <a:latin typeface="Arial"/>
              </a:rPr>
              <a:t>D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019920" y="24382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99"/>
                </a:solidFill>
                <a:latin typeface="Arial"/>
              </a:rPr>
              <a:t>D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343400" y="40384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590920" y="228600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 RT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H="1">
            <a:off x="3200040" y="2438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590920" y="320040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RT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flipH="1">
            <a:off x="3200040" y="3352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590920" y="457200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RT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>
            <a:off x="3200040" y="4724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629400" y="2743200"/>
            <a:ext cx="2057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reads from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6629400" y="2743200"/>
            <a:ext cx="0" cy="30492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80880" y="2590920"/>
            <a:ext cx="3048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6291a"/>
                </a:solidFill>
                <a:latin typeface="Arial"/>
              </a:rPr>
              <a:t>Client sends HTTP request for 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80880" y="3657600"/>
            <a:ext cx="2743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parses 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sends HTTP request for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80880" y="4952880"/>
            <a:ext cx="2743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6291a"/>
                </a:solidFill>
                <a:latin typeface="Arial"/>
              </a:rPr>
              <a:t>Image begins to arr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019920" y="36576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99"/>
                </a:solidFill>
                <a:latin typeface="Arial"/>
              </a:rPr>
              <a:t>D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629400" y="3962520"/>
            <a:ext cx="2057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reads from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6629400" y="3962520"/>
            <a:ext cx="0" cy="30456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4267080" y="3352680"/>
            <a:ext cx="0" cy="30492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6019920" y="28954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99"/>
                </a:solidFill>
                <a:latin typeface="Arial"/>
              </a:rPr>
              <a:t>D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53EA-7616-479A-AD58-529A59E76A5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onnection length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does the data en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 persistent connections, when connection clos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 persistent connections, reply header includes content length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B716-3125-42D8-9338-3DBB2941C56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1444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Non-persistent and persistent connection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95000" y="9810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n-persist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TTP/1.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rver parses request, responds, and closes TCP conne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RTTs to fetch each obje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object transfer suffers from slow sta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428720" y="97128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ersist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ault for HTTP/1.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same TCP connection: server, parses request, responds, parses new request,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ent sends requests for all referenced objects as soon as it receives base HTM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wer RTTs and less slow st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2" name=""/>
          <p:cNvSpPr/>
          <p:nvPr/>
        </p:nvSpPr>
        <p:spPr>
          <a:xfrm>
            <a:off x="354960" y="5398920"/>
            <a:ext cx="398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ut most 1.0 browsers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arallel TCP conne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F255-0B31-4D3A-9A36-E640DA75DEA2}" type="slidenum">
              <a:t>4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800" y="32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ersistent Connection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550800" y="1410840"/>
            <a:ext cx="777240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rialized requests do not improve response tim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pelining reques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all – request HTML document and all embe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quires server to parse HTML fi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esn’t consider client cached docu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list – request a set of docu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lemented as a simple set of G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fetch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st carefully balance impact of unused data transf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A4F3-F213-49DD-9A5D-438006645F7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ersistent Connection Performanc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nefits greatest for small objec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rver resource utilization reduced due to fewer connection establishments and fewer active connection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CP behavior improv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nger connections help adaptation to available bandwidt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rger congestion window improves loss recove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31BF-576D-4C7C-889E-444649D9C6C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685800" y="68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aching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685800" y="1297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rove performa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ala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onse ti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ad balanc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ves network and server resour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xy cac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e at the client s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6FB9-C406-493A-9C27-90D85E4C3A1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Web Caches (proxy server)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19040" y="1553760"/>
            <a:ext cx="3718080" cy="33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r sets browser: Web accesses via web ca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ent sends all http requests to  web ca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object at web cache, web cache immediately returns object in http respons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se requests object from origin server, then returns http response to cli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1" name=""/>
          <p:cNvSpPr/>
          <p:nvPr/>
        </p:nvSpPr>
        <p:spPr>
          <a:xfrm>
            <a:off x="431640" y="976320"/>
            <a:ext cx="8060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ill client request without going to origin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040640" y="34131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970960" y="2841480"/>
            <a:ext cx="9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767120" y="3102120"/>
            <a:ext cx="1327320" cy="599760"/>
          </a:xfrm>
          <a:prstGeom prst="line">
            <a:avLst/>
          </a:prstGeom>
          <a:ln w="2844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H="1" flipV="1">
            <a:off x="4692240" y="3195720"/>
            <a:ext cx="1351080" cy="627120"/>
          </a:xfrm>
          <a:prstGeom prst="line">
            <a:avLst/>
          </a:prstGeom>
          <a:ln w="2844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V="1">
            <a:off x="4737240" y="4295880"/>
            <a:ext cx="1401480" cy="760320"/>
          </a:xfrm>
          <a:prstGeom prst="line">
            <a:avLst/>
          </a:prstGeom>
          <a:ln w="2844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 flipH="1">
            <a:off x="4721400" y="4416480"/>
            <a:ext cx="1403280" cy="785880"/>
          </a:xfrm>
          <a:prstGeom prst="line">
            <a:avLst/>
          </a:prstGeom>
          <a:ln w="2844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053240" y="53895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rot="1422000">
            <a:off x="4759560" y="308448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http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rot="19906800">
            <a:off x="4671360" y="440028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http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rot="1411200">
            <a:off x="4650120" y="3506400"/>
            <a:ext cx="15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htt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rot="19861800">
            <a:off x="4737960" y="4752360"/>
            <a:ext cx="15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htt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flipV="1">
            <a:off x="6726240" y="3095640"/>
            <a:ext cx="1401840" cy="760320"/>
          </a:xfrm>
          <a:prstGeom prst="line">
            <a:avLst/>
          </a:prstGeom>
          <a:ln w="2844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H="1">
            <a:off x="6721560" y="3238560"/>
            <a:ext cx="1403280" cy="785880"/>
          </a:xfrm>
          <a:prstGeom prst="line">
            <a:avLst/>
          </a:prstGeom>
          <a:ln w="2844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 rot="19906800">
            <a:off x="6604920" y="320004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http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rot="19861800">
            <a:off x="6793920" y="3518640"/>
            <a:ext cx="15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htt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740640" y="4292640"/>
            <a:ext cx="1428480" cy="668160"/>
          </a:xfrm>
          <a:prstGeom prst="line">
            <a:avLst/>
          </a:prstGeom>
          <a:ln w="2844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flipH="1" flipV="1">
            <a:off x="6778800" y="4432320"/>
            <a:ext cx="1350720" cy="627120"/>
          </a:xfrm>
          <a:prstGeom prst="line">
            <a:avLst/>
          </a:prstGeom>
          <a:ln w="2844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rot="1422000">
            <a:off x="6834240" y="434304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http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rot="1411200">
            <a:off x="6632640" y="4709880"/>
            <a:ext cx="15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htt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8129880" y="5477040"/>
            <a:ext cx="93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rigin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8066160" y="2131920"/>
            <a:ext cx="93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rigin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3" name=""/>
          <p:cNvGraphicFramePr/>
          <p:nvPr/>
        </p:nvGraphicFramePr>
        <p:xfrm>
          <a:off x="8263080" y="2700360"/>
          <a:ext cx="546120" cy="75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2700360"/>
                    <a:ext cx="54612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5" name=""/>
          <p:cNvGraphicFramePr/>
          <p:nvPr/>
        </p:nvGraphicFramePr>
        <p:xfrm>
          <a:off x="8245440" y="4711680"/>
          <a:ext cx="557280" cy="75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45440" y="4711680"/>
                    <a:ext cx="55728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7" name=""/>
          <p:cNvGraphicFramePr/>
          <p:nvPr/>
        </p:nvGraphicFramePr>
        <p:xfrm>
          <a:off x="6149880" y="3670200"/>
          <a:ext cx="534960" cy="75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49880" y="3670200"/>
                    <a:ext cx="53496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19" name=""/>
          <p:cNvGrpSpPr/>
          <p:nvPr/>
        </p:nvGrpSpPr>
        <p:grpSpPr>
          <a:xfrm>
            <a:off x="4068720" y="2906640"/>
            <a:ext cx="649440" cy="533160"/>
            <a:chOff x="4068720" y="2906640"/>
            <a:chExt cx="649440" cy="533160"/>
          </a:xfrm>
        </p:grpSpPr>
        <p:grpSp>
          <p:nvGrpSpPr>
            <p:cNvPr id="1320" name=""/>
            <p:cNvGrpSpPr/>
            <p:nvPr/>
          </p:nvGrpSpPr>
          <p:grpSpPr>
            <a:xfrm>
              <a:off x="4068720" y="3303720"/>
              <a:ext cx="649440" cy="136080"/>
              <a:chOff x="4068720" y="3303720"/>
              <a:chExt cx="649440" cy="136080"/>
            </a:xfrm>
          </p:grpSpPr>
          <p:sp>
            <p:nvSpPr>
              <p:cNvPr id="1321" name=""/>
              <p:cNvSpPr/>
              <p:nvPr/>
            </p:nvSpPr>
            <p:spPr>
              <a:xfrm>
                <a:off x="4068720" y="3303720"/>
                <a:ext cx="649440" cy="13608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66" y="0"/>
                    </a:moveTo>
                    <a:lnTo>
                      <a:pt x="466" y="0"/>
                    </a:lnTo>
                    <a:lnTo>
                      <a:pt x="529" y="87"/>
                    </a:lnTo>
                    <a:lnTo>
                      <a:pt x="530" y="91"/>
                    </a:lnTo>
                    <a:lnTo>
                      <a:pt x="528" y="95"/>
                    </a:lnTo>
                    <a:lnTo>
                      <a:pt x="524" y="96"/>
                    </a:lnTo>
                    <a:lnTo>
                      <a:pt x="8" y="96"/>
                    </a:lnTo>
                    <a:lnTo>
                      <a:pt x="3" y="94"/>
                    </a:lnTo>
                    <a:lnTo>
                      <a:pt x="0" y="90"/>
                    </a:lnTo>
                    <a:lnTo>
                      <a:pt x="1" y="85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4105080" y="3331440"/>
                <a:ext cx="431640" cy="86760"/>
              </a:xfrm>
              <a:custGeom>
                <a:avLst/>
                <a:gdLst/>
                <a:ahLst/>
                <a:rect l="l" t="t" r="r" b="b"/>
                <a:pathLst>
                  <a:path w="353" h="62">
                    <a:moveTo>
                      <a:pt x="47" y="0"/>
                    </a:moveTo>
                    <a:lnTo>
                      <a:pt x="335" y="0"/>
                    </a:lnTo>
                    <a:lnTo>
                      <a:pt x="352" y="61"/>
                    </a:lnTo>
                    <a:lnTo>
                      <a:pt x="0" y="6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4549320" y="3331440"/>
                <a:ext cx="131760" cy="8676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0" y="0"/>
                    </a:moveTo>
                    <a:lnTo>
                      <a:pt x="63" y="0"/>
                    </a:lnTo>
                    <a:lnTo>
                      <a:pt x="107" y="61"/>
                    </a:lnTo>
                    <a:lnTo>
                      <a:pt x="20" y="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4" name=""/>
            <p:cNvGrpSpPr/>
            <p:nvPr/>
          </p:nvGrpSpPr>
          <p:grpSpPr>
            <a:xfrm>
              <a:off x="4179960" y="2906640"/>
              <a:ext cx="416520" cy="396000"/>
              <a:chOff x="4179960" y="2906640"/>
              <a:chExt cx="416520" cy="396000"/>
            </a:xfrm>
          </p:grpSpPr>
          <p:sp>
            <p:nvSpPr>
              <p:cNvPr id="1325" name=""/>
              <p:cNvSpPr/>
              <p:nvPr/>
            </p:nvSpPr>
            <p:spPr>
              <a:xfrm>
                <a:off x="4179960" y="2906640"/>
                <a:ext cx="416520" cy="396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4206600" y="2940120"/>
                <a:ext cx="361440" cy="33264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4528080" y="2940120"/>
                <a:ext cx="38880" cy="332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4541400" y="2958480"/>
                <a:ext cx="10800" cy="6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4543920" y="3110040"/>
                <a:ext cx="4680" cy="5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4543920" y="3173400"/>
                <a:ext cx="4680" cy="6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4543920" y="3235320"/>
                <a:ext cx="4680" cy="3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2" name=""/>
            <p:cNvSpPr/>
            <p:nvPr/>
          </p:nvSpPr>
          <p:spPr>
            <a:xfrm>
              <a:off x="4216680" y="2928960"/>
              <a:ext cx="338400" cy="338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3" name=""/>
          <p:cNvGrpSpPr/>
          <p:nvPr/>
        </p:nvGrpSpPr>
        <p:grpSpPr>
          <a:xfrm>
            <a:off x="4068720" y="4870440"/>
            <a:ext cx="649440" cy="533160"/>
            <a:chOff x="4068720" y="4870440"/>
            <a:chExt cx="649440" cy="533160"/>
          </a:xfrm>
        </p:grpSpPr>
        <p:grpSp>
          <p:nvGrpSpPr>
            <p:cNvPr id="1334" name=""/>
            <p:cNvGrpSpPr/>
            <p:nvPr/>
          </p:nvGrpSpPr>
          <p:grpSpPr>
            <a:xfrm>
              <a:off x="4068720" y="5267520"/>
              <a:ext cx="649440" cy="136080"/>
              <a:chOff x="4068720" y="5267520"/>
              <a:chExt cx="649440" cy="136080"/>
            </a:xfrm>
          </p:grpSpPr>
          <p:sp>
            <p:nvSpPr>
              <p:cNvPr id="1335" name=""/>
              <p:cNvSpPr/>
              <p:nvPr/>
            </p:nvSpPr>
            <p:spPr>
              <a:xfrm>
                <a:off x="4068720" y="5267520"/>
                <a:ext cx="649440" cy="13608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66" y="0"/>
                    </a:moveTo>
                    <a:lnTo>
                      <a:pt x="466" y="0"/>
                    </a:lnTo>
                    <a:lnTo>
                      <a:pt x="529" y="87"/>
                    </a:lnTo>
                    <a:lnTo>
                      <a:pt x="530" y="91"/>
                    </a:lnTo>
                    <a:lnTo>
                      <a:pt x="528" y="95"/>
                    </a:lnTo>
                    <a:lnTo>
                      <a:pt x="524" y="96"/>
                    </a:lnTo>
                    <a:lnTo>
                      <a:pt x="8" y="96"/>
                    </a:lnTo>
                    <a:lnTo>
                      <a:pt x="3" y="94"/>
                    </a:lnTo>
                    <a:lnTo>
                      <a:pt x="0" y="90"/>
                    </a:lnTo>
                    <a:lnTo>
                      <a:pt x="1" y="85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4105080" y="5295240"/>
                <a:ext cx="431640" cy="86760"/>
              </a:xfrm>
              <a:custGeom>
                <a:avLst/>
                <a:gdLst/>
                <a:ahLst/>
                <a:rect l="l" t="t" r="r" b="b"/>
                <a:pathLst>
                  <a:path w="353" h="62">
                    <a:moveTo>
                      <a:pt x="47" y="0"/>
                    </a:moveTo>
                    <a:lnTo>
                      <a:pt x="335" y="0"/>
                    </a:lnTo>
                    <a:lnTo>
                      <a:pt x="352" y="61"/>
                    </a:lnTo>
                    <a:lnTo>
                      <a:pt x="0" y="6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4549320" y="5295240"/>
                <a:ext cx="131760" cy="8676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0" y="0"/>
                    </a:moveTo>
                    <a:lnTo>
                      <a:pt x="63" y="0"/>
                    </a:lnTo>
                    <a:lnTo>
                      <a:pt x="107" y="61"/>
                    </a:lnTo>
                    <a:lnTo>
                      <a:pt x="20" y="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8" name=""/>
            <p:cNvGrpSpPr/>
            <p:nvPr/>
          </p:nvGrpSpPr>
          <p:grpSpPr>
            <a:xfrm>
              <a:off x="4179960" y="4870440"/>
              <a:ext cx="416520" cy="396000"/>
              <a:chOff x="4179960" y="4870440"/>
              <a:chExt cx="416520" cy="396000"/>
            </a:xfrm>
          </p:grpSpPr>
          <p:sp>
            <p:nvSpPr>
              <p:cNvPr id="1339" name=""/>
              <p:cNvSpPr/>
              <p:nvPr/>
            </p:nvSpPr>
            <p:spPr>
              <a:xfrm>
                <a:off x="4179960" y="4870440"/>
                <a:ext cx="416520" cy="396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4206600" y="4903920"/>
                <a:ext cx="361440" cy="33264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4528080" y="4903920"/>
                <a:ext cx="38880" cy="332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4541400" y="4922280"/>
                <a:ext cx="10800" cy="6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4543920" y="5073840"/>
                <a:ext cx="4680" cy="5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4543920" y="5137200"/>
                <a:ext cx="4680" cy="6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4543920" y="5199120"/>
                <a:ext cx="4680" cy="3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6" name=""/>
            <p:cNvSpPr/>
            <p:nvPr/>
          </p:nvSpPr>
          <p:spPr>
            <a:xfrm>
              <a:off x="4216680" y="4892760"/>
              <a:ext cx="338400" cy="338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A87D-9AD7-4FDA-95A5-3A92717A887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"/>
          <p:cNvSpPr/>
          <p:nvPr/>
        </p:nvSpPr>
        <p:spPr>
          <a:xfrm flipH="1">
            <a:off x="7269120" y="2887560"/>
            <a:ext cx="517680" cy="2588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H="1">
            <a:off x="6900840" y="2006640"/>
            <a:ext cx="449280" cy="4874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Cloud"/>
          <p:cNvSpPr/>
          <p:nvPr/>
        </p:nvSpPr>
        <p:spPr>
          <a:xfrm>
            <a:off x="5294160" y="2274840"/>
            <a:ext cx="2113200" cy="162900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85800" y="253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Benefits of Web Caching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ssum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ache is “close” to client (e.g., in same network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maller response time: cache “closer” to cli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rease traffic to distant serv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 out of institutional/local ISP network often bottleneck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2" name=""/>
          <p:cNvSpPr/>
          <p:nvPr/>
        </p:nvSpPr>
        <p:spPr>
          <a:xfrm>
            <a:off x="6848640" y="5815080"/>
            <a:ext cx="152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nstitu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roxy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067360" y="2238480"/>
            <a:ext cx="498240" cy="3506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6126120" y="1436760"/>
            <a:ext cx="105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832360" y="1992240"/>
            <a:ext cx="111240" cy="468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6" name=""/>
          <p:cNvGrpSpPr/>
          <p:nvPr/>
        </p:nvGrpSpPr>
        <p:grpSpPr>
          <a:xfrm>
            <a:off x="6145200" y="3379680"/>
            <a:ext cx="501840" cy="233280"/>
            <a:chOff x="6145200" y="3379680"/>
            <a:chExt cx="501840" cy="233280"/>
          </a:xfrm>
        </p:grpSpPr>
        <p:sp>
          <p:nvSpPr>
            <p:cNvPr id="1357" name=""/>
            <p:cNvSpPr/>
            <p:nvPr/>
          </p:nvSpPr>
          <p:spPr>
            <a:xfrm>
              <a:off x="6149160" y="3483720"/>
              <a:ext cx="497520" cy="12924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149160" y="34729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647040" y="34729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149160" y="3472920"/>
              <a:ext cx="493200" cy="78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145200" y="3379680"/>
              <a:ext cx="497160" cy="15084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2" name=""/>
            <p:cNvGrpSpPr/>
            <p:nvPr/>
          </p:nvGrpSpPr>
          <p:grpSpPr>
            <a:xfrm>
              <a:off x="6264720" y="3412440"/>
              <a:ext cx="246240" cy="88560"/>
              <a:chOff x="6264720" y="3412440"/>
              <a:chExt cx="246240" cy="88560"/>
            </a:xfrm>
          </p:grpSpPr>
          <p:sp>
            <p:nvSpPr>
              <p:cNvPr id="1363" name=""/>
              <p:cNvSpPr/>
              <p:nvPr/>
            </p:nvSpPr>
            <p:spPr>
              <a:xfrm flipV="1">
                <a:off x="6264720" y="34124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433560" y="35010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345720" y="341460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6" name=""/>
            <p:cNvGrpSpPr/>
            <p:nvPr/>
          </p:nvGrpSpPr>
          <p:grpSpPr>
            <a:xfrm>
              <a:off x="6264720" y="3411360"/>
              <a:ext cx="246240" cy="88560"/>
              <a:chOff x="6264720" y="3411360"/>
              <a:chExt cx="246240" cy="88560"/>
            </a:xfrm>
          </p:grpSpPr>
          <p:sp>
            <p:nvSpPr>
              <p:cNvPr id="1367" name=""/>
              <p:cNvSpPr/>
              <p:nvPr/>
            </p:nvSpPr>
            <p:spPr>
              <a:xfrm>
                <a:off x="6264720" y="34981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433560" y="3411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flipV="1">
                <a:off x="6345720" y="341136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70" name=""/>
          <p:cNvSpPr/>
          <p:nvPr/>
        </p:nvSpPr>
        <p:spPr>
          <a:xfrm>
            <a:off x="4583160" y="4330800"/>
            <a:ext cx="3585960" cy="1606320"/>
          </a:xfrm>
          <a:custGeom>
            <a:avLst/>
            <a:gdLst/>
            <a:ahLst/>
            <a:rect l="l" t="t" r="r" b="b"/>
            <a:pathLst>
              <a:path w="2259" h="1012">
                <a:moveTo>
                  <a:pt x="0" y="488"/>
                </a:moveTo>
                <a:cubicBezTo>
                  <a:pt x="2" y="348"/>
                  <a:pt x="34" y="120"/>
                  <a:pt x="199" y="60"/>
                </a:cubicBezTo>
                <a:cubicBezTo>
                  <a:pt x="364" y="0"/>
                  <a:pt x="797" y="119"/>
                  <a:pt x="989" y="125"/>
                </a:cubicBezTo>
                <a:cubicBezTo>
                  <a:pt x="1181" y="131"/>
                  <a:pt x="1231" y="104"/>
                  <a:pt x="1351" y="96"/>
                </a:cubicBezTo>
                <a:cubicBezTo>
                  <a:pt x="1471" y="88"/>
                  <a:pt x="1571" y="61"/>
                  <a:pt x="1707" y="75"/>
                </a:cubicBezTo>
                <a:cubicBezTo>
                  <a:pt x="1843" y="89"/>
                  <a:pt x="2083" y="99"/>
                  <a:pt x="2169" y="182"/>
                </a:cubicBezTo>
                <a:cubicBezTo>
                  <a:pt x="2255" y="265"/>
                  <a:pt x="2259" y="446"/>
                  <a:pt x="2226" y="572"/>
                </a:cubicBezTo>
                <a:cubicBezTo>
                  <a:pt x="2193" y="698"/>
                  <a:pt x="2097" y="873"/>
                  <a:pt x="1970" y="941"/>
                </a:cubicBezTo>
                <a:cubicBezTo>
                  <a:pt x="1843" y="1009"/>
                  <a:pt x="1634" y="977"/>
                  <a:pt x="1463" y="982"/>
                </a:cubicBezTo>
                <a:cubicBezTo>
                  <a:pt x="1292" y="987"/>
                  <a:pt x="1108" y="967"/>
                  <a:pt x="946" y="970"/>
                </a:cubicBezTo>
                <a:cubicBezTo>
                  <a:pt x="784" y="973"/>
                  <a:pt x="618" y="1012"/>
                  <a:pt x="491" y="1000"/>
                </a:cubicBezTo>
                <a:cubicBezTo>
                  <a:pt x="364" y="988"/>
                  <a:pt x="267" y="985"/>
                  <a:pt x="185" y="900"/>
                </a:cubicBezTo>
                <a:cubicBezTo>
                  <a:pt x="103" y="815"/>
                  <a:pt x="3" y="635"/>
                  <a:pt x="0" y="488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5172120" y="5094360"/>
            <a:ext cx="2205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5181480" y="509436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691240" y="5103720"/>
            <a:ext cx="0" cy="19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229440" y="509904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729480" y="5099040"/>
            <a:ext cx="0" cy="2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7367760" y="5094360"/>
            <a:ext cx="0" cy="2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7" name=""/>
          <p:cNvGrpSpPr/>
          <p:nvPr/>
        </p:nvGrpSpPr>
        <p:grpSpPr>
          <a:xfrm>
            <a:off x="6145200" y="4670280"/>
            <a:ext cx="501840" cy="233280"/>
            <a:chOff x="6145200" y="4670280"/>
            <a:chExt cx="501840" cy="233280"/>
          </a:xfrm>
        </p:grpSpPr>
        <p:sp>
          <p:nvSpPr>
            <p:cNvPr id="1378" name=""/>
            <p:cNvSpPr/>
            <p:nvPr/>
          </p:nvSpPr>
          <p:spPr>
            <a:xfrm>
              <a:off x="6149160" y="4774320"/>
              <a:ext cx="497520" cy="12924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149160" y="47635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647040" y="47635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149160" y="4763520"/>
              <a:ext cx="493200" cy="78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145200" y="4670280"/>
              <a:ext cx="497160" cy="15084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3" name=""/>
            <p:cNvGrpSpPr/>
            <p:nvPr/>
          </p:nvGrpSpPr>
          <p:grpSpPr>
            <a:xfrm>
              <a:off x="6264720" y="4703040"/>
              <a:ext cx="246240" cy="88560"/>
              <a:chOff x="6264720" y="4703040"/>
              <a:chExt cx="246240" cy="88560"/>
            </a:xfrm>
          </p:grpSpPr>
          <p:sp>
            <p:nvSpPr>
              <p:cNvPr id="1384" name=""/>
              <p:cNvSpPr/>
              <p:nvPr/>
            </p:nvSpPr>
            <p:spPr>
              <a:xfrm flipV="1">
                <a:off x="6264720" y="4703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433560" y="4791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345720" y="470520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7" name=""/>
            <p:cNvGrpSpPr/>
            <p:nvPr/>
          </p:nvGrpSpPr>
          <p:grpSpPr>
            <a:xfrm>
              <a:off x="6264720" y="4701960"/>
              <a:ext cx="246240" cy="88560"/>
              <a:chOff x="6264720" y="4701960"/>
              <a:chExt cx="246240" cy="88560"/>
            </a:xfrm>
          </p:grpSpPr>
          <p:sp>
            <p:nvSpPr>
              <p:cNvPr id="1388" name=""/>
              <p:cNvSpPr/>
              <p:nvPr/>
            </p:nvSpPr>
            <p:spPr>
              <a:xfrm>
                <a:off x="6264720" y="47887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433560" y="47019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V="1">
                <a:off x="6345720" y="470196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91" name=""/>
          <p:cNvSpPr/>
          <p:nvPr/>
        </p:nvSpPr>
        <p:spPr>
          <a:xfrm>
            <a:off x="6391440" y="362268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6396120" y="490860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4700520" y="4513320"/>
            <a:ext cx="131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6614280" y="478296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0 Mbps 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6395760" y="3811680"/>
            <a:ext cx="11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.5 Mbp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6" name=""/>
          <p:cNvGraphicFramePr/>
          <p:nvPr/>
        </p:nvGraphicFramePr>
        <p:xfrm>
          <a:off x="7151760" y="5207040"/>
          <a:ext cx="43164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51760" y="5207040"/>
                    <a:ext cx="43164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98" name=""/>
          <p:cNvGrpSpPr/>
          <p:nvPr/>
        </p:nvGrpSpPr>
        <p:grpSpPr>
          <a:xfrm>
            <a:off x="4960800" y="5278320"/>
            <a:ext cx="481320" cy="442800"/>
            <a:chOff x="4960800" y="5278320"/>
            <a:chExt cx="481320" cy="442800"/>
          </a:xfrm>
        </p:grpSpPr>
        <p:grpSp>
          <p:nvGrpSpPr>
            <p:cNvPr id="1399" name=""/>
            <p:cNvGrpSpPr/>
            <p:nvPr/>
          </p:nvGrpSpPr>
          <p:grpSpPr>
            <a:xfrm>
              <a:off x="4960800" y="5608080"/>
              <a:ext cx="481320" cy="113040"/>
              <a:chOff x="4960800" y="5608080"/>
              <a:chExt cx="481320" cy="113040"/>
            </a:xfrm>
          </p:grpSpPr>
          <p:sp>
            <p:nvSpPr>
              <p:cNvPr id="1400" name=""/>
              <p:cNvSpPr/>
              <p:nvPr/>
            </p:nvSpPr>
            <p:spPr>
              <a:xfrm>
                <a:off x="4960800" y="5608080"/>
                <a:ext cx="481320" cy="11304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66" y="0"/>
                    </a:moveTo>
                    <a:lnTo>
                      <a:pt x="466" y="0"/>
                    </a:lnTo>
                    <a:lnTo>
                      <a:pt x="529" y="87"/>
                    </a:lnTo>
                    <a:lnTo>
                      <a:pt x="530" y="91"/>
                    </a:lnTo>
                    <a:lnTo>
                      <a:pt x="528" y="95"/>
                    </a:lnTo>
                    <a:lnTo>
                      <a:pt x="524" y="96"/>
                    </a:lnTo>
                    <a:lnTo>
                      <a:pt x="8" y="96"/>
                    </a:lnTo>
                    <a:lnTo>
                      <a:pt x="3" y="94"/>
                    </a:lnTo>
                    <a:lnTo>
                      <a:pt x="0" y="90"/>
                    </a:lnTo>
                    <a:lnTo>
                      <a:pt x="1" y="85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4987800" y="5631120"/>
                <a:ext cx="320040" cy="72000"/>
              </a:xfrm>
              <a:custGeom>
                <a:avLst/>
                <a:gdLst/>
                <a:ahLst/>
                <a:rect l="l" t="t" r="r" b="b"/>
                <a:pathLst>
                  <a:path w="353" h="62">
                    <a:moveTo>
                      <a:pt x="47" y="0"/>
                    </a:moveTo>
                    <a:lnTo>
                      <a:pt x="335" y="0"/>
                    </a:lnTo>
                    <a:lnTo>
                      <a:pt x="352" y="61"/>
                    </a:lnTo>
                    <a:lnTo>
                      <a:pt x="0" y="6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5317200" y="5631120"/>
                <a:ext cx="97560" cy="7200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0" y="0"/>
                    </a:moveTo>
                    <a:lnTo>
                      <a:pt x="63" y="0"/>
                    </a:lnTo>
                    <a:lnTo>
                      <a:pt x="107" y="61"/>
                    </a:lnTo>
                    <a:lnTo>
                      <a:pt x="20" y="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3" name=""/>
            <p:cNvGrpSpPr/>
            <p:nvPr/>
          </p:nvGrpSpPr>
          <p:grpSpPr>
            <a:xfrm>
              <a:off x="5043240" y="5278320"/>
              <a:ext cx="308880" cy="328680"/>
              <a:chOff x="5043240" y="5278320"/>
              <a:chExt cx="308880" cy="328680"/>
            </a:xfrm>
          </p:grpSpPr>
          <p:sp>
            <p:nvSpPr>
              <p:cNvPr id="1404" name=""/>
              <p:cNvSpPr/>
              <p:nvPr/>
            </p:nvSpPr>
            <p:spPr>
              <a:xfrm>
                <a:off x="5043240" y="5278320"/>
                <a:ext cx="308880" cy="328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5063040" y="5306040"/>
                <a:ext cx="267840" cy="27612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5301360" y="5306040"/>
                <a:ext cx="28800" cy="276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5311080" y="5321160"/>
                <a:ext cx="7920" cy="5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5312880" y="5447160"/>
                <a:ext cx="3600" cy="4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5312880" y="5499720"/>
                <a:ext cx="3600" cy="5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5312880" y="5551200"/>
                <a:ext cx="3600" cy="3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1" name=""/>
            <p:cNvSpPr/>
            <p:nvPr/>
          </p:nvSpPr>
          <p:spPr>
            <a:xfrm>
              <a:off x="5070240" y="5297040"/>
              <a:ext cx="250920" cy="280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2" name=""/>
          <p:cNvGrpSpPr/>
          <p:nvPr/>
        </p:nvGrpSpPr>
        <p:grpSpPr>
          <a:xfrm>
            <a:off x="5479920" y="5275440"/>
            <a:ext cx="492120" cy="442800"/>
            <a:chOff x="5479920" y="5275440"/>
            <a:chExt cx="492120" cy="442800"/>
          </a:xfrm>
        </p:grpSpPr>
        <p:grpSp>
          <p:nvGrpSpPr>
            <p:cNvPr id="1413" name=""/>
            <p:cNvGrpSpPr/>
            <p:nvPr/>
          </p:nvGrpSpPr>
          <p:grpSpPr>
            <a:xfrm>
              <a:off x="5479920" y="5605200"/>
              <a:ext cx="492120" cy="113040"/>
              <a:chOff x="5479920" y="5605200"/>
              <a:chExt cx="492120" cy="113040"/>
            </a:xfrm>
          </p:grpSpPr>
          <p:sp>
            <p:nvSpPr>
              <p:cNvPr id="1414" name=""/>
              <p:cNvSpPr/>
              <p:nvPr/>
            </p:nvSpPr>
            <p:spPr>
              <a:xfrm>
                <a:off x="5479920" y="5605200"/>
                <a:ext cx="492120" cy="11304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66" y="0"/>
                    </a:moveTo>
                    <a:lnTo>
                      <a:pt x="466" y="0"/>
                    </a:lnTo>
                    <a:lnTo>
                      <a:pt x="529" y="87"/>
                    </a:lnTo>
                    <a:lnTo>
                      <a:pt x="530" y="91"/>
                    </a:lnTo>
                    <a:lnTo>
                      <a:pt x="528" y="95"/>
                    </a:lnTo>
                    <a:lnTo>
                      <a:pt x="524" y="96"/>
                    </a:lnTo>
                    <a:lnTo>
                      <a:pt x="8" y="96"/>
                    </a:lnTo>
                    <a:lnTo>
                      <a:pt x="3" y="94"/>
                    </a:lnTo>
                    <a:lnTo>
                      <a:pt x="0" y="90"/>
                    </a:lnTo>
                    <a:lnTo>
                      <a:pt x="1" y="85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5507640" y="5628240"/>
                <a:ext cx="327240" cy="72000"/>
              </a:xfrm>
              <a:custGeom>
                <a:avLst/>
                <a:gdLst/>
                <a:ahLst/>
                <a:rect l="l" t="t" r="r" b="b"/>
                <a:pathLst>
                  <a:path w="353" h="62">
                    <a:moveTo>
                      <a:pt x="47" y="0"/>
                    </a:moveTo>
                    <a:lnTo>
                      <a:pt x="335" y="0"/>
                    </a:lnTo>
                    <a:lnTo>
                      <a:pt x="352" y="61"/>
                    </a:lnTo>
                    <a:lnTo>
                      <a:pt x="0" y="6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5844240" y="5628240"/>
                <a:ext cx="100080" cy="7200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0" y="0"/>
                    </a:moveTo>
                    <a:lnTo>
                      <a:pt x="63" y="0"/>
                    </a:lnTo>
                    <a:lnTo>
                      <a:pt x="107" y="61"/>
                    </a:lnTo>
                    <a:lnTo>
                      <a:pt x="20" y="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5564160" y="5275440"/>
              <a:ext cx="315720" cy="328680"/>
              <a:chOff x="5564160" y="5275440"/>
              <a:chExt cx="315720" cy="328680"/>
            </a:xfrm>
          </p:grpSpPr>
          <p:sp>
            <p:nvSpPr>
              <p:cNvPr id="1418" name=""/>
              <p:cNvSpPr/>
              <p:nvPr/>
            </p:nvSpPr>
            <p:spPr>
              <a:xfrm>
                <a:off x="5564160" y="5275440"/>
                <a:ext cx="315720" cy="328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5584320" y="5303160"/>
                <a:ext cx="273960" cy="27612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828040" y="5303160"/>
                <a:ext cx="29520" cy="276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5838120" y="5318280"/>
                <a:ext cx="8280" cy="5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5839920" y="5444280"/>
                <a:ext cx="3600" cy="4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5839920" y="5496840"/>
                <a:ext cx="3600" cy="5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5839920" y="5548320"/>
                <a:ext cx="3600" cy="3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5" name=""/>
            <p:cNvSpPr/>
            <p:nvPr/>
          </p:nvSpPr>
          <p:spPr>
            <a:xfrm>
              <a:off x="5591880" y="5294160"/>
              <a:ext cx="256320" cy="280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6" name=""/>
          <p:cNvGrpSpPr/>
          <p:nvPr/>
        </p:nvGrpSpPr>
        <p:grpSpPr>
          <a:xfrm>
            <a:off x="6056280" y="5272200"/>
            <a:ext cx="479520" cy="442800"/>
            <a:chOff x="6056280" y="5272200"/>
            <a:chExt cx="479520" cy="442800"/>
          </a:xfrm>
        </p:grpSpPr>
        <p:grpSp>
          <p:nvGrpSpPr>
            <p:cNvPr id="1427" name=""/>
            <p:cNvGrpSpPr/>
            <p:nvPr/>
          </p:nvGrpSpPr>
          <p:grpSpPr>
            <a:xfrm>
              <a:off x="6056280" y="5601960"/>
              <a:ext cx="479520" cy="113040"/>
              <a:chOff x="6056280" y="5601960"/>
              <a:chExt cx="479520" cy="113040"/>
            </a:xfrm>
          </p:grpSpPr>
          <p:sp>
            <p:nvSpPr>
              <p:cNvPr id="1428" name=""/>
              <p:cNvSpPr/>
              <p:nvPr/>
            </p:nvSpPr>
            <p:spPr>
              <a:xfrm>
                <a:off x="6056280" y="5601960"/>
                <a:ext cx="479520" cy="11304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66" y="0"/>
                    </a:moveTo>
                    <a:lnTo>
                      <a:pt x="466" y="0"/>
                    </a:lnTo>
                    <a:lnTo>
                      <a:pt x="529" y="87"/>
                    </a:lnTo>
                    <a:lnTo>
                      <a:pt x="530" y="91"/>
                    </a:lnTo>
                    <a:lnTo>
                      <a:pt x="528" y="95"/>
                    </a:lnTo>
                    <a:lnTo>
                      <a:pt x="524" y="96"/>
                    </a:lnTo>
                    <a:lnTo>
                      <a:pt x="8" y="96"/>
                    </a:lnTo>
                    <a:lnTo>
                      <a:pt x="3" y="94"/>
                    </a:lnTo>
                    <a:lnTo>
                      <a:pt x="0" y="90"/>
                    </a:lnTo>
                    <a:lnTo>
                      <a:pt x="1" y="85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6083280" y="5625000"/>
                <a:ext cx="318960" cy="72000"/>
              </a:xfrm>
              <a:custGeom>
                <a:avLst/>
                <a:gdLst/>
                <a:ahLst/>
                <a:rect l="l" t="t" r="r" b="b"/>
                <a:pathLst>
                  <a:path w="353" h="62">
                    <a:moveTo>
                      <a:pt x="47" y="0"/>
                    </a:moveTo>
                    <a:lnTo>
                      <a:pt x="335" y="0"/>
                    </a:lnTo>
                    <a:lnTo>
                      <a:pt x="352" y="61"/>
                    </a:lnTo>
                    <a:lnTo>
                      <a:pt x="0" y="6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6411240" y="5625000"/>
                <a:ext cx="97200" cy="7200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0" y="0"/>
                    </a:moveTo>
                    <a:lnTo>
                      <a:pt x="63" y="0"/>
                    </a:lnTo>
                    <a:lnTo>
                      <a:pt x="107" y="61"/>
                    </a:lnTo>
                    <a:lnTo>
                      <a:pt x="20" y="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1" name=""/>
            <p:cNvGrpSpPr/>
            <p:nvPr/>
          </p:nvGrpSpPr>
          <p:grpSpPr>
            <a:xfrm>
              <a:off x="6138360" y="5272200"/>
              <a:ext cx="307800" cy="328680"/>
              <a:chOff x="6138360" y="5272200"/>
              <a:chExt cx="307800" cy="328680"/>
            </a:xfrm>
          </p:grpSpPr>
          <p:sp>
            <p:nvSpPr>
              <p:cNvPr id="1432" name=""/>
              <p:cNvSpPr/>
              <p:nvPr/>
            </p:nvSpPr>
            <p:spPr>
              <a:xfrm>
                <a:off x="6138360" y="5272200"/>
                <a:ext cx="307800" cy="328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6158160" y="5299920"/>
                <a:ext cx="267120" cy="27612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6395400" y="5299920"/>
                <a:ext cx="28800" cy="276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6405480" y="5315040"/>
                <a:ext cx="7920" cy="5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6407280" y="5441040"/>
                <a:ext cx="3600" cy="4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6407280" y="5493600"/>
                <a:ext cx="3600" cy="5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6407280" y="5545080"/>
                <a:ext cx="3600" cy="3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9" name=""/>
            <p:cNvSpPr/>
            <p:nvPr/>
          </p:nvSpPr>
          <p:spPr>
            <a:xfrm>
              <a:off x="6165360" y="5290920"/>
              <a:ext cx="249840" cy="280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0" name=""/>
          <p:cNvGrpSpPr/>
          <p:nvPr/>
        </p:nvGrpSpPr>
        <p:grpSpPr>
          <a:xfrm>
            <a:off x="6586560" y="5268960"/>
            <a:ext cx="457200" cy="442800"/>
            <a:chOff x="6586560" y="5268960"/>
            <a:chExt cx="457200" cy="442800"/>
          </a:xfrm>
        </p:grpSpPr>
        <p:grpSp>
          <p:nvGrpSpPr>
            <p:cNvPr id="1441" name=""/>
            <p:cNvGrpSpPr/>
            <p:nvPr/>
          </p:nvGrpSpPr>
          <p:grpSpPr>
            <a:xfrm>
              <a:off x="6586560" y="5598720"/>
              <a:ext cx="457200" cy="113040"/>
              <a:chOff x="6586560" y="5598720"/>
              <a:chExt cx="457200" cy="113040"/>
            </a:xfrm>
          </p:grpSpPr>
          <p:sp>
            <p:nvSpPr>
              <p:cNvPr id="1442" name=""/>
              <p:cNvSpPr/>
              <p:nvPr/>
            </p:nvSpPr>
            <p:spPr>
              <a:xfrm>
                <a:off x="6586560" y="5598720"/>
                <a:ext cx="457200" cy="11304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66" y="0"/>
                    </a:moveTo>
                    <a:lnTo>
                      <a:pt x="466" y="0"/>
                    </a:lnTo>
                    <a:lnTo>
                      <a:pt x="529" y="87"/>
                    </a:lnTo>
                    <a:lnTo>
                      <a:pt x="530" y="91"/>
                    </a:lnTo>
                    <a:lnTo>
                      <a:pt x="528" y="95"/>
                    </a:lnTo>
                    <a:lnTo>
                      <a:pt x="524" y="96"/>
                    </a:lnTo>
                    <a:lnTo>
                      <a:pt x="8" y="96"/>
                    </a:lnTo>
                    <a:lnTo>
                      <a:pt x="3" y="94"/>
                    </a:lnTo>
                    <a:lnTo>
                      <a:pt x="0" y="90"/>
                    </a:lnTo>
                    <a:lnTo>
                      <a:pt x="1" y="85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6612120" y="5621760"/>
                <a:ext cx="303840" cy="72000"/>
              </a:xfrm>
              <a:custGeom>
                <a:avLst/>
                <a:gdLst/>
                <a:ahLst/>
                <a:rect l="l" t="t" r="r" b="b"/>
                <a:pathLst>
                  <a:path w="353" h="62">
                    <a:moveTo>
                      <a:pt x="47" y="0"/>
                    </a:moveTo>
                    <a:lnTo>
                      <a:pt x="335" y="0"/>
                    </a:lnTo>
                    <a:lnTo>
                      <a:pt x="352" y="61"/>
                    </a:lnTo>
                    <a:lnTo>
                      <a:pt x="0" y="6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6924960" y="5621760"/>
                <a:ext cx="92880" cy="7200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0" y="0"/>
                    </a:moveTo>
                    <a:lnTo>
                      <a:pt x="63" y="0"/>
                    </a:lnTo>
                    <a:lnTo>
                      <a:pt x="107" y="61"/>
                    </a:lnTo>
                    <a:lnTo>
                      <a:pt x="20" y="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5" name=""/>
            <p:cNvGrpSpPr/>
            <p:nvPr/>
          </p:nvGrpSpPr>
          <p:grpSpPr>
            <a:xfrm>
              <a:off x="6665040" y="5268960"/>
              <a:ext cx="293400" cy="328680"/>
              <a:chOff x="6665040" y="5268960"/>
              <a:chExt cx="293400" cy="328680"/>
            </a:xfrm>
          </p:grpSpPr>
          <p:sp>
            <p:nvSpPr>
              <p:cNvPr id="1446" name=""/>
              <p:cNvSpPr/>
              <p:nvPr/>
            </p:nvSpPr>
            <p:spPr>
              <a:xfrm>
                <a:off x="6665040" y="5268960"/>
                <a:ext cx="293400" cy="328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6683760" y="5296680"/>
                <a:ext cx="254520" cy="27612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6910200" y="5296680"/>
                <a:ext cx="27360" cy="276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6919560" y="5311800"/>
                <a:ext cx="7560" cy="5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6921360" y="5437800"/>
                <a:ext cx="3240" cy="4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6921360" y="5490360"/>
                <a:ext cx="3240" cy="5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6921360" y="5541840"/>
                <a:ext cx="3240" cy="3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3" name=""/>
            <p:cNvSpPr/>
            <p:nvPr/>
          </p:nvSpPr>
          <p:spPr>
            <a:xfrm>
              <a:off x="6690600" y="5287680"/>
              <a:ext cx="238320" cy="280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54" name=""/>
          <p:cNvGraphicFramePr/>
          <p:nvPr/>
        </p:nvGraphicFramePr>
        <p:xfrm>
          <a:off x="7705800" y="2590920"/>
          <a:ext cx="431640" cy="61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05800" y="2590920"/>
                    <a:ext cx="43164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6" name=""/>
          <p:cNvGraphicFramePr/>
          <p:nvPr/>
        </p:nvGraphicFramePr>
        <p:xfrm>
          <a:off x="7256520" y="1641600"/>
          <a:ext cx="431640" cy="6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56520" y="1641600"/>
                    <a:ext cx="43164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8" name=""/>
          <p:cNvGraphicFramePr/>
          <p:nvPr/>
        </p:nvGraphicFramePr>
        <p:xfrm>
          <a:off x="5556240" y="1420920"/>
          <a:ext cx="431640" cy="615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56240" y="1420920"/>
                    <a:ext cx="43164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0" name=""/>
          <p:cNvGraphicFramePr/>
          <p:nvPr/>
        </p:nvGraphicFramePr>
        <p:xfrm>
          <a:off x="4680000" y="1744560"/>
          <a:ext cx="431640" cy="615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80000" y="1744560"/>
                    <a:ext cx="43164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14A7-1A6E-4127-AA30-E858F55D39E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Network applications: some jargon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440" y="12254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ces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 program that is running within a h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in the same host, two processes communicate with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ter-process communic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fined by the O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cesses running in different hosts communicate with an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pplication-layer protoc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47960" y="1181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ser agen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n interface between the user and the network applic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b:brows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-mail: mail read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eaming audio/video: media play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BE03-3706-4D1D-ADBD-AD52B8295137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685800" y="64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aching architectur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987480" y="118548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xy Cach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rve a specific client popula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store recently accessed documen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wer latency for the end us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tter use of wide area bandwidth by avoiding repeated transfers of recently-used informat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operative cach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ple communicating cach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increase hit rate and reduce access latenc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roaches to cooperative cach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erarchical cach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n-hierarchical routable cache system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101C-215D-444B-85AA-7C2238ED4A4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"/>
          <p:cNvSpPr/>
          <p:nvPr/>
        </p:nvSpPr>
        <p:spPr>
          <a:xfrm>
            <a:off x="285840" y="6192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How do hosts find one anoth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5" name="" descr=""/>
          <p:cNvPicPr/>
          <p:nvPr/>
        </p:nvPicPr>
        <p:blipFill>
          <a:blip r:embed="rId1"/>
          <a:stretch/>
        </p:blipFill>
        <p:spPr>
          <a:xfrm>
            <a:off x="7467480" y="2895480"/>
            <a:ext cx="1082880" cy="1613160"/>
          </a:xfrm>
          <a:prstGeom prst="rect">
            <a:avLst/>
          </a:prstGeom>
          <a:ln w="0">
            <a:noFill/>
          </a:ln>
        </p:spPr>
      </p:pic>
      <p:grpSp>
        <p:nvGrpSpPr>
          <p:cNvPr id="1466" name=""/>
          <p:cNvGrpSpPr/>
          <p:nvPr/>
        </p:nvGrpSpPr>
        <p:grpSpPr>
          <a:xfrm>
            <a:off x="914400" y="3309840"/>
            <a:ext cx="1441440" cy="1164960"/>
            <a:chOff x="914400" y="3309840"/>
            <a:chExt cx="1441440" cy="1164960"/>
          </a:xfrm>
        </p:grpSpPr>
        <p:pic>
          <p:nvPicPr>
            <p:cNvPr id="1467" name="" descr=""/>
            <p:cNvPicPr/>
            <p:nvPr/>
          </p:nvPicPr>
          <p:blipFill>
            <a:blip r:embed="rId2"/>
            <a:stretch/>
          </p:blipFill>
          <p:spPr>
            <a:xfrm>
              <a:off x="914400" y="3309840"/>
              <a:ext cx="14414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8" name="" descr=""/>
            <p:cNvPicPr/>
            <p:nvPr/>
          </p:nvPicPr>
          <p:blipFill>
            <a:blip r:embed="rId3"/>
            <a:stretch/>
          </p:blipFill>
          <p:spPr>
            <a:xfrm>
              <a:off x="1219320" y="3447720"/>
              <a:ext cx="609480" cy="50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9" name=""/>
          <p:cNvSpPr/>
          <p:nvPr/>
        </p:nvSpPr>
        <p:spPr>
          <a:xfrm>
            <a:off x="1121400" y="24372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205000" y="3548160"/>
            <a:ext cx="1490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 flipV="1">
            <a:off x="6095880" y="3608280"/>
            <a:ext cx="1314720" cy="2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124000" y="3728880"/>
            <a:ext cx="1533600" cy="5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039000" y="38149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Cloud"/>
          <p:cNvSpPr/>
          <p:nvPr/>
        </p:nvSpPr>
        <p:spPr>
          <a:xfrm>
            <a:off x="3819600" y="3076560"/>
            <a:ext cx="2112840" cy="162864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7150-26BE-4233-9CA1-67C695948B77}" type="slidenum">
              <a:t>5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68580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DNS: Domain Name System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617040" y="939960"/>
            <a:ext cx="3313080" cy="49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eopl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ny identifier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SN, name, Passport #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ternet hosts, router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P address (32 bit) - used for addressing datagra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me”, e.g., www.scar.utoronto.ca - used by huma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p between IP addresses and name 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088880" y="933480"/>
            <a:ext cx="4559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omain Name System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distributed datab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mplemented in hierarchy of many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name serv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application-layer protoco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ost, routers, name servers to communicate to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resolv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mes (address/name translatio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e: core Internet function implemented as application-layer protoc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lexity at network’s “edge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1409-C25E-4797-99AA-073E7800F2DC}" type="slidenum">
              <a:t>5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nding IP Address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Domain Name System (DN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9" name=""/>
          <p:cNvGrpSpPr/>
          <p:nvPr/>
        </p:nvGrpSpPr>
        <p:grpSpPr>
          <a:xfrm>
            <a:off x="387360" y="3505320"/>
            <a:ext cx="1441440" cy="1164960"/>
            <a:chOff x="387360" y="3505320"/>
            <a:chExt cx="1441440" cy="1164960"/>
          </a:xfrm>
        </p:grpSpPr>
        <p:pic>
          <p:nvPicPr>
            <p:cNvPr id="1480" name="" descr=""/>
            <p:cNvPicPr/>
            <p:nvPr/>
          </p:nvPicPr>
          <p:blipFill>
            <a:blip r:embed="rId1"/>
            <a:stretch/>
          </p:blipFill>
          <p:spPr>
            <a:xfrm>
              <a:off x="387360" y="3505320"/>
              <a:ext cx="14414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1" name="" descr=""/>
            <p:cNvPicPr/>
            <p:nvPr/>
          </p:nvPicPr>
          <p:blipFill>
            <a:blip r:embed="rId2"/>
            <a:stretch/>
          </p:blipFill>
          <p:spPr>
            <a:xfrm>
              <a:off x="692280" y="3643200"/>
              <a:ext cx="609480" cy="5000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482" name=""/>
          <p:cNvGraphicFramePr/>
          <p:nvPr/>
        </p:nvGraphicFramePr>
        <p:xfrm>
          <a:off x="7772400" y="3276720"/>
          <a:ext cx="895320" cy="161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72400" y="3276720"/>
                    <a:ext cx="89532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4" name=""/>
          <p:cNvSpPr/>
          <p:nvPr/>
        </p:nvSpPr>
        <p:spPr>
          <a:xfrm>
            <a:off x="1859040" y="3733920"/>
            <a:ext cx="5410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846800" y="3229560"/>
            <a:ext cx="547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What’s the IP address for www.utoronto.ca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465480" y="263412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Comic Sans MS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879560" y="4495680"/>
            <a:ext cx="5410080" cy="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3782160" y="4037400"/>
            <a:ext cx="20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42.150.160.4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7618320" y="2362320"/>
            <a:ext cx="122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99cc"/>
                </a:solidFill>
                <a:latin typeface="Comic Sans MS"/>
              </a:rPr>
              <a:t>DNS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985D-21C2-491B-904A-0965A6ED2079}" type="slidenum">
              <a:t>5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/>
          <p:nvPr/>
        </p:nvSpPr>
        <p:spPr>
          <a:xfrm>
            <a:off x="685800" y="2286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ddr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9144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main name (e.g.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www.utoronto.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lobally valid, human readable n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NS translates name to IP address. (e.g. 142.150.160.4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lobally valid, understood by all networ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ally, we need local area net addr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Ethernet (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08-00-4a-22-1b-9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lobally unique, but used only within a particular local area network (L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re on this later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65C4-BD12-4E69-B8A8-7476B588028F}" type="slidenum">
              <a:t>5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652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DNS name server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6680" y="1184040"/>
            <a:ext cx="4200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server has all name-to-IP address mapping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ocal name server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ISP, company has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local (default) name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st DNS query first goes to local name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uthoritative name serv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a host: stores that host’s IP address, na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perform name/address translation for that host’s nam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352440" y="1098360"/>
            <a:ext cx="4191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y not centralize DN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gle point of fail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ffic volu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tant centralized databa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esn’t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cale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276B-F028-4FA6-BCC5-ED33AAA20A23}" type="slidenum">
              <a:t>5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DNS: Root name server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30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acted by local name server that can not resolve na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ot name server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acts authoritative name server if name mapping not know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ts mapp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urns mapping to local name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~ dozen root name servers worldwi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97" name="root-servers" descr=""/>
          <p:cNvPicPr/>
          <p:nvPr/>
        </p:nvPicPr>
        <p:blipFill>
          <a:blip r:embed="rId1"/>
          <a:stretch/>
        </p:blipFill>
        <p:spPr>
          <a:xfrm>
            <a:off x="3838680" y="1743120"/>
            <a:ext cx="5095800" cy="381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06FD-52E0-449D-82A3-14F1C39A4C8B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Simple DNS example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192240" y="1071720"/>
            <a:ext cx="451944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b15.scar.utoronto.c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nts IP addres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tp.cs.cornell.ed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acts its local DNS server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ns1.scar.utoronto.c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ns1.scar.utoronto.c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ontacts root name server, if necessa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oot name server contacts authoritative name server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ns.cornell.edu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f necessa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0" name=""/>
          <p:cNvSpPr/>
          <p:nvPr/>
        </p:nvSpPr>
        <p:spPr>
          <a:xfrm>
            <a:off x="3683160" y="5246640"/>
            <a:ext cx="286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questing 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b15.scar.utoronto.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6594120" y="5230800"/>
            <a:ext cx="23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tp.cs.cornell.e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791320" y="736560"/>
            <a:ext cx="20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ot name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536880" y="3408480"/>
            <a:ext cx="26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uthoritative name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ns.cornell.e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V="1">
            <a:off x="5315040" y="3257280"/>
            <a:ext cx="0" cy="1314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 flipV="1">
            <a:off x="5429160" y="1561680"/>
            <a:ext cx="914400" cy="97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6734160" y="1743120"/>
            <a:ext cx="942840" cy="790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flipH="1" flipV="1">
            <a:off x="6819840" y="1571760"/>
            <a:ext cx="1076400" cy="923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H="1">
            <a:off x="5619600" y="1771560"/>
            <a:ext cx="73368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5505480" y="3286080"/>
            <a:ext cx="9360" cy="1324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0" name=""/>
          <p:cNvGrpSpPr/>
          <p:nvPr/>
        </p:nvGrpSpPr>
        <p:grpSpPr>
          <a:xfrm>
            <a:off x="4019760" y="3408480"/>
            <a:ext cx="2741040" cy="580680"/>
            <a:chOff x="4019760" y="3408480"/>
            <a:chExt cx="2741040" cy="580680"/>
          </a:xfrm>
        </p:grpSpPr>
        <p:sp>
          <p:nvSpPr>
            <p:cNvPr id="1511" name=""/>
            <p:cNvSpPr/>
            <p:nvPr/>
          </p:nvSpPr>
          <p:spPr>
            <a:xfrm>
              <a:off x="4448160" y="345744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019760" y="3408480"/>
              <a:ext cx="2741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local name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ns1.scar.utoronto.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3" name=""/>
          <p:cNvSpPr/>
          <p:nvPr/>
        </p:nvSpPr>
        <p:spPr>
          <a:xfrm>
            <a:off x="5027760" y="41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5571000" y="177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961680" y="203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7295040" y="177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5942160" y="2103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5561280" y="415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9" name=""/>
          <p:cNvGraphicFramePr/>
          <p:nvPr/>
        </p:nvGraphicFramePr>
        <p:xfrm>
          <a:off x="7653240" y="2637000"/>
          <a:ext cx="47628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53240" y="2637000"/>
                    <a:ext cx="4762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1" name=""/>
          <p:cNvGraphicFramePr/>
          <p:nvPr/>
        </p:nvGraphicFramePr>
        <p:xfrm>
          <a:off x="5199120" y="2575080"/>
          <a:ext cx="41904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99120" y="2575080"/>
                    <a:ext cx="41904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3" name=""/>
          <p:cNvGraphicFramePr/>
          <p:nvPr/>
        </p:nvGraphicFramePr>
        <p:xfrm>
          <a:off x="6365880" y="1057320"/>
          <a:ext cx="453960" cy="62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65880" y="1057320"/>
                    <a:ext cx="4539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25" name=""/>
          <p:cNvGrpSpPr/>
          <p:nvPr/>
        </p:nvGrpSpPr>
        <p:grpSpPr>
          <a:xfrm>
            <a:off x="7608960" y="4603680"/>
            <a:ext cx="741240" cy="603000"/>
            <a:chOff x="7608960" y="4603680"/>
            <a:chExt cx="741240" cy="603000"/>
          </a:xfrm>
        </p:grpSpPr>
        <p:grpSp>
          <p:nvGrpSpPr>
            <p:cNvPr id="1526" name=""/>
            <p:cNvGrpSpPr/>
            <p:nvPr/>
          </p:nvGrpSpPr>
          <p:grpSpPr>
            <a:xfrm>
              <a:off x="7608960" y="5052960"/>
              <a:ext cx="741240" cy="153720"/>
              <a:chOff x="7608960" y="5052960"/>
              <a:chExt cx="741240" cy="153720"/>
            </a:xfrm>
          </p:grpSpPr>
          <p:sp>
            <p:nvSpPr>
              <p:cNvPr id="1527" name=""/>
              <p:cNvSpPr/>
              <p:nvPr/>
            </p:nvSpPr>
            <p:spPr>
              <a:xfrm>
                <a:off x="7608960" y="5052960"/>
                <a:ext cx="741240" cy="15372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66" y="0"/>
                    </a:moveTo>
                    <a:lnTo>
                      <a:pt x="466" y="0"/>
                    </a:lnTo>
                    <a:lnTo>
                      <a:pt x="529" y="87"/>
                    </a:lnTo>
                    <a:lnTo>
                      <a:pt x="530" y="91"/>
                    </a:lnTo>
                    <a:lnTo>
                      <a:pt x="528" y="95"/>
                    </a:lnTo>
                    <a:lnTo>
                      <a:pt x="524" y="96"/>
                    </a:lnTo>
                    <a:lnTo>
                      <a:pt x="8" y="96"/>
                    </a:lnTo>
                    <a:lnTo>
                      <a:pt x="3" y="94"/>
                    </a:lnTo>
                    <a:lnTo>
                      <a:pt x="0" y="90"/>
                    </a:lnTo>
                    <a:lnTo>
                      <a:pt x="1" y="85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7650720" y="5084640"/>
                <a:ext cx="492840" cy="98280"/>
              </a:xfrm>
              <a:custGeom>
                <a:avLst/>
                <a:gdLst/>
                <a:ahLst/>
                <a:rect l="l" t="t" r="r" b="b"/>
                <a:pathLst>
                  <a:path w="353" h="62">
                    <a:moveTo>
                      <a:pt x="47" y="0"/>
                    </a:moveTo>
                    <a:lnTo>
                      <a:pt x="335" y="0"/>
                    </a:lnTo>
                    <a:lnTo>
                      <a:pt x="352" y="61"/>
                    </a:lnTo>
                    <a:lnTo>
                      <a:pt x="0" y="6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8157600" y="5084640"/>
                <a:ext cx="150480" cy="9828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0" y="0"/>
                    </a:moveTo>
                    <a:lnTo>
                      <a:pt x="63" y="0"/>
                    </a:lnTo>
                    <a:lnTo>
                      <a:pt x="107" y="61"/>
                    </a:lnTo>
                    <a:lnTo>
                      <a:pt x="20" y="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0" name=""/>
            <p:cNvGrpSpPr/>
            <p:nvPr/>
          </p:nvGrpSpPr>
          <p:grpSpPr>
            <a:xfrm>
              <a:off x="7736040" y="4603680"/>
              <a:ext cx="475560" cy="447480"/>
              <a:chOff x="7736040" y="4603680"/>
              <a:chExt cx="475560" cy="447480"/>
            </a:xfrm>
          </p:grpSpPr>
          <p:sp>
            <p:nvSpPr>
              <p:cNvPr id="1531" name=""/>
              <p:cNvSpPr/>
              <p:nvPr/>
            </p:nvSpPr>
            <p:spPr>
              <a:xfrm>
                <a:off x="7736040" y="4603680"/>
                <a:ext cx="475560" cy="447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7766640" y="4641840"/>
                <a:ext cx="412560" cy="37620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8133480" y="4641840"/>
                <a:ext cx="44280" cy="376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8148600" y="4662360"/>
                <a:ext cx="12600" cy="7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8151480" y="4833720"/>
                <a:ext cx="5400" cy="6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8151480" y="4905360"/>
                <a:ext cx="5400" cy="7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8151480" y="4975200"/>
                <a:ext cx="5400" cy="4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8" name=""/>
            <p:cNvSpPr/>
            <p:nvPr/>
          </p:nvSpPr>
          <p:spPr>
            <a:xfrm>
              <a:off x="7777800" y="4629240"/>
              <a:ext cx="386280" cy="382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9" name=""/>
          <p:cNvGrpSpPr/>
          <p:nvPr/>
        </p:nvGrpSpPr>
        <p:grpSpPr>
          <a:xfrm>
            <a:off x="5005440" y="4641840"/>
            <a:ext cx="741240" cy="603000"/>
            <a:chOff x="5005440" y="4641840"/>
            <a:chExt cx="741240" cy="603000"/>
          </a:xfrm>
        </p:grpSpPr>
        <p:grpSp>
          <p:nvGrpSpPr>
            <p:cNvPr id="1540" name=""/>
            <p:cNvGrpSpPr/>
            <p:nvPr/>
          </p:nvGrpSpPr>
          <p:grpSpPr>
            <a:xfrm>
              <a:off x="5005440" y="5091120"/>
              <a:ext cx="741240" cy="153720"/>
              <a:chOff x="5005440" y="5091120"/>
              <a:chExt cx="741240" cy="153720"/>
            </a:xfrm>
          </p:grpSpPr>
          <p:sp>
            <p:nvSpPr>
              <p:cNvPr id="1541" name=""/>
              <p:cNvSpPr/>
              <p:nvPr/>
            </p:nvSpPr>
            <p:spPr>
              <a:xfrm>
                <a:off x="5005440" y="5091120"/>
                <a:ext cx="741240" cy="15372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66" y="0"/>
                    </a:moveTo>
                    <a:lnTo>
                      <a:pt x="466" y="0"/>
                    </a:lnTo>
                    <a:lnTo>
                      <a:pt x="529" y="87"/>
                    </a:lnTo>
                    <a:lnTo>
                      <a:pt x="530" y="91"/>
                    </a:lnTo>
                    <a:lnTo>
                      <a:pt x="528" y="95"/>
                    </a:lnTo>
                    <a:lnTo>
                      <a:pt x="524" y="96"/>
                    </a:lnTo>
                    <a:lnTo>
                      <a:pt x="8" y="96"/>
                    </a:lnTo>
                    <a:lnTo>
                      <a:pt x="3" y="94"/>
                    </a:lnTo>
                    <a:lnTo>
                      <a:pt x="0" y="90"/>
                    </a:lnTo>
                    <a:lnTo>
                      <a:pt x="1" y="85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047200" y="5122800"/>
                <a:ext cx="492840" cy="98280"/>
              </a:xfrm>
              <a:custGeom>
                <a:avLst/>
                <a:gdLst/>
                <a:ahLst/>
                <a:rect l="l" t="t" r="r" b="b"/>
                <a:pathLst>
                  <a:path w="353" h="62">
                    <a:moveTo>
                      <a:pt x="47" y="0"/>
                    </a:moveTo>
                    <a:lnTo>
                      <a:pt x="335" y="0"/>
                    </a:lnTo>
                    <a:lnTo>
                      <a:pt x="352" y="61"/>
                    </a:lnTo>
                    <a:lnTo>
                      <a:pt x="0" y="6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554080" y="5122800"/>
                <a:ext cx="150480" cy="9828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0" y="0"/>
                    </a:moveTo>
                    <a:lnTo>
                      <a:pt x="63" y="0"/>
                    </a:lnTo>
                    <a:lnTo>
                      <a:pt x="107" y="61"/>
                    </a:lnTo>
                    <a:lnTo>
                      <a:pt x="20" y="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4" name=""/>
            <p:cNvGrpSpPr/>
            <p:nvPr/>
          </p:nvGrpSpPr>
          <p:grpSpPr>
            <a:xfrm>
              <a:off x="5132520" y="4641840"/>
              <a:ext cx="475560" cy="447480"/>
              <a:chOff x="5132520" y="4641840"/>
              <a:chExt cx="475560" cy="447480"/>
            </a:xfrm>
          </p:grpSpPr>
          <p:sp>
            <p:nvSpPr>
              <p:cNvPr id="1545" name=""/>
              <p:cNvSpPr/>
              <p:nvPr/>
            </p:nvSpPr>
            <p:spPr>
              <a:xfrm>
                <a:off x="5132520" y="4641840"/>
                <a:ext cx="475560" cy="447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5163120" y="4680000"/>
                <a:ext cx="412560" cy="37620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5529960" y="4680000"/>
                <a:ext cx="44280" cy="376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545080" y="4700520"/>
                <a:ext cx="12600" cy="7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547960" y="4871880"/>
                <a:ext cx="5400" cy="6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547960" y="4943520"/>
                <a:ext cx="5400" cy="7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547960" y="5013360"/>
                <a:ext cx="5400" cy="4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2" name=""/>
            <p:cNvSpPr/>
            <p:nvPr/>
          </p:nvSpPr>
          <p:spPr>
            <a:xfrm>
              <a:off x="5174280" y="4667400"/>
              <a:ext cx="386280" cy="382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5EA5-68AE-428A-A16F-637CCBD0A06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80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DNS example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49280" y="1438200"/>
            <a:ext cx="3332160" cy="34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ot name serve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y not know authoritative name ser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y know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intermediate name serve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ho to contact to find authoritative name ser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5" name=""/>
          <p:cNvSpPr/>
          <p:nvPr/>
        </p:nvSpPr>
        <p:spPr>
          <a:xfrm>
            <a:off x="3483360" y="5051520"/>
            <a:ext cx="2863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questing 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b15.scar.utoronto.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6260760" y="5840280"/>
            <a:ext cx="23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tp.cs.cornell.e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5124600" y="565200"/>
            <a:ext cx="20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ot name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 flipV="1">
            <a:off x="5114880" y="3085920"/>
            <a:ext cx="0" cy="1314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flipV="1">
            <a:off x="5229360" y="1536480"/>
            <a:ext cx="699840" cy="825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6388200" y="1628640"/>
            <a:ext cx="707760" cy="743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 flipH="1" flipV="1">
            <a:off x="6461280" y="1444320"/>
            <a:ext cx="806400" cy="888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H="1">
            <a:off x="5419440" y="1633680"/>
            <a:ext cx="631800" cy="739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5305320" y="3114720"/>
            <a:ext cx="9720" cy="1324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4" name=""/>
          <p:cNvGrpSpPr/>
          <p:nvPr/>
        </p:nvGrpSpPr>
        <p:grpSpPr>
          <a:xfrm>
            <a:off x="3651120" y="3232080"/>
            <a:ext cx="2619000" cy="611640"/>
            <a:chOff x="3651120" y="3232080"/>
            <a:chExt cx="2619000" cy="611640"/>
          </a:xfrm>
        </p:grpSpPr>
        <p:sp>
          <p:nvSpPr>
            <p:cNvPr id="1565" name=""/>
            <p:cNvSpPr/>
            <p:nvPr/>
          </p:nvSpPr>
          <p:spPr>
            <a:xfrm>
              <a:off x="4019400" y="330480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651120" y="3232080"/>
              <a:ext cx="26190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ocal name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ns.scar.utoronto.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7" name=""/>
          <p:cNvSpPr/>
          <p:nvPr/>
        </p:nvSpPr>
        <p:spPr>
          <a:xfrm>
            <a:off x="4827960" y="3941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5370840" y="1608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513840" y="1855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780600" y="3760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7304400" y="3732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6913800" y="1569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6055920" y="4599000"/>
            <a:ext cx="26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uthoritative name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ns.cs.cornell.e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7095960" y="3114720"/>
            <a:ext cx="9720" cy="923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 flipV="1">
            <a:off x="7286760" y="3124080"/>
            <a:ext cx="0" cy="866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6" name=""/>
          <p:cNvGrpSpPr/>
          <p:nvPr/>
        </p:nvGrpSpPr>
        <p:grpSpPr>
          <a:xfrm>
            <a:off x="6096960" y="3255840"/>
            <a:ext cx="2657160" cy="580680"/>
            <a:chOff x="6096960" y="3255840"/>
            <a:chExt cx="2657160" cy="580680"/>
          </a:xfrm>
        </p:grpSpPr>
        <p:sp>
          <p:nvSpPr>
            <p:cNvPr id="1577" name=""/>
            <p:cNvSpPr/>
            <p:nvPr/>
          </p:nvSpPr>
          <p:spPr>
            <a:xfrm>
              <a:off x="6201000" y="3333600"/>
              <a:ext cx="2400120" cy="43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096960" y="3255840"/>
              <a:ext cx="2657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ntermediate name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ns.cornell.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9" name=""/>
          <p:cNvSpPr/>
          <p:nvPr/>
        </p:nvSpPr>
        <p:spPr>
          <a:xfrm>
            <a:off x="5799600" y="1893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380200" y="3960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1" name=""/>
          <p:cNvGraphicFramePr/>
          <p:nvPr/>
        </p:nvGraphicFramePr>
        <p:xfrm>
          <a:off x="5948280" y="966960"/>
          <a:ext cx="453960" cy="62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8280" y="966960"/>
                    <a:ext cx="453960" cy="62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3" name=""/>
          <p:cNvGraphicFramePr/>
          <p:nvPr/>
        </p:nvGraphicFramePr>
        <p:xfrm>
          <a:off x="6993000" y="2440080"/>
          <a:ext cx="453960" cy="62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93000" y="2440080"/>
                    <a:ext cx="4539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5" name=""/>
          <p:cNvGraphicFramePr/>
          <p:nvPr/>
        </p:nvGraphicFramePr>
        <p:xfrm>
          <a:off x="5000760" y="2411280"/>
          <a:ext cx="453960" cy="62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00760" y="2411280"/>
                    <a:ext cx="4539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7" name=""/>
          <p:cNvGraphicFramePr/>
          <p:nvPr/>
        </p:nvGraphicFramePr>
        <p:xfrm>
          <a:off x="6986520" y="4070520"/>
          <a:ext cx="453960" cy="626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86520" y="4070520"/>
                    <a:ext cx="453960" cy="62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89" name=""/>
          <p:cNvGrpSpPr/>
          <p:nvPr/>
        </p:nvGrpSpPr>
        <p:grpSpPr>
          <a:xfrm>
            <a:off x="6919920" y="5270400"/>
            <a:ext cx="741240" cy="603000"/>
            <a:chOff x="6919920" y="5270400"/>
            <a:chExt cx="741240" cy="603000"/>
          </a:xfrm>
        </p:grpSpPr>
        <p:grpSp>
          <p:nvGrpSpPr>
            <p:cNvPr id="1590" name=""/>
            <p:cNvGrpSpPr/>
            <p:nvPr/>
          </p:nvGrpSpPr>
          <p:grpSpPr>
            <a:xfrm>
              <a:off x="6919920" y="5719680"/>
              <a:ext cx="741240" cy="153720"/>
              <a:chOff x="6919920" y="5719680"/>
              <a:chExt cx="741240" cy="153720"/>
            </a:xfrm>
          </p:grpSpPr>
          <p:sp>
            <p:nvSpPr>
              <p:cNvPr id="1591" name=""/>
              <p:cNvSpPr/>
              <p:nvPr/>
            </p:nvSpPr>
            <p:spPr>
              <a:xfrm>
                <a:off x="6919920" y="5719680"/>
                <a:ext cx="741240" cy="15372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66" y="0"/>
                    </a:moveTo>
                    <a:lnTo>
                      <a:pt x="466" y="0"/>
                    </a:lnTo>
                    <a:lnTo>
                      <a:pt x="529" y="87"/>
                    </a:lnTo>
                    <a:lnTo>
                      <a:pt x="530" y="91"/>
                    </a:lnTo>
                    <a:lnTo>
                      <a:pt x="528" y="95"/>
                    </a:lnTo>
                    <a:lnTo>
                      <a:pt x="524" y="96"/>
                    </a:lnTo>
                    <a:lnTo>
                      <a:pt x="8" y="96"/>
                    </a:lnTo>
                    <a:lnTo>
                      <a:pt x="3" y="94"/>
                    </a:lnTo>
                    <a:lnTo>
                      <a:pt x="0" y="90"/>
                    </a:lnTo>
                    <a:lnTo>
                      <a:pt x="1" y="85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961680" y="5751360"/>
                <a:ext cx="492840" cy="98280"/>
              </a:xfrm>
              <a:custGeom>
                <a:avLst/>
                <a:gdLst/>
                <a:ahLst/>
                <a:rect l="l" t="t" r="r" b="b"/>
                <a:pathLst>
                  <a:path w="353" h="62">
                    <a:moveTo>
                      <a:pt x="47" y="0"/>
                    </a:moveTo>
                    <a:lnTo>
                      <a:pt x="335" y="0"/>
                    </a:lnTo>
                    <a:lnTo>
                      <a:pt x="352" y="61"/>
                    </a:lnTo>
                    <a:lnTo>
                      <a:pt x="0" y="6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7468560" y="5751360"/>
                <a:ext cx="150480" cy="9828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0" y="0"/>
                    </a:moveTo>
                    <a:lnTo>
                      <a:pt x="63" y="0"/>
                    </a:lnTo>
                    <a:lnTo>
                      <a:pt x="107" y="61"/>
                    </a:lnTo>
                    <a:lnTo>
                      <a:pt x="20" y="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4" name=""/>
            <p:cNvGrpSpPr/>
            <p:nvPr/>
          </p:nvGrpSpPr>
          <p:grpSpPr>
            <a:xfrm>
              <a:off x="7047000" y="5270400"/>
              <a:ext cx="475560" cy="447480"/>
              <a:chOff x="7047000" y="5270400"/>
              <a:chExt cx="475560" cy="447480"/>
            </a:xfrm>
          </p:grpSpPr>
          <p:sp>
            <p:nvSpPr>
              <p:cNvPr id="1595" name=""/>
              <p:cNvSpPr/>
              <p:nvPr/>
            </p:nvSpPr>
            <p:spPr>
              <a:xfrm>
                <a:off x="7047000" y="5270400"/>
                <a:ext cx="475560" cy="447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7077600" y="5308560"/>
                <a:ext cx="412560" cy="37620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7444440" y="5308560"/>
                <a:ext cx="44280" cy="376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7459560" y="5329080"/>
                <a:ext cx="12600" cy="7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462440" y="5500440"/>
                <a:ext cx="5400" cy="6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462440" y="5572080"/>
                <a:ext cx="5400" cy="7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462440" y="5641920"/>
                <a:ext cx="5400" cy="4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2" name=""/>
            <p:cNvSpPr/>
            <p:nvPr/>
          </p:nvSpPr>
          <p:spPr>
            <a:xfrm>
              <a:off x="7088760" y="5295960"/>
              <a:ext cx="386280" cy="382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3" name=""/>
          <p:cNvGrpSpPr/>
          <p:nvPr/>
        </p:nvGrpSpPr>
        <p:grpSpPr>
          <a:xfrm>
            <a:off x="4819680" y="4491000"/>
            <a:ext cx="741240" cy="603000"/>
            <a:chOff x="4819680" y="4491000"/>
            <a:chExt cx="741240" cy="603000"/>
          </a:xfrm>
        </p:grpSpPr>
        <p:grpSp>
          <p:nvGrpSpPr>
            <p:cNvPr id="1604" name=""/>
            <p:cNvGrpSpPr/>
            <p:nvPr/>
          </p:nvGrpSpPr>
          <p:grpSpPr>
            <a:xfrm>
              <a:off x="4819680" y="4940280"/>
              <a:ext cx="741240" cy="153720"/>
              <a:chOff x="4819680" y="4940280"/>
              <a:chExt cx="741240" cy="153720"/>
            </a:xfrm>
          </p:grpSpPr>
          <p:sp>
            <p:nvSpPr>
              <p:cNvPr id="1605" name=""/>
              <p:cNvSpPr/>
              <p:nvPr/>
            </p:nvSpPr>
            <p:spPr>
              <a:xfrm>
                <a:off x="4819680" y="4940280"/>
                <a:ext cx="741240" cy="15372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66" y="0"/>
                    </a:moveTo>
                    <a:lnTo>
                      <a:pt x="466" y="0"/>
                    </a:lnTo>
                    <a:lnTo>
                      <a:pt x="529" y="87"/>
                    </a:lnTo>
                    <a:lnTo>
                      <a:pt x="530" y="91"/>
                    </a:lnTo>
                    <a:lnTo>
                      <a:pt x="528" y="95"/>
                    </a:lnTo>
                    <a:lnTo>
                      <a:pt x="524" y="96"/>
                    </a:lnTo>
                    <a:lnTo>
                      <a:pt x="8" y="96"/>
                    </a:lnTo>
                    <a:lnTo>
                      <a:pt x="3" y="94"/>
                    </a:lnTo>
                    <a:lnTo>
                      <a:pt x="0" y="90"/>
                    </a:lnTo>
                    <a:lnTo>
                      <a:pt x="1" y="85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4861440" y="4971960"/>
                <a:ext cx="492840" cy="98280"/>
              </a:xfrm>
              <a:custGeom>
                <a:avLst/>
                <a:gdLst/>
                <a:ahLst/>
                <a:rect l="l" t="t" r="r" b="b"/>
                <a:pathLst>
                  <a:path w="353" h="62">
                    <a:moveTo>
                      <a:pt x="47" y="0"/>
                    </a:moveTo>
                    <a:lnTo>
                      <a:pt x="335" y="0"/>
                    </a:lnTo>
                    <a:lnTo>
                      <a:pt x="352" y="61"/>
                    </a:lnTo>
                    <a:lnTo>
                      <a:pt x="0" y="6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5368320" y="4971960"/>
                <a:ext cx="150480" cy="9828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0" y="0"/>
                    </a:moveTo>
                    <a:lnTo>
                      <a:pt x="63" y="0"/>
                    </a:lnTo>
                    <a:lnTo>
                      <a:pt x="107" y="61"/>
                    </a:lnTo>
                    <a:lnTo>
                      <a:pt x="20" y="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8" name=""/>
            <p:cNvGrpSpPr/>
            <p:nvPr/>
          </p:nvGrpSpPr>
          <p:grpSpPr>
            <a:xfrm>
              <a:off x="4946760" y="4491000"/>
              <a:ext cx="475560" cy="447480"/>
              <a:chOff x="4946760" y="4491000"/>
              <a:chExt cx="475560" cy="447480"/>
            </a:xfrm>
          </p:grpSpPr>
          <p:sp>
            <p:nvSpPr>
              <p:cNvPr id="1609" name=""/>
              <p:cNvSpPr/>
              <p:nvPr/>
            </p:nvSpPr>
            <p:spPr>
              <a:xfrm>
                <a:off x="4946760" y="4491000"/>
                <a:ext cx="475560" cy="447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4977360" y="4529160"/>
                <a:ext cx="412560" cy="37620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5344200" y="4529160"/>
                <a:ext cx="44280" cy="376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5359320" y="4549680"/>
                <a:ext cx="12600" cy="7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5362200" y="4721040"/>
                <a:ext cx="5400" cy="6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5362200" y="4792680"/>
                <a:ext cx="5400" cy="7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5362200" y="4862520"/>
                <a:ext cx="5400" cy="4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6" name=""/>
            <p:cNvSpPr/>
            <p:nvPr/>
          </p:nvSpPr>
          <p:spPr>
            <a:xfrm>
              <a:off x="4988520" y="4516560"/>
              <a:ext cx="386280" cy="382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62F2-F9BD-4139-9530-9EB3C1A8425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2867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DNS: iterated querie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349200" y="817200"/>
            <a:ext cx="310536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recursive query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ts burden of name resolution on contacted name ser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avy loa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iterated query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acted server replies with name of server to cont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don’t know the answer, ask this server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9" name=""/>
          <p:cNvSpPr/>
          <p:nvPr/>
        </p:nvSpPr>
        <p:spPr>
          <a:xfrm>
            <a:off x="3483360" y="5075280"/>
            <a:ext cx="286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questing 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b15.scar.utoronto.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6260760" y="5840280"/>
            <a:ext cx="23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tp.cs.cornell.e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5619600" y="650880"/>
            <a:ext cx="201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ot name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 flipV="1">
            <a:off x="5114880" y="3085920"/>
            <a:ext cx="0" cy="1314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 flipV="1">
            <a:off x="5229360" y="1390320"/>
            <a:ext cx="914400" cy="97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 flipV="1">
            <a:off x="5514840" y="2552760"/>
            <a:ext cx="1486080" cy="9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 flipH="1">
            <a:off x="5514480" y="2724120"/>
            <a:ext cx="14194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 flipH="1">
            <a:off x="5438520" y="1619280"/>
            <a:ext cx="73332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5305320" y="3114720"/>
            <a:ext cx="9720" cy="1324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8" name=""/>
          <p:cNvGrpSpPr/>
          <p:nvPr/>
        </p:nvGrpSpPr>
        <p:grpSpPr>
          <a:xfrm>
            <a:off x="3591360" y="3255840"/>
            <a:ext cx="2741040" cy="580680"/>
            <a:chOff x="3591360" y="3255840"/>
            <a:chExt cx="2741040" cy="580680"/>
          </a:xfrm>
        </p:grpSpPr>
        <p:sp>
          <p:nvSpPr>
            <p:cNvPr id="1629" name=""/>
            <p:cNvSpPr/>
            <p:nvPr/>
          </p:nvSpPr>
          <p:spPr>
            <a:xfrm>
              <a:off x="4019760" y="330480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591360" y="3255840"/>
              <a:ext cx="2741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local name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ns1.scar.utoronto.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1" name=""/>
          <p:cNvSpPr/>
          <p:nvPr/>
        </p:nvSpPr>
        <p:spPr>
          <a:xfrm>
            <a:off x="4827960" y="3941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5370840" y="1608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808960" y="184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123240" y="2255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694920" y="3760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7342560" y="377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6055920" y="4599000"/>
            <a:ext cx="26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uthoritative name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ns.cs.cornell.e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7095960" y="3114720"/>
            <a:ext cx="9720" cy="923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V="1">
            <a:off x="7286760" y="3124080"/>
            <a:ext cx="0" cy="866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0" name=""/>
          <p:cNvGrpSpPr/>
          <p:nvPr/>
        </p:nvGrpSpPr>
        <p:grpSpPr>
          <a:xfrm>
            <a:off x="6096960" y="3255840"/>
            <a:ext cx="2657160" cy="580680"/>
            <a:chOff x="6096960" y="3255840"/>
            <a:chExt cx="2657160" cy="580680"/>
          </a:xfrm>
        </p:grpSpPr>
        <p:sp>
          <p:nvSpPr>
            <p:cNvPr id="1641" name=""/>
            <p:cNvSpPr/>
            <p:nvPr/>
          </p:nvSpPr>
          <p:spPr>
            <a:xfrm>
              <a:off x="6201000" y="3333600"/>
              <a:ext cx="2400120" cy="43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096960" y="3255840"/>
              <a:ext cx="2657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ntermediate name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ns.cornell.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3" name=""/>
          <p:cNvSpPr/>
          <p:nvPr/>
        </p:nvSpPr>
        <p:spPr>
          <a:xfrm>
            <a:off x="6161400" y="277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380200" y="3960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5" name=""/>
          <p:cNvGrpSpPr/>
          <p:nvPr/>
        </p:nvGrpSpPr>
        <p:grpSpPr>
          <a:xfrm>
            <a:off x="4843440" y="4479840"/>
            <a:ext cx="741240" cy="603000"/>
            <a:chOff x="4843440" y="4479840"/>
            <a:chExt cx="741240" cy="603000"/>
          </a:xfrm>
        </p:grpSpPr>
        <p:grpSp>
          <p:nvGrpSpPr>
            <p:cNvPr id="1646" name=""/>
            <p:cNvGrpSpPr/>
            <p:nvPr/>
          </p:nvGrpSpPr>
          <p:grpSpPr>
            <a:xfrm>
              <a:off x="4843440" y="4929120"/>
              <a:ext cx="741240" cy="153720"/>
              <a:chOff x="4843440" y="4929120"/>
              <a:chExt cx="741240" cy="153720"/>
            </a:xfrm>
          </p:grpSpPr>
          <p:sp>
            <p:nvSpPr>
              <p:cNvPr id="1647" name=""/>
              <p:cNvSpPr/>
              <p:nvPr/>
            </p:nvSpPr>
            <p:spPr>
              <a:xfrm>
                <a:off x="4843440" y="4929120"/>
                <a:ext cx="741240" cy="15372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66" y="0"/>
                    </a:moveTo>
                    <a:lnTo>
                      <a:pt x="466" y="0"/>
                    </a:lnTo>
                    <a:lnTo>
                      <a:pt x="529" y="87"/>
                    </a:lnTo>
                    <a:lnTo>
                      <a:pt x="530" y="91"/>
                    </a:lnTo>
                    <a:lnTo>
                      <a:pt x="528" y="95"/>
                    </a:lnTo>
                    <a:lnTo>
                      <a:pt x="524" y="96"/>
                    </a:lnTo>
                    <a:lnTo>
                      <a:pt x="8" y="96"/>
                    </a:lnTo>
                    <a:lnTo>
                      <a:pt x="3" y="94"/>
                    </a:lnTo>
                    <a:lnTo>
                      <a:pt x="0" y="90"/>
                    </a:lnTo>
                    <a:lnTo>
                      <a:pt x="1" y="85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4885200" y="4960800"/>
                <a:ext cx="492840" cy="98280"/>
              </a:xfrm>
              <a:custGeom>
                <a:avLst/>
                <a:gdLst/>
                <a:ahLst/>
                <a:rect l="l" t="t" r="r" b="b"/>
                <a:pathLst>
                  <a:path w="353" h="62">
                    <a:moveTo>
                      <a:pt x="47" y="0"/>
                    </a:moveTo>
                    <a:lnTo>
                      <a:pt x="335" y="0"/>
                    </a:lnTo>
                    <a:lnTo>
                      <a:pt x="352" y="61"/>
                    </a:lnTo>
                    <a:lnTo>
                      <a:pt x="0" y="6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5392080" y="4960800"/>
                <a:ext cx="150480" cy="9828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0" y="0"/>
                    </a:moveTo>
                    <a:lnTo>
                      <a:pt x="63" y="0"/>
                    </a:lnTo>
                    <a:lnTo>
                      <a:pt x="107" y="61"/>
                    </a:lnTo>
                    <a:lnTo>
                      <a:pt x="20" y="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0" name=""/>
            <p:cNvGrpSpPr/>
            <p:nvPr/>
          </p:nvGrpSpPr>
          <p:grpSpPr>
            <a:xfrm>
              <a:off x="4970520" y="4479840"/>
              <a:ext cx="475560" cy="447480"/>
              <a:chOff x="4970520" y="4479840"/>
              <a:chExt cx="475560" cy="447480"/>
            </a:xfrm>
          </p:grpSpPr>
          <p:sp>
            <p:nvSpPr>
              <p:cNvPr id="1651" name=""/>
              <p:cNvSpPr/>
              <p:nvPr/>
            </p:nvSpPr>
            <p:spPr>
              <a:xfrm>
                <a:off x="4970520" y="4479840"/>
                <a:ext cx="475560" cy="447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5001120" y="4518000"/>
                <a:ext cx="412560" cy="37620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5367960" y="4518000"/>
                <a:ext cx="44280" cy="376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5383080" y="4538520"/>
                <a:ext cx="12600" cy="7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5385960" y="4709880"/>
                <a:ext cx="5400" cy="6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5385960" y="4781520"/>
                <a:ext cx="5400" cy="7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5385960" y="4851360"/>
                <a:ext cx="5400" cy="4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8" name=""/>
            <p:cNvSpPr/>
            <p:nvPr/>
          </p:nvSpPr>
          <p:spPr>
            <a:xfrm>
              <a:off x="5012280" y="4505400"/>
              <a:ext cx="386280" cy="382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9" name=""/>
          <p:cNvGrpSpPr/>
          <p:nvPr/>
        </p:nvGrpSpPr>
        <p:grpSpPr>
          <a:xfrm>
            <a:off x="6824520" y="5275440"/>
            <a:ext cx="741600" cy="602640"/>
            <a:chOff x="6824520" y="5275440"/>
            <a:chExt cx="741600" cy="602640"/>
          </a:xfrm>
        </p:grpSpPr>
        <p:grpSp>
          <p:nvGrpSpPr>
            <p:cNvPr id="1660" name=""/>
            <p:cNvGrpSpPr/>
            <p:nvPr/>
          </p:nvGrpSpPr>
          <p:grpSpPr>
            <a:xfrm>
              <a:off x="6824520" y="5724360"/>
              <a:ext cx="741600" cy="153720"/>
              <a:chOff x="6824520" y="5724360"/>
              <a:chExt cx="741600" cy="153720"/>
            </a:xfrm>
          </p:grpSpPr>
          <p:sp>
            <p:nvSpPr>
              <p:cNvPr id="1661" name=""/>
              <p:cNvSpPr/>
              <p:nvPr/>
            </p:nvSpPr>
            <p:spPr>
              <a:xfrm>
                <a:off x="6824520" y="5724360"/>
                <a:ext cx="741600" cy="15372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66" y="0"/>
                    </a:moveTo>
                    <a:lnTo>
                      <a:pt x="466" y="0"/>
                    </a:lnTo>
                    <a:lnTo>
                      <a:pt x="529" y="87"/>
                    </a:lnTo>
                    <a:lnTo>
                      <a:pt x="530" y="91"/>
                    </a:lnTo>
                    <a:lnTo>
                      <a:pt x="528" y="95"/>
                    </a:lnTo>
                    <a:lnTo>
                      <a:pt x="524" y="96"/>
                    </a:lnTo>
                    <a:lnTo>
                      <a:pt x="8" y="96"/>
                    </a:lnTo>
                    <a:lnTo>
                      <a:pt x="3" y="94"/>
                    </a:lnTo>
                    <a:lnTo>
                      <a:pt x="0" y="90"/>
                    </a:lnTo>
                    <a:lnTo>
                      <a:pt x="1" y="85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6866280" y="5756040"/>
                <a:ext cx="493200" cy="98280"/>
              </a:xfrm>
              <a:custGeom>
                <a:avLst/>
                <a:gdLst/>
                <a:ahLst/>
                <a:rect l="l" t="t" r="r" b="b"/>
                <a:pathLst>
                  <a:path w="353" h="62">
                    <a:moveTo>
                      <a:pt x="47" y="0"/>
                    </a:moveTo>
                    <a:lnTo>
                      <a:pt x="335" y="0"/>
                    </a:lnTo>
                    <a:lnTo>
                      <a:pt x="352" y="61"/>
                    </a:lnTo>
                    <a:lnTo>
                      <a:pt x="0" y="6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7373520" y="5756040"/>
                <a:ext cx="150480" cy="9828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0" y="0"/>
                    </a:moveTo>
                    <a:lnTo>
                      <a:pt x="63" y="0"/>
                    </a:lnTo>
                    <a:lnTo>
                      <a:pt x="107" y="61"/>
                    </a:lnTo>
                    <a:lnTo>
                      <a:pt x="20" y="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4" name=""/>
            <p:cNvGrpSpPr/>
            <p:nvPr/>
          </p:nvGrpSpPr>
          <p:grpSpPr>
            <a:xfrm>
              <a:off x="6951600" y="5275440"/>
              <a:ext cx="475920" cy="447480"/>
              <a:chOff x="6951600" y="5275440"/>
              <a:chExt cx="475920" cy="447480"/>
            </a:xfrm>
          </p:grpSpPr>
          <p:sp>
            <p:nvSpPr>
              <p:cNvPr id="1665" name=""/>
              <p:cNvSpPr/>
              <p:nvPr/>
            </p:nvSpPr>
            <p:spPr>
              <a:xfrm>
                <a:off x="6951600" y="5275440"/>
                <a:ext cx="475920" cy="447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6982200" y="5313600"/>
                <a:ext cx="412920" cy="37620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7349040" y="5313600"/>
                <a:ext cx="44280" cy="376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7364520" y="5334120"/>
                <a:ext cx="12600" cy="7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7367400" y="5505480"/>
                <a:ext cx="5400" cy="6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7367400" y="5577120"/>
                <a:ext cx="5400" cy="7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7367400" y="5646960"/>
                <a:ext cx="5400" cy="4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2" name=""/>
            <p:cNvSpPr/>
            <p:nvPr/>
          </p:nvSpPr>
          <p:spPr>
            <a:xfrm>
              <a:off x="6993360" y="5300640"/>
              <a:ext cx="386640" cy="382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73" name=""/>
          <p:cNvGraphicFramePr/>
          <p:nvPr/>
        </p:nvGraphicFramePr>
        <p:xfrm>
          <a:off x="6207120" y="966960"/>
          <a:ext cx="453960" cy="62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7120" y="966960"/>
                    <a:ext cx="453960" cy="62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5" name=""/>
          <p:cNvGraphicFramePr/>
          <p:nvPr/>
        </p:nvGraphicFramePr>
        <p:xfrm>
          <a:off x="4971960" y="2417760"/>
          <a:ext cx="453960" cy="62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71960" y="2417760"/>
                    <a:ext cx="4539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7" name=""/>
          <p:cNvGraphicFramePr/>
          <p:nvPr/>
        </p:nvGraphicFramePr>
        <p:xfrm>
          <a:off x="7008840" y="2343240"/>
          <a:ext cx="453960" cy="62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08840" y="2343240"/>
                    <a:ext cx="4539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9" name=""/>
          <p:cNvGraphicFramePr/>
          <p:nvPr/>
        </p:nvGraphicFramePr>
        <p:xfrm>
          <a:off x="6964200" y="4059360"/>
          <a:ext cx="454320" cy="62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64200" y="4059360"/>
                    <a:ext cx="45432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1" name=""/>
          <p:cNvSpPr/>
          <p:nvPr/>
        </p:nvSpPr>
        <p:spPr>
          <a:xfrm>
            <a:off x="6705720" y="1568520"/>
            <a:ext cx="981000" cy="609480"/>
          </a:xfrm>
          <a:prstGeom prst="wedgeRoundRectCallout">
            <a:avLst>
              <a:gd name="adj1" fmla="val -154694"/>
              <a:gd name="adj2" fmla="val 5208"/>
              <a:gd name="adj3" fmla="val 16667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terated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B169-2C8A-4A55-AA59-826C5E525F3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23640" y="-39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ent-Server Paradigm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94040" y="1001520"/>
            <a:ext cx="419076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ical network app has two pieces: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cli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"/>
          <p:cNvSpPr/>
          <p:nvPr/>
        </p:nvSpPr>
        <p:spPr>
          <a:xfrm>
            <a:off x="412920" y="785880"/>
            <a:ext cx="4295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li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tiates contact with server (“speaks first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ically requests service from serv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Web, client is implemented in browser; for e-mail, in mail r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9560" y="4086360"/>
            <a:ext cx="4176720" cy="29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erv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vides requested service to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Web server sends requested Web page, mail server delivers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130720" y="3827520"/>
            <a:ext cx="3054600" cy="2224080"/>
          </a:xfrm>
          <a:custGeom>
            <a:avLst/>
            <a:gdLst/>
            <a:ahLst/>
            <a:rect l="l" t="t" r="r" b="b"/>
            <a:pathLst>
              <a:path w="1924" h="1401">
                <a:moveTo>
                  <a:pt x="12" y="549"/>
                </a:moveTo>
                <a:cubicBezTo>
                  <a:pt x="0" y="411"/>
                  <a:pt x="3" y="130"/>
                  <a:pt x="80" y="65"/>
                </a:cubicBezTo>
                <a:cubicBezTo>
                  <a:pt x="157" y="0"/>
                  <a:pt x="375" y="133"/>
                  <a:pt x="474" y="158"/>
                </a:cubicBezTo>
                <a:cubicBezTo>
                  <a:pt x="573" y="183"/>
                  <a:pt x="577" y="188"/>
                  <a:pt x="673" y="215"/>
                </a:cubicBezTo>
                <a:cubicBezTo>
                  <a:pt x="769" y="242"/>
                  <a:pt x="935" y="310"/>
                  <a:pt x="1050" y="321"/>
                </a:cubicBezTo>
                <a:cubicBezTo>
                  <a:pt x="1165" y="332"/>
                  <a:pt x="1237" y="266"/>
                  <a:pt x="1363" y="279"/>
                </a:cubicBezTo>
                <a:cubicBezTo>
                  <a:pt x="1489" y="292"/>
                  <a:pt x="1722" y="270"/>
                  <a:pt x="1804" y="400"/>
                </a:cubicBezTo>
                <a:cubicBezTo>
                  <a:pt x="1886" y="530"/>
                  <a:pt x="1924" y="903"/>
                  <a:pt x="1853" y="1061"/>
                </a:cubicBezTo>
                <a:cubicBezTo>
                  <a:pt x="1782" y="1219"/>
                  <a:pt x="1518" y="1293"/>
                  <a:pt x="1376" y="1347"/>
                </a:cubicBezTo>
                <a:cubicBezTo>
                  <a:pt x="1234" y="1401"/>
                  <a:pt x="1113" y="1399"/>
                  <a:pt x="1001" y="1387"/>
                </a:cubicBezTo>
                <a:cubicBezTo>
                  <a:pt x="889" y="1375"/>
                  <a:pt x="806" y="1330"/>
                  <a:pt x="702" y="1276"/>
                </a:cubicBezTo>
                <a:cubicBezTo>
                  <a:pt x="598" y="1222"/>
                  <a:pt x="467" y="1123"/>
                  <a:pt x="375" y="1060"/>
                </a:cubicBezTo>
                <a:cubicBezTo>
                  <a:pt x="283" y="997"/>
                  <a:pt x="209" y="983"/>
                  <a:pt x="149" y="898"/>
                </a:cubicBezTo>
                <a:cubicBezTo>
                  <a:pt x="89" y="813"/>
                  <a:pt x="10" y="690"/>
                  <a:pt x="12" y="549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680160" y="2560680"/>
            <a:ext cx="1730520" cy="1474920"/>
          </a:xfrm>
          <a:custGeom>
            <a:avLst/>
            <a:gdLst/>
            <a:ahLst/>
            <a:rect l="l" t="t" r="r" b="b"/>
            <a:pathLst>
              <a:path w="1090" h="929">
                <a:moveTo>
                  <a:pt x="238" y="9"/>
                </a:moveTo>
                <a:cubicBezTo>
                  <a:pt x="139" y="18"/>
                  <a:pt x="50" y="64"/>
                  <a:pt x="25" y="123"/>
                </a:cubicBezTo>
                <a:cubicBezTo>
                  <a:pt x="0" y="182"/>
                  <a:pt x="71" y="290"/>
                  <a:pt x="89" y="365"/>
                </a:cubicBezTo>
                <a:cubicBezTo>
                  <a:pt x="107" y="440"/>
                  <a:pt x="119" y="487"/>
                  <a:pt x="131" y="571"/>
                </a:cubicBezTo>
                <a:cubicBezTo>
                  <a:pt x="143" y="655"/>
                  <a:pt x="93" y="811"/>
                  <a:pt x="160" y="870"/>
                </a:cubicBezTo>
                <a:cubicBezTo>
                  <a:pt x="227" y="929"/>
                  <a:pt x="421" y="921"/>
                  <a:pt x="531" y="924"/>
                </a:cubicBezTo>
                <a:cubicBezTo>
                  <a:pt x="641" y="927"/>
                  <a:pt x="738" y="908"/>
                  <a:pt x="821" y="891"/>
                </a:cubicBezTo>
                <a:cubicBezTo>
                  <a:pt x="904" y="874"/>
                  <a:pt x="984" y="911"/>
                  <a:pt x="1027" y="821"/>
                </a:cubicBezTo>
                <a:cubicBezTo>
                  <a:pt x="1070" y="731"/>
                  <a:pt x="1090" y="458"/>
                  <a:pt x="1079" y="349"/>
                </a:cubicBezTo>
                <a:cubicBezTo>
                  <a:pt x="1068" y="240"/>
                  <a:pt x="1039" y="212"/>
                  <a:pt x="963" y="166"/>
                </a:cubicBezTo>
                <a:cubicBezTo>
                  <a:pt x="887" y="120"/>
                  <a:pt x="742" y="98"/>
                  <a:pt x="621" y="72"/>
                </a:cubicBezTo>
                <a:cubicBezTo>
                  <a:pt x="500" y="46"/>
                  <a:pt x="337" y="0"/>
                  <a:pt x="238" y="9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86480" y="2370240"/>
            <a:ext cx="1881000" cy="1587240"/>
          </a:xfrm>
          <a:custGeom>
            <a:avLst/>
            <a:gdLst/>
            <a:ahLst/>
            <a:rect l="l" t="t" r="r" b="b"/>
            <a:pathLst>
              <a:path w="1185" h="1000">
                <a:moveTo>
                  <a:pt x="512" y="33"/>
                </a:moveTo>
                <a:cubicBezTo>
                  <a:pt x="413" y="1"/>
                  <a:pt x="185" y="0"/>
                  <a:pt x="101" y="48"/>
                </a:cubicBezTo>
                <a:cubicBezTo>
                  <a:pt x="17" y="96"/>
                  <a:pt x="16" y="229"/>
                  <a:pt x="8" y="321"/>
                </a:cubicBezTo>
                <a:cubicBezTo>
                  <a:pt x="0" y="413"/>
                  <a:pt x="34" y="529"/>
                  <a:pt x="54" y="603"/>
                </a:cubicBezTo>
                <a:cubicBezTo>
                  <a:pt x="74" y="677"/>
                  <a:pt x="70" y="726"/>
                  <a:pt x="129" y="762"/>
                </a:cubicBezTo>
                <a:cubicBezTo>
                  <a:pt x="188" y="798"/>
                  <a:pt x="309" y="787"/>
                  <a:pt x="406" y="819"/>
                </a:cubicBezTo>
                <a:cubicBezTo>
                  <a:pt x="503" y="851"/>
                  <a:pt x="594" y="937"/>
                  <a:pt x="712" y="954"/>
                </a:cubicBezTo>
                <a:cubicBezTo>
                  <a:pt x="830" y="971"/>
                  <a:pt x="1039" y="1000"/>
                  <a:pt x="1112" y="921"/>
                </a:cubicBezTo>
                <a:cubicBezTo>
                  <a:pt x="1185" y="842"/>
                  <a:pt x="1153" y="583"/>
                  <a:pt x="1149" y="477"/>
                </a:cubicBezTo>
                <a:cubicBezTo>
                  <a:pt x="1144" y="371"/>
                  <a:pt x="1157" y="336"/>
                  <a:pt x="1086" y="285"/>
                </a:cubicBezTo>
                <a:cubicBezTo>
                  <a:pt x="1015" y="234"/>
                  <a:pt x="822" y="214"/>
                  <a:pt x="726" y="172"/>
                </a:cubicBezTo>
                <a:cubicBezTo>
                  <a:pt x="630" y="130"/>
                  <a:pt x="557" y="62"/>
                  <a:pt x="512" y="33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5389560" y="2746440"/>
            <a:ext cx="13320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43520" y="3306600"/>
            <a:ext cx="4953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846760" y="3303720"/>
            <a:ext cx="144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342120" y="3301920"/>
            <a:ext cx="1440" cy="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543640" y="2766960"/>
            <a:ext cx="288720" cy="26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556240" y="3052440"/>
            <a:ext cx="27612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6083280" y="3138480"/>
            <a:ext cx="144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5651640" y="4241880"/>
            <a:ext cx="7272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5651640" y="4842000"/>
            <a:ext cx="72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718240" y="4240080"/>
            <a:ext cx="0" cy="60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6367320" y="4951080"/>
            <a:ext cx="1800" cy="6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743440" y="4940280"/>
            <a:ext cx="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5745240" y="494676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724360" y="4484160"/>
            <a:ext cx="235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234120" y="4594320"/>
            <a:ext cx="441360" cy="30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7097400" y="4592520"/>
            <a:ext cx="415800" cy="40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980400" y="509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7586640" y="4565160"/>
            <a:ext cx="0" cy="67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594560" y="5241960"/>
            <a:ext cx="1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591320" y="476568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6337440" y="2817720"/>
            <a:ext cx="458640" cy="20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7532640" y="3103560"/>
            <a:ext cx="488880" cy="739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021440" y="2914560"/>
            <a:ext cx="406440" cy="44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967440" y="2873520"/>
            <a:ext cx="208080" cy="83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385040" y="3917880"/>
            <a:ext cx="122400" cy="469800"/>
          </a:xfrm>
          <a:custGeom>
            <a:avLst/>
            <a:gdLst/>
            <a:ahLst/>
            <a:rect l="l" t="t" r="r" b="b"/>
            <a:pathLst>
              <a:path w="77" h="296">
                <a:moveTo>
                  <a:pt x="0" y="0"/>
                </a:moveTo>
                <a:lnTo>
                  <a:pt x="77" y="29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7631280" y="3106800"/>
            <a:ext cx="20952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7267320" y="2084400"/>
            <a:ext cx="803160" cy="63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8007480" y="2170080"/>
            <a:ext cx="303120" cy="72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5818320" y="2925720"/>
            <a:ext cx="501480" cy="232920"/>
            <a:chOff x="5818320" y="2925720"/>
            <a:chExt cx="501480" cy="232920"/>
          </a:xfrm>
        </p:grpSpPr>
        <p:sp>
          <p:nvSpPr>
            <p:cNvPr id="409" name=""/>
            <p:cNvSpPr/>
            <p:nvPr/>
          </p:nvSpPr>
          <p:spPr>
            <a:xfrm>
              <a:off x="5822280" y="3029760"/>
              <a:ext cx="497160" cy="1288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822280" y="30186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319800" y="30186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822280" y="3018600"/>
              <a:ext cx="492840" cy="78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818320" y="2925720"/>
              <a:ext cx="496800" cy="1504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5937840" y="2958480"/>
              <a:ext cx="246240" cy="88200"/>
              <a:chOff x="5937840" y="2958480"/>
              <a:chExt cx="246240" cy="88200"/>
            </a:xfrm>
          </p:grpSpPr>
          <p:sp>
            <p:nvSpPr>
              <p:cNvPr id="415" name=""/>
              <p:cNvSpPr/>
              <p:nvPr/>
            </p:nvSpPr>
            <p:spPr>
              <a:xfrm flipV="1">
                <a:off x="5937840" y="2958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106680" y="3046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018840" y="29606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5937840" y="2957760"/>
              <a:ext cx="246240" cy="88200"/>
              <a:chOff x="5937840" y="2957760"/>
              <a:chExt cx="246240" cy="88200"/>
            </a:xfrm>
          </p:grpSpPr>
          <p:sp>
            <p:nvSpPr>
              <p:cNvPr id="419" name=""/>
              <p:cNvSpPr/>
              <p:nvPr/>
            </p:nvSpPr>
            <p:spPr>
              <a:xfrm>
                <a:off x="5937840" y="3044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106680" y="2957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6018840" y="29577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2" name=""/>
          <p:cNvGrpSpPr/>
          <p:nvPr/>
        </p:nvGrpSpPr>
        <p:grpSpPr>
          <a:xfrm>
            <a:off x="6770520" y="2685960"/>
            <a:ext cx="501840" cy="232920"/>
            <a:chOff x="6770520" y="2685960"/>
            <a:chExt cx="501840" cy="232920"/>
          </a:xfrm>
        </p:grpSpPr>
        <p:sp>
          <p:nvSpPr>
            <p:cNvPr id="423" name=""/>
            <p:cNvSpPr/>
            <p:nvPr/>
          </p:nvSpPr>
          <p:spPr>
            <a:xfrm>
              <a:off x="6774480" y="2790000"/>
              <a:ext cx="497520" cy="1288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774480" y="27788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272360" y="27788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774480" y="2778840"/>
              <a:ext cx="493200" cy="78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770520" y="2685960"/>
              <a:ext cx="497160" cy="1504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6890040" y="2718720"/>
              <a:ext cx="246240" cy="88200"/>
              <a:chOff x="6890040" y="2718720"/>
              <a:chExt cx="246240" cy="88200"/>
            </a:xfrm>
          </p:grpSpPr>
          <p:sp>
            <p:nvSpPr>
              <p:cNvPr id="429" name=""/>
              <p:cNvSpPr/>
              <p:nvPr/>
            </p:nvSpPr>
            <p:spPr>
              <a:xfrm flipV="1">
                <a:off x="6890040" y="27187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058880" y="2806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971040" y="27208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6890040" y="2718000"/>
              <a:ext cx="246240" cy="88200"/>
              <a:chOff x="6890040" y="2718000"/>
              <a:chExt cx="246240" cy="88200"/>
            </a:xfrm>
          </p:grpSpPr>
          <p:sp>
            <p:nvSpPr>
              <p:cNvPr id="433" name=""/>
              <p:cNvSpPr/>
              <p:nvPr/>
            </p:nvSpPr>
            <p:spPr>
              <a:xfrm>
                <a:off x="6890040" y="28044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58880" y="27180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6971040" y="27180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6" name=""/>
          <p:cNvGrpSpPr/>
          <p:nvPr/>
        </p:nvGrpSpPr>
        <p:grpSpPr>
          <a:xfrm>
            <a:off x="7758000" y="2894040"/>
            <a:ext cx="500040" cy="232920"/>
            <a:chOff x="7758000" y="2894040"/>
            <a:chExt cx="500040" cy="232920"/>
          </a:xfrm>
        </p:grpSpPr>
        <p:sp>
          <p:nvSpPr>
            <p:cNvPr id="437" name=""/>
            <p:cNvSpPr/>
            <p:nvPr/>
          </p:nvSpPr>
          <p:spPr>
            <a:xfrm>
              <a:off x="7761960" y="2998080"/>
              <a:ext cx="495720" cy="1288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761960" y="2986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258040" y="2986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761960" y="2986920"/>
              <a:ext cx="491400" cy="78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758000" y="2894040"/>
              <a:ext cx="495360" cy="1504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7877160" y="2926800"/>
              <a:ext cx="245520" cy="88200"/>
              <a:chOff x="7877160" y="2926800"/>
              <a:chExt cx="245520" cy="88200"/>
            </a:xfrm>
          </p:grpSpPr>
          <p:sp>
            <p:nvSpPr>
              <p:cNvPr id="443" name=""/>
              <p:cNvSpPr/>
              <p:nvPr/>
            </p:nvSpPr>
            <p:spPr>
              <a:xfrm flipV="1">
                <a:off x="7877160" y="29268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8045640" y="30150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957800" y="292896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7877160" y="2926080"/>
              <a:ext cx="245520" cy="88200"/>
              <a:chOff x="7877160" y="2926080"/>
              <a:chExt cx="245520" cy="88200"/>
            </a:xfrm>
          </p:grpSpPr>
          <p:sp>
            <p:nvSpPr>
              <p:cNvPr id="447" name=""/>
              <p:cNvSpPr/>
              <p:nvPr/>
            </p:nvSpPr>
            <p:spPr>
              <a:xfrm>
                <a:off x="7877160" y="301248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8045640" y="29260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>
                <a:off x="7957800" y="292608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0" name=""/>
          <p:cNvGrpSpPr/>
          <p:nvPr/>
        </p:nvGrpSpPr>
        <p:grpSpPr>
          <a:xfrm>
            <a:off x="7061040" y="3691080"/>
            <a:ext cx="501840" cy="232920"/>
            <a:chOff x="7061040" y="3691080"/>
            <a:chExt cx="501840" cy="232920"/>
          </a:xfrm>
        </p:grpSpPr>
        <p:sp>
          <p:nvSpPr>
            <p:cNvPr id="451" name=""/>
            <p:cNvSpPr/>
            <p:nvPr/>
          </p:nvSpPr>
          <p:spPr>
            <a:xfrm>
              <a:off x="7065000" y="3795120"/>
              <a:ext cx="497520" cy="1288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065000" y="3783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62880" y="3783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065000" y="3783960"/>
              <a:ext cx="493200" cy="78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061040" y="3691080"/>
              <a:ext cx="497160" cy="1504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7180560" y="3723840"/>
              <a:ext cx="246240" cy="88200"/>
              <a:chOff x="7180560" y="3723840"/>
              <a:chExt cx="246240" cy="88200"/>
            </a:xfrm>
          </p:grpSpPr>
          <p:sp>
            <p:nvSpPr>
              <p:cNvPr id="457" name=""/>
              <p:cNvSpPr/>
              <p:nvPr/>
            </p:nvSpPr>
            <p:spPr>
              <a:xfrm flipV="1">
                <a:off x="7180560" y="3723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349400" y="38120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261560" y="37260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7180560" y="3723120"/>
              <a:ext cx="246240" cy="88200"/>
              <a:chOff x="7180560" y="3723120"/>
              <a:chExt cx="246240" cy="88200"/>
            </a:xfrm>
          </p:grpSpPr>
          <p:sp>
            <p:nvSpPr>
              <p:cNvPr id="461" name=""/>
              <p:cNvSpPr/>
              <p:nvPr/>
            </p:nvSpPr>
            <p:spPr>
              <a:xfrm>
                <a:off x="7180560" y="3809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349400" y="3723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7261560" y="37231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4" name=""/>
          <p:cNvGrpSpPr/>
          <p:nvPr/>
        </p:nvGrpSpPr>
        <p:grpSpPr>
          <a:xfrm>
            <a:off x="7230960" y="4375080"/>
            <a:ext cx="501840" cy="234720"/>
            <a:chOff x="7230960" y="4375080"/>
            <a:chExt cx="501840" cy="234720"/>
          </a:xfrm>
        </p:grpSpPr>
        <p:sp>
          <p:nvSpPr>
            <p:cNvPr id="465" name=""/>
            <p:cNvSpPr/>
            <p:nvPr/>
          </p:nvSpPr>
          <p:spPr>
            <a:xfrm>
              <a:off x="7234920" y="4479840"/>
              <a:ext cx="497520" cy="12996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234920" y="44686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732800" y="44686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234920" y="4468680"/>
              <a:ext cx="493200" cy="79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230960" y="4375080"/>
              <a:ext cx="497160" cy="15156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7350480" y="4408200"/>
              <a:ext cx="246240" cy="88920"/>
              <a:chOff x="7350480" y="4408200"/>
              <a:chExt cx="246240" cy="88920"/>
            </a:xfrm>
          </p:grpSpPr>
          <p:sp>
            <p:nvSpPr>
              <p:cNvPr id="471" name=""/>
              <p:cNvSpPr/>
              <p:nvPr/>
            </p:nvSpPr>
            <p:spPr>
              <a:xfrm flipV="1">
                <a:off x="7350480" y="44082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519320" y="4497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431480" y="44103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7350480" y="4407120"/>
              <a:ext cx="246240" cy="88920"/>
              <a:chOff x="7350480" y="4407120"/>
              <a:chExt cx="246240" cy="88920"/>
            </a:xfrm>
          </p:grpSpPr>
          <p:sp>
            <p:nvSpPr>
              <p:cNvPr id="475" name=""/>
              <p:cNvSpPr/>
              <p:nvPr/>
            </p:nvSpPr>
            <p:spPr>
              <a:xfrm>
                <a:off x="7350480" y="4494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519320" y="4407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7431480" y="44071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8" name=""/>
          <p:cNvSpPr/>
          <p:nvPr/>
        </p:nvSpPr>
        <p:spPr>
          <a:xfrm flipV="1">
            <a:off x="6073920" y="4700160"/>
            <a:ext cx="1440" cy="24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5548320" y="5014800"/>
          <a:ext cx="330120" cy="43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8320" y="5014800"/>
                    <a:ext cx="33012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1" name=""/>
          <p:cNvGraphicFramePr/>
          <p:nvPr/>
        </p:nvGraphicFramePr>
        <p:xfrm>
          <a:off x="6162840" y="4997520"/>
          <a:ext cx="330120" cy="43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62840" y="4997520"/>
                    <a:ext cx="330120" cy="43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3" name=""/>
          <p:cNvGrpSpPr/>
          <p:nvPr/>
        </p:nvGrpSpPr>
        <p:grpSpPr>
          <a:xfrm>
            <a:off x="5299200" y="4008600"/>
            <a:ext cx="380880" cy="286920"/>
            <a:chOff x="5299200" y="4008600"/>
            <a:chExt cx="380880" cy="286920"/>
          </a:xfrm>
        </p:grpSpPr>
        <p:grpSp>
          <p:nvGrpSpPr>
            <p:cNvPr id="484" name=""/>
            <p:cNvGrpSpPr/>
            <p:nvPr/>
          </p:nvGrpSpPr>
          <p:grpSpPr>
            <a:xfrm>
              <a:off x="5299200" y="4222440"/>
              <a:ext cx="380880" cy="73080"/>
              <a:chOff x="5299200" y="4222440"/>
              <a:chExt cx="380880" cy="73080"/>
            </a:xfrm>
          </p:grpSpPr>
          <p:sp>
            <p:nvSpPr>
              <p:cNvPr id="485" name=""/>
              <p:cNvSpPr/>
              <p:nvPr/>
            </p:nvSpPr>
            <p:spPr>
              <a:xfrm>
                <a:off x="5299200" y="4222440"/>
                <a:ext cx="380880" cy="7308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66" y="0"/>
                    </a:moveTo>
                    <a:lnTo>
                      <a:pt x="466" y="0"/>
                    </a:lnTo>
                    <a:lnTo>
                      <a:pt x="529" y="87"/>
                    </a:lnTo>
                    <a:lnTo>
                      <a:pt x="530" y="91"/>
                    </a:lnTo>
                    <a:lnTo>
                      <a:pt x="528" y="95"/>
                    </a:lnTo>
                    <a:lnTo>
                      <a:pt x="524" y="96"/>
                    </a:lnTo>
                    <a:lnTo>
                      <a:pt x="8" y="96"/>
                    </a:lnTo>
                    <a:lnTo>
                      <a:pt x="3" y="94"/>
                    </a:lnTo>
                    <a:lnTo>
                      <a:pt x="0" y="90"/>
                    </a:lnTo>
                    <a:lnTo>
                      <a:pt x="1" y="85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320440" y="4237200"/>
                <a:ext cx="253440" cy="46800"/>
              </a:xfrm>
              <a:custGeom>
                <a:avLst/>
                <a:gdLst/>
                <a:ahLst/>
                <a:rect l="l" t="t" r="r" b="b"/>
                <a:pathLst>
                  <a:path w="353" h="62">
                    <a:moveTo>
                      <a:pt x="47" y="0"/>
                    </a:moveTo>
                    <a:lnTo>
                      <a:pt x="335" y="0"/>
                    </a:lnTo>
                    <a:lnTo>
                      <a:pt x="352" y="61"/>
                    </a:lnTo>
                    <a:lnTo>
                      <a:pt x="0" y="6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581080" y="4237200"/>
                <a:ext cx="77400" cy="4680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0" y="0"/>
                    </a:moveTo>
                    <a:lnTo>
                      <a:pt x="63" y="0"/>
                    </a:lnTo>
                    <a:lnTo>
                      <a:pt x="107" y="61"/>
                    </a:lnTo>
                    <a:lnTo>
                      <a:pt x="20" y="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5364360" y="4008600"/>
              <a:ext cx="244440" cy="213120"/>
              <a:chOff x="5364360" y="4008600"/>
              <a:chExt cx="244440" cy="213120"/>
            </a:xfrm>
          </p:grpSpPr>
          <p:sp>
            <p:nvSpPr>
              <p:cNvPr id="489" name=""/>
              <p:cNvSpPr/>
              <p:nvPr/>
            </p:nvSpPr>
            <p:spPr>
              <a:xfrm>
                <a:off x="5364360" y="4008600"/>
                <a:ext cx="244440" cy="213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379840" y="4026600"/>
                <a:ext cx="212040" cy="1792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568480" y="4026600"/>
                <a:ext cx="22680" cy="179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576400" y="4036320"/>
                <a:ext cx="6480" cy="3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577840" y="4118040"/>
                <a:ext cx="2880" cy="2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577840" y="4152240"/>
                <a:ext cx="2880" cy="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577840" y="4185360"/>
                <a:ext cx="2880" cy="2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5385960" y="4020480"/>
              <a:ext cx="198360" cy="182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5305320" y="4611600"/>
            <a:ext cx="381240" cy="286920"/>
            <a:chOff x="5305320" y="4611600"/>
            <a:chExt cx="381240" cy="286920"/>
          </a:xfrm>
        </p:grpSpPr>
        <p:grpSp>
          <p:nvGrpSpPr>
            <p:cNvPr id="498" name=""/>
            <p:cNvGrpSpPr/>
            <p:nvPr/>
          </p:nvGrpSpPr>
          <p:grpSpPr>
            <a:xfrm>
              <a:off x="5305320" y="4825440"/>
              <a:ext cx="381240" cy="73080"/>
              <a:chOff x="5305320" y="4825440"/>
              <a:chExt cx="381240" cy="73080"/>
            </a:xfrm>
          </p:grpSpPr>
          <p:sp>
            <p:nvSpPr>
              <p:cNvPr id="499" name=""/>
              <p:cNvSpPr/>
              <p:nvPr/>
            </p:nvSpPr>
            <p:spPr>
              <a:xfrm>
                <a:off x="5305320" y="4825440"/>
                <a:ext cx="381240" cy="7308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66" y="0"/>
                    </a:moveTo>
                    <a:lnTo>
                      <a:pt x="466" y="0"/>
                    </a:lnTo>
                    <a:lnTo>
                      <a:pt x="529" y="87"/>
                    </a:lnTo>
                    <a:lnTo>
                      <a:pt x="530" y="91"/>
                    </a:lnTo>
                    <a:lnTo>
                      <a:pt x="528" y="95"/>
                    </a:lnTo>
                    <a:lnTo>
                      <a:pt x="524" y="96"/>
                    </a:lnTo>
                    <a:lnTo>
                      <a:pt x="8" y="96"/>
                    </a:lnTo>
                    <a:lnTo>
                      <a:pt x="3" y="94"/>
                    </a:lnTo>
                    <a:lnTo>
                      <a:pt x="0" y="90"/>
                    </a:lnTo>
                    <a:lnTo>
                      <a:pt x="1" y="85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326560" y="4840200"/>
                <a:ext cx="253440" cy="46800"/>
              </a:xfrm>
              <a:custGeom>
                <a:avLst/>
                <a:gdLst/>
                <a:ahLst/>
                <a:rect l="l" t="t" r="r" b="b"/>
                <a:pathLst>
                  <a:path w="353" h="62">
                    <a:moveTo>
                      <a:pt x="47" y="0"/>
                    </a:moveTo>
                    <a:lnTo>
                      <a:pt x="335" y="0"/>
                    </a:lnTo>
                    <a:lnTo>
                      <a:pt x="352" y="61"/>
                    </a:lnTo>
                    <a:lnTo>
                      <a:pt x="0" y="6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587560" y="4840200"/>
                <a:ext cx="77400" cy="4680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0" y="0"/>
                    </a:moveTo>
                    <a:lnTo>
                      <a:pt x="63" y="0"/>
                    </a:lnTo>
                    <a:lnTo>
                      <a:pt x="107" y="61"/>
                    </a:lnTo>
                    <a:lnTo>
                      <a:pt x="20" y="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5370480" y="4611600"/>
              <a:ext cx="244440" cy="213120"/>
              <a:chOff x="5370480" y="4611600"/>
              <a:chExt cx="244440" cy="213120"/>
            </a:xfrm>
          </p:grpSpPr>
          <p:sp>
            <p:nvSpPr>
              <p:cNvPr id="503" name=""/>
              <p:cNvSpPr/>
              <p:nvPr/>
            </p:nvSpPr>
            <p:spPr>
              <a:xfrm>
                <a:off x="5370480" y="4611600"/>
                <a:ext cx="244440" cy="213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385960" y="4629600"/>
                <a:ext cx="212040" cy="1792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574600" y="4629600"/>
                <a:ext cx="22680" cy="179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582520" y="4639320"/>
                <a:ext cx="6480" cy="3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583960" y="4721040"/>
                <a:ext cx="2880" cy="2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583960" y="4755240"/>
                <a:ext cx="2880" cy="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583960" y="4788360"/>
                <a:ext cx="2880" cy="2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392080" y="4623480"/>
              <a:ext cx="198720" cy="182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5943600" y="4361040"/>
            <a:ext cx="501480" cy="232920"/>
            <a:chOff x="5943600" y="4361040"/>
            <a:chExt cx="501480" cy="232920"/>
          </a:xfrm>
        </p:grpSpPr>
        <p:sp>
          <p:nvSpPr>
            <p:cNvPr id="512" name=""/>
            <p:cNvSpPr/>
            <p:nvPr/>
          </p:nvSpPr>
          <p:spPr>
            <a:xfrm>
              <a:off x="5947560" y="4465080"/>
              <a:ext cx="497160" cy="1288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947560" y="4453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445080" y="4453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947560" y="4453920"/>
              <a:ext cx="492840" cy="78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943600" y="4361040"/>
              <a:ext cx="496800" cy="1504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6063120" y="4393800"/>
              <a:ext cx="246240" cy="88200"/>
              <a:chOff x="6063120" y="4393800"/>
              <a:chExt cx="246240" cy="88200"/>
            </a:xfrm>
          </p:grpSpPr>
          <p:sp>
            <p:nvSpPr>
              <p:cNvPr id="518" name=""/>
              <p:cNvSpPr/>
              <p:nvPr/>
            </p:nvSpPr>
            <p:spPr>
              <a:xfrm flipV="1">
                <a:off x="6063120" y="4393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231960" y="44820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44120" y="43959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6063120" y="4393080"/>
              <a:ext cx="246240" cy="88200"/>
              <a:chOff x="6063120" y="4393080"/>
              <a:chExt cx="246240" cy="88200"/>
            </a:xfrm>
          </p:grpSpPr>
          <p:sp>
            <p:nvSpPr>
              <p:cNvPr id="522" name=""/>
              <p:cNvSpPr/>
              <p:nvPr/>
            </p:nvSpPr>
            <p:spPr>
              <a:xfrm>
                <a:off x="6063120" y="4479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231960" y="4393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6144120" y="43930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5" name=""/>
          <p:cNvGrpSpPr/>
          <p:nvPr/>
        </p:nvGrpSpPr>
        <p:grpSpPr>
          <a:xfrm>
            <a:off x="6993000" y="5608800"/>
            <a:ext cx="379440" cy="325440"/>
            <a:chOff x="6993000" y="5608800"/>
            <a:chExt cx="379440" cy="325440"/>
          </a:xfrm>
        </p:grpSpPr>
        <p:pic>
          <p:nvPicPr>
            <p:cNvPr id="526" name="" descr=""/>
            <p:cNvPicPr/>
            <p:nvPr/>
          </p:nvPicPr>
          <p:blipFill>
            <a:blip r:embed="rId5"/>
            <a:stretch/>
          </p:blipFill>
          <p:spPr>
            <a:xfrm>
              <a:off x="6993000" y="5608800"/>
              <a:ext cx="379440" cy="3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" descr=""/>
            <p:cNvPicPr/>
            <p:nvPr/>
          </p:nvPicPr>
          <p:blipFill>
            <a:blip r:embed="rId6"/>
            <a:stretch/>
          </p:blipFill>
          <p:spPr>
            <a:xfrm>
              <a:off x="7073280" y="5647320"/>
              <a:ext cx="160200" cy="13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8" name=""/>
          <p:cNvGrpSpPr/>
          <p:nvPr/>
        </p:nvGrpSpPr>
        <p:grpSpPr>
          <a:xfrm>
            <a:off x="6616800" y="4886280"/>
            <a:ext cx="501480" cy="232920"/>
            <a:chOff x="6616800" y="4886280"/>
            <a:chExt cx="501480" cy="232920"/>
          </a:xfrm>
        </p:grpSpPr>
        <p:sp>
          <p:nvSpPr>
            <p:cNvPr id="529" name=""/>
            <p:cNvSpPr/>
            <p:nvPr/>
          </p:nvSpPr>
          <p:spPr>
            <a:xfrm>
              <a:off x="6620760" y="4990320"/>
              <a:ext cx="497160" cy="1288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20760" y="4979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118280" y="4979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620760" y="4979160"/>
              <a:ext cx="492840" cy="78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616800" y="4886280"/>
              <a:ext cx="496800" cy="1504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6736320" y="4919040"/>
              <a:ext cx="246240" cy="88200"/>
              <a:chOff x="6736320" y="4919040"/>
              <a:chExt cx="246240" cy="88200"/>
            </a:xfrm>
          </p:grpSpPr>
          <p:sp>
            <p:nvSpPr>
              <p:cNvPr id="535" name=""/>
              <p:cNvSpPr/>
              <p:nvPr/>
            </p:nvSpPr>
            <p:spPr>
              <a:xfrm flipV="1">
                <a:off x="6736320" y="4919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905160" y="5007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817320" y="49212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6736320" y="4918320"/>
              <a:ext cx="246240" cy="88200"/>
              <a:chOff x="6736320" y="4918320"/>
              <a:chExt cx="246240" cy="88200"/>
            </a:xfrm>
          </p:grpSpPr>
          <p:sp>
            <p:nvSpPr>
              <p:cNvPr id="539" name=""/>
              <p:cNvSpPr/>
              <p:nvPr/>
            </p:nvSpPr>
            <p:spPr>
              <a:xfrm>
                <a:off x="6736320" y="50047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905160" y="49183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V="1">
                <a:off x="6817320" y="4918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2" name=""/>
          <p:cNvGrpSpPr/>
          <p:nvPr/>
        </p:nvGrpSpPr>
        <p:grpSpPr>
          <a:xfrm>
            <a:off x="7281720" y="3225960"/>
            <a:ext cx="501840" cy="232920"/>
            <a:chOff x="7281720" y="3225960"/>
            <a:chExt cx="501840" cy="232920"/>
          </a:xfrm>
        </p:grpSpPr>
        <p:sp>
          <p:nvSpPr>
            <p:cNvPr id="543" name=""/>
            <p:cNvSpPr/>
            <p:nvPr/>
          </p:nvSpPr>
          <p:spPr>
            <a:xfrm>
              <a:off x="7285680" y="3330000"/>
              <a:ext cx="497520" cy="1288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285680" y="33188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783560" y="33188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285680" y="3318840"/>
              <a:ext cx="493200" cy="78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281720" y="3225960"/>
              <a:ext cx="497160" cy="1504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7401240" y="3258720"/>
              <a:ext cx="246240" cy="88200"/>
              <a:chOff x="7401240" y="3258720"/>
              <a:chExt cx="246240" cy="88200"/>
            </a:xfrm>
          </p:grpSpPr>
          <p:sp>
            <p:nvSpPr>
              <p:cNvPr id="549" name=""/>
              <p:cNvSpPr/>
              <p:nvPr/>
            </p:nvSpPr>
            <p:spPr>
              <a:xfrm flipV="1">
                <a:off x="7401240" y="32587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570080" y="3346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482240" y="32608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7401240" y="3258000"/>
              <a:ext cx="246240" cy="88200"/>
              <a:chOff x="7401240" y="3258000"/>
              <a:chExt cx="246240" cy="88200"/>
            </a:xfrm>
          </p:grpSpPr>
          <p:sp>
            <p:nvSpPr>
              <p:cNvPr id="553" name=""/>
              <p:cNvSpPr/>
              <p:nvPr/>
            </p:nvSpPr>
            <p:spPr>
              <a:xfrm>
                <a:off x="7401240" y="33444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570080" y="32580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V="1">
                <a:off x="7482240" y="32580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56" name=""/>
          <p:cNvGraphicFramePr/>
          <p:nvPr/>
        </p:nvGraphicFramePr>
        <p:xfrm>
          <a:off x="5711760" y="3382920"/>
          <a:ext cx="250920" cy="425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1760" y="3382920"/>
                    <a:ext cx="25092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8" name=""/>
          <p:cNvGraphicFramePr/>
          <p:nvPr/>
        </p:nvGraphicFramePr>
        <p:xfrm>
          <a:off x="7686720" y="4543560"/>
          <a:ext cx="250920" cy="425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86720" y="4543560"/>
                    <a:ext cx="25092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0" name=""/>
          <p:cNvGraphicFramePr/>
          <p:nvPr/>
        </p:nvGraphicFramePr>
        <p:xfrm>
          <a:off x="6202440" y="3398760"/>
          <a:ext cx="250920" cy="425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02440" y="3398760"/>
                    <a:ext cx="25092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2" name=""/>
          <p:cNvGrpSpPr/>
          <p:nvPr/>
        </p:nvGrpSpPr>
        <p:grpSpPr>
          <a:xfrm>
            <a:off x="4853160" y="3166920"/>
            <a:ext cx="380880" cy="287640"/>
            <a:chOff x="4853160" y="3166920"/>
            <a:chExt cx="380880" cy="287640"/>
          </a:xfrm>
        </p:grpSpPr>
        <p:grpSp>
          <p:nvGrpSpPr>
            <p:cNvPr id="563" name=""/>
            <p:cNvGrpSpPr/>
            <p:nvPr/>
          </p:nvGrpSpPr>
          <p:grpSpPr>
            <a:xfrm>
              <a:off x="4853160" y="3381120"/>
              <a:ext cx="380880" cy="73440"/>
              <a:chOff x="4853160" y="3381120"/>
              <a:chExt cx="380880" cy="73440"/>
            </a:xfrm>
          </p:grpSpPr>
          <p:sp>
            <p:nvSpPr>
              <p:cNvPr id="564" name=""/>
              <p:cNvSpPr/>
              <p:nvPr/>
            </p:nvSpPr>
            <p:spPr>
              <a:xfrm>
                <a:off x="4853160" y="3381120"/>
                <a:ext cx="380880" cy="7344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66" y="0"/>
                    </a:moveTo>
                    <a:lnTo>
                      <a:pt x="466" y="0"/>
                    </a:lnTo>
                    <a:lnTo>
                      <a:pt x="529" y="87"/>
                    </a:lnTo>
                    <a:lnTo>
                      <a:pt x="530" y="91"/>
                    </a:lnTo>
                    <a:lnTo>
                      <a:pt x="528" y="95"/>
                    </a:lnTo>
                    <a:lnTo>
                      <a:pt x="524" y="96"/>
                    </a:lnTo>
                    <a:lnTo>
                      <a:pt x="8" y="96"/>
                    </a:lnTo>
                    <a:lnTo>
                      <a:pt x="3" y="94"/>
                    </a:lnTo>
                    <a:lnTo>
                      <a:pt x="0" y="90"/>
                    </a:lnTo>
                    <a:lnTo>
                      <a:pt x="1" y="85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874400" y="3396240"/>
                <a:ext cx="253440" cy="46800"/>
              </a:xfrm>
              <a:custGeom>
                <a:avLst/>
                <a:gdLst/>
                <a:ahLst/>
                <a:rect l="l" t="t" r="r" b="b"/>
                <a:pathLst>
                  <a:path w="353" h="62">
                    <a:moveTo>
                      <a:pt x="47" y="0"/>
                    </a:moveTo>
                    <a:lnTo>
                      <a:pt x="335" y="0"/>
                    </a:lnTo>
                    <a:lnTo>
                      <a:pt x="352" y="61"/>
                    </a:lnTo>
                    <a:lnTo>
                      <a:pt x="0" y="6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135040" y="3396240"/>
                <a:ext cx="77400" cy="4680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0" y="0"/>
                    </a:moveTo>
                    <a:lnTo>
                      <a:pt x="63" y="0"/>
                    </a:lnTo>
                    <a:lnTo>
                      <a:pt x="107" y="61"/>
                    </a:lnTo>
                    <a:lnTo>
                      <a:pt x="20" y="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4918320" y="3166920"/>
              <a:ext cx="244440" cy="213480"/>
              <a:chOff x="4918320" y="3166920"/>
              <a:chExt cx="244440" cy="213480"/>
            </a:xfrm>
          </p:grpSpPr>
          <p:sp>
            <p:nvSpPr>
              <p:cNvPr id="568" name=""/>
              <p:cNvSpPr/>
              <p:nvPr/>
            </p:nvSpPr>
            <p:spPr>
              <a:xfrm>
                <a:off x="4918320" y="3166920"/>
                <a:ext cx="244440" cy="213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933800" y="3184920"/>
                <a:ext cx="212040" cy="1792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122440" y="3184920"/>
                <a:ext cx="22680" cy="179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130360" y="3194640"/>
                <a:ext cx="6480" cy="3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131800" y="3276720"/>
                <a:ext cx="2880" cy="2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131800" y="3310920"/>
                <a:ext cx="2880" cy="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131800" y="3344040"/>
                <a:ext cx="2880" cy="2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4939920" y="3178800"/>
              <a:ext cx="198360" cy="182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4848120" y="2563920"/>
            <a:ext cx="381240" cy="286920"/>
            <a:chOff x="4848120" y="2563920"/>
            <a:chExt cx="381240" cy="286920"/>
          </a:xfrm>
        </p:grpSpPr>
        <p:grpSp>
          <p:nvGrpSpPr>
            <p:cNvPr id="577" name=""/>
            <p:cNvGrpSpPr/>
            <p:nvPr/>
          </p:nvGrpSpPr>
          <p:grpSpPr>
            <a:xfrm>
              <a:off x="4848120" y="2777760"/>
              <a:ext cx="381240" cy="73080"/>
              <a:chOff x="4848120" y="2777760"/>
              <a:chExt cx="381240" cy="73080"/>
            </a:xfrm>
          </p:grpSpPr>
          <p:sp>
            <p:nvSpPr>
              <p:cNvPr id="578" name=""/>
              <p:cNvSpPr/>
              <p:nvPr/>
            </p:nvSpPr>
            <p:spPr>
              <a:xfrm>
                <a:off x="4848120" y="2777760"/>
                <a:ext cx="381240" cy="7308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66" y="0"/>
                    </a:moveTo>
                    <a:lnTo>
                      <a:pt x="466" y="0"/>
                    </a:lnTo>
                    <a:lnTo>
                      <a:pt x="529" y="87"/>
                    </a:lnTo>
                    <a:lnTo>
                      <a:pt x="530" y="91"/>
                    </a:lnTo>
                    <a:lnTo>
                      <a:pt x="528" y="95"/>
                    </a:lnTo>
                    <a:lnTo>
                      <a:pt x="524" y="96"/>
                    </a:lnTo>
                    <a:lnTo>
                      <a:pt x="8" y="96"/>
                    </a:lnTo>
                    <a:lnTo>
                      <a:pt x="3" y="94"/>
                    </a:lnTo>
                    <a:lnTo>
                      <a:pt x="0" y="90"/>
                    </a:lnTo>
                    <a:lnTo>
                      <a:pt x="1" y="85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869360" y="2792520"/>
                <a:ext cx="253440" cy="46800"/>
              </a:xfrm>
              <a:custGeom>
                <a:avLst/>
                <a:gdLst/>
                <a:ahLst/>
                <a:rect l="l" t="t" r="r" b="b"/>
                <a:pathLst>
                  <a:path w="353" h="62">
                    <a:moveTo>
                      <a:pt x="47" y="0"/>
                    </a:moveTo>
                    <a:lnTo>
                      <a:pt x="335" y="0"/>
                    </a:lnTo>
                    <a:lnTo>
                      <a:pt x="352" y="61"/>
                    </a:lnTo>
                    <a:lnTo>
                      <a:pt x="0" y="6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130360" y="2792520"/>
                <a:ext cx="77400" cy="4680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0" y="0"/>
                    </a:moveTo>
                    <a:lnTo>
                      <a:pt x="63" y="0"/>
                    </a:lnTo>
                    <a:lnTo>
                      <a:pt x="107" y="61"/>
                    </a:lnTo>
                    <a:lnTo>
                      <a:pt x="20" y="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4913280" y="2563920"/>
              <a:ext cx="244440" cy="213120"/>
              <a:chOff x="4913280" y="2563920"/>
              <a:chExt cx="244440" cy="213120"/>
            </a:xfrm>
          </p:grpSpPr>
          <p:sp>
            <p:nvSpPr>
              <p:cNvPr id="582" name=""/>
              <p:cNvSpPr/>
              <p:nvPr/>
            </p:nvSpPr>
            <p:spPr>
              <a:xfrm>
                <a:off x="4913280" y="2563920"/>
                <a:ext cx="244440" cy="213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928760" y="2581920"/>
                <a:ext cx="212040" cy="1792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117400" y="2581920"/>
                <a:ext cx="22680" cy="179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125320" y="2591640"/>
                <a:ext cx="6480" cy="3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126760" y="2673360"/>
                <a:ext cx="2880" cy="2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126760" y="2707560"/>
                <a:ext cx="2880" cy="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126760" y="2740680"/>
                <a:ext cx="2880" cy="2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4934880" y="2575800"/>
              <a:ext cx="198720" cy="182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 flipV="1">
            <a:off x="6527880" y="3365280"/>
            <a:ext cx="1455480" cy="218916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6700680" y="3568320"/>
            <a:ext cx="1366200" cy="207720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8040600" y="1798560"/>
            <a:ext cx="625320" cy="367920"/>
            <a:chOff x="8040600" y="1798560"/>
            <a:chExt cx="625320" cy="367920"/>
          </a:xfrm>
        </p:grpSpPr>
        <p:sp>
          <p:nvSpPr>
            <p:cNvPr id="593" name=""/>
            <p:cNvSpPr/>
            <p:nvPr/>
          </p:nvSpPr>
          <p:spPr>
            <a:xfrm>
              <a:off x="8045640" y="1962720"/>
              <a:ext cx="620280" cy="20376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045640" y="1945440"/>
              <a:ext cx="0" cy="12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665920" y="1945440"/>
              <a:ext cx="0" cy="12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045640" y="1945440"/>
              <a:ext cx="614880" cy="124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040600" y="1798560"/>
              <a:ext cx="619920" cy="23760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8189640" y="1850760"/>
              <a:ext cx="307080" cy="138600"/>
              <a:chOff x="8189640" y="1850760"/>
              <a:chExt cx="307080" cy="138600"/>
            </a:xfrm>
          </p:grpSpPr>
          <p:sp>
            <p:nvSpPr>
              <p:cNvPr id="599" name=""/>
              <p:cNvSpPr/>
              <p:nvPr/>
            </p:nvSpPr>
            <p:spPr>
              <a:xfrm flipV="1">
                <a:off x="8189640" y="1850760"/>
                <a:ext cx="10944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400240" y="1989360"/>
                <a:ext cx="96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290440" y="1853640"/>
                <a:ext cx="113760" cy="13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8189640" y="1848600"/>
              <a:ext cx="307080" cy="138600"/>
              <a:chOff x="8189640" y="1848600"/>
              <a:chExt cx="307080" cy="138600"/>
            </a:xfrm>
          </p:grpSpPr>
          <p:sp>
            <p:nvSpPr>
              <p:cNvPr id="603" name=""/>
              <p:cNvSpPr/>
              <p:nvPr/>
            </p:nvSpPr>
            <p:spPr>
              <a:xfrm>
                <a:off x="8189640" y="1984320"/>
                <a:ext cx="10944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8400240" y="1848600"/>
                <a:ext cx="96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8290440" y="1848600"/>
                <a:ext cx="113760" cy="13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6" name=""/>
          <p:cNvGrpSpPr/>
          <p:nvPr/>
        </p:nvGrpSpPr>
        <p:grpSpPr>
          <a:xfrm>
            <a:off x="8113680" y="2436840"/>
            <a:ext cx="814320" cy="1033200"/>
            <a:chOff x="8113680" y="2436840"/>
            <a:chExt cx="814320" cy="1033200"/>
          </a:xfrm>
        </p:grpSpPr>
        <p:grpSp>
          <p:nvGrpSpPr>
            <p:cNvPr id="607" name=""/>
            <p:cNvGrpSpPr/>
            <p:nvPr/>
          </p:nvGrpSpPr>
          <p:grpSpPr>
            <a:xfrm>
              <a:off x="8172360" y="2436840"/>
              <a:ext cx="709560" cy="823680"/>
              <a:chOff x="8172360" y="2436840"/>
              <a:chExt cx="709560" cy="823680"/>
            </a:xfrm>
          </p:grpSpPr>
          <p:sp>
            <p:nvSpPr>
              <p:cNvPr id="608" name=""/>
              <p:cNvSpPr/>
              <p:nvPr/>
            </p:nvSpPr>
            <p:spPr>
              <a:xfrm>
                <a:off x="8205480" y="243684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8172360" y="2460600"/>
                <a:ext cx="690480" cy="799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177040" y="2465280"/>
                <a:ext cx="676080" cy="20016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172360" y="28033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181720" y="29415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181720" y="30798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8113680" y="2462400"/>
              <a:ext cx="8143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15" name=""/>
          <p:cNvGraphicFramePr/>
          <p:nvPr/>
        </p:nvGraphicFramePr>
        <p:xfrm>
          <a:off x="7991640" y="3220920"/>
          <a:ext cx="250560" cy="425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1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991640" y="3220920"/>
                    <a:ext cx="25056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7" name=""/>
          <p:cNvGraphicFramePr/>
          <p:nvPr/>
        </p:nvGraphicFramePr>
        <p:xfrm>
          <a:off x="7693200" y="5033880"/>
          <a:ext cx="250560" cy="425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93200" y="5033880"/>
                    <a:ext cx="25056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9" name=""/>
          <p:cNvSpPr/>
          <p:nvPr/>
        </p:nvSpPr>
        <p:spPr>
          <a:xfrm flipH="1" flipV="1">
            <a:off x="8066160" y="3138480"/>
            <a:ext cx="2232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5580000" y="5626080"/>
            <a:ext cx="814320" cy="1033200"/>
            <a:chOff x="5580000" y="5626080"/>
            <a:chExt cx="814320" cy="1033200"/>
          </a:xfrm>
        </p:grpSpPr>
        <p:grpSp>
          <p:nvGrpSpPr>
            <p:cNvPr id="621" name=""/>
            <p:cNvGrpSpPr/>
            <p:nvPr/>
          </p:nvGrpSpPr>
          <p:grpSpPr>
            <a:xfrm>
              <a:off x="5638680" y="5626080"/>
              <a:ext cx="709560" cy="823680"/>
              <a:chOff x="5638680" y="5626080"/>
              <a:chExt cx="709560" cy="823680"/>
            </a:xfrm>
          </p:grpSpPr>
          <p:sp>
            <p:nvSpPr>
              <p:cNvPr id="622" name=""/>
              <p:cNvSpPr/>
              <p:nvPr/>
            </p:nvSpPr>
            <p:spPr>
              <a:xfrm>
                <a:off x="5671800" y="562608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638680" y="5649840"/>
                <a:ext cx="690480" cy="799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643360" y="5654520"/>
                <a:ext cx="676080" cy="20016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638680" y="59925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648040" y="61308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648040" y="62690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>
              <a:off x="5580000" y="5651640"/>
              <a:ext cx="8143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6354720" y="5581800"/>
            <a:ext cx="379440" cy="325440"/>
            <a:chOff x="6354720" y="5581800"/>
            <a:chExt cx="379440" cy="325440"/>
          </a:xfrm>
        </p:grpSpPr>
        <p:pic>
          <p:nvPicPr>
            <p:cNvPr id="630" name="" descr=""/>
            <p:cNvPicPr/>
            <p:nvPr/>
          </p:nvPicPr>
          <p:blipFill>
            <a:blip r:embed="rId17"/>
            <a:stretch/>
          </p:blipFill>
          <p:spPr>
            <a:xfrm>
              <a:off x="6354720" y="5581800"/>
              <a:ext cx="379440" cy="3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" descr=""/>
            <p:cNvPicPr/>
            <p:nvPr/>
          </p:nvPicPr>
          <p:blipFill>
            <a:blip r:embed="rId18"/>
            <a:stretch/>
          </p:blipFill>
          <p:spPr>
            <a:xfrm>
              <a:off x="6435000" y="5620320"/>
              <a:ext cx="160200" cy="13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2" name=""/>
          <p:cNvSpPr/>
          <p:nvPr/>
        </p:nvSpPr>
        <p:spPr>
          <a:xfrm>
            <a:off x="6661080" y="5640480"/>
            <a:ext cx="82800" cy="180720"/>
          </a:xfrm>
          <a:custGeom>
            <a:avLst/>
            <a:gdLst/>
            <a:ahLst/>
            <a:rect l="l" t="t" r="r" b="b"/>
            <a:pathLst>
              <a:path w="52" h="114">
                <a:moveTo>
                  <a:pt x="0" y="114"/>
                </a:moveTo>
                <a:cubicBezTo>
                  <a:pt x="19" y="86"/>
                  <a:pt x="26" y="79"/>
                  <a:pt x="7" y="50"/>
                </a:cubicBezTo>
                <a:cubicBezTo>
                  <a:pt x="52" y="35"/>
                  <a:pt x="14" y="55"/>
                  <a:pt x="14" y="22"/>
                </a:cubicBezTo>
                <a:cubicBezTo>
                  <a:pt x="14" y="21"/>
                  <a:pt x="31" y="4"/>
                  <a:pt x="3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hone3"/>
          <p:cNvSpPr/>
          <p:nvPr/>
        </p:nvSpPr>
        <p:spPr>
          <a:xfrm>
            <a:off x="5359320" y="2610000"/>
            <a:ext cx="231840" cy="2649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hone3"/>
          <p:cNvSpPr/>
          <p:nvPr/>
        </p:nvSpPr>
        <p:spPr>
          <a:xfrm>
            <a:off x="5400720" y="3195720"/>
            <a:ext cx="231840" cy="2649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5138640" y="2757240"/>
            <a:ext cx="23832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5154480" y="3362040"/>
            <a:ext cx="23832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291440" y="5670720"/>
            <a:ext cx="82440" cy="180720"/>
          </a:xfrm>
          <a:custGeom>
            <a:avLst/>
            <a:gdLst/>
            <a:ahLst/>
            <a:rect l="l" t="t" r="r" b="b"/>
            <a:pathLst>
              <a:path w="52" h="114">
                <a:moveTo>
                  <a:pt x="0" y="114"/>
                </a:moveTo>
                <a:cubicBezTo>
                  <a:pt x="19" y="86"/>
                  <a:pt x="26" y="79"/>
                  <a:pt x="7" y="50"/>
                </a:cubicBezTo>
                <a:cubicBezTo>
                  <a:pt x="52" y="35"/>
                  <a:pt x="14" y="55"/>
                  <a:pt x="14" y="22"/>
                </a:cubicBezTo>
                <a:cubicBezTo>
                  <a:pt x="14" y="21"/>
                  <a:pt x="31" y="4"/>
                  <a:pt x="3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400800" y="5896080"/>
            <a:ext cx="958680" cy="305280"/>
          </a:xfrm>
          <a:prstGeom prst="rec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304120" y="3270240"/>
            <a:ext cx="620640" cy="305280"/>
          </a:xfrm>
          <a:prstGeom prst="rec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835680" y="5202360"/>
            <a:ext cx="271440" cy="328320"/>
          </a:xfrm>
          <a:prstGeom prst="sun">
            <a:avLst>
              <a:gd name="adj" fmla="val 374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Cloud"/>
          <p:cNvSpPr/>
          <p:nvPr/>
        </p:nvSpPr>
        <p:spPr>
          <a:xfrm>
            <a:off x="7105680" y="1679400"/>
            <a:ext cx="1785960" cy="792360"/>
          </a:xfrm>
          <a:prstGeom prst="pie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80F3-F9AC-4485-ADFB-140E17C53D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685800" y="35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DNS: caching and updating record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618840" y="2116080"/>
            <a:ext cx="75150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ce (any) name server learns mapping, it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cach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app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che entries timeout (disappear) after some ti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pdate/notify mechanisms under design by IET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FC 213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://www.ietf.org/html.charters/dnsind-charter.htm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B979-8BA4-4F9D-B1A0-B4E9FCB48D7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"/>
          <p:cNvSpPr/>
          <p:nvPr/>
        </p:nvSpPr>
        <p:spPr>
          <a:xfrm>
            <a:off x="426960" y="0"/>
            <a:ext cx="3560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  <a:ea typeface="ＭＳ Ｐゴシック"/>
              </a:rPr>
              <a:t>Domain tr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361800" y="915840"/>
            <a:ext cx="426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Hierarchical name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ple: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  <a:ea typeface="ＭＳ Ｐゴシック"/>
              </a:rPr>
              <a:t>www.cs.ucl.ac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401760" y="19890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L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: Top Level Doma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gTL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: generic TL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cTL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: Country Code TL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L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: Second Level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V="1">
            <a:off x="3629160" y="2811600"/>
            <a:ext cx="129528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4854600" y="236052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8055000" y="234936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921280" y="237024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531120" y="106524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 flipV="1">
            <a:off x="5359320" y="1537920"/>
            <a:ext cx="1230480" cy="90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 flipV="1">
            <a:off x="6296040" y="1614240"/>
            <a:ext cx="380880" cy="739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 flipH="1" flipV="1">
            <a:off x="6883560" y="1646280"/>
            <a:ext cx="318960" cy="730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 flipH="1" flipV="1">
            <a:off x="7080120" y="1527120"/>
            <a:ext cx="106704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5981760" y="342756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3059280" y="342756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4989600" y="342756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4046400" y="341640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 flipV="1">
            <a:off x="4506840" y="2898360"/>
            <a:ext cx="482760" cy="57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 flipH="1" flipV="1">
            <a:off x="5192280" y="2952360"/>
            <a:ext cx="95400" cy="49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 flipH="1" flipV="1">
            <a:off x="6224400" y="2963880"/>
            <a:ext cx="52200" cy="48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 flipV="1">
            <a:off x="3022560" y="3998520"/>
            <a:ext cx="203400" cy="30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449600" y="4259160"/>
            <a:ext cx="42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2409840" y="18972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cT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3641760" y="502128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 flipH="1">
            <a:off x="4006800" y="4824360"/>
            <a:ext cx="46080" cy="193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 flipV="1">
            <a:off x="4238640" y="4006800"/>
            <a:ext cx="73080" cy="255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 flipH="1" flipV="1">
            <a:off x="4541760" y="3932280"/>
            <a:ext cx="611280" cy="479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076720" y="425916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3865680" y="425916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 flipH="1">
            <a:off x="3633840" y="5597640"/>
            <a:ext cx="179280" cy="31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056120" y="5597640"/>
            <a:ext cx="182520" cy="338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4619520" y="2278080"/>
            <a:ext cx="1981440" cy="7621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2876400" y="3344760"/>
            <a:ext cx="5029200" cy="7621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3095640" y="3040200"/>
            <a:ext cx="9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999120" y="3421080"/>
            <a:ext cx="59724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7275600" y="2971800"/>
            <a:ext cx="11160" cy="460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948360" y="236376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5945040" y="525600"/>
            <a:ext cx="172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ot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332240" y="6037200"/>
            <a:ext cx="248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www.cs.ucl.ac.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4403880" y="502128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4329000" y="4781520"/>
            <a:ext cx="214560" cy="282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2562120" y="425916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6318360" y="988920"/>
            <a:ext cx="990360" cy="7621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6765840" y="2266920"/>
            <a:ext cx="1981440" cy="7621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5915160" y="18972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T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5811840" y="4024440"/>
            <a:ext cx="933480" cy="77940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6842160" y="4021200"/>
            <a:ext cx="933480" cy="77940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2374920" y="4863960"/>
            <a:ext cx="933480" cy="77976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7877160" y="2946240"/>
            <a:ext cx="933480" cy="77976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3997440" y="591660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w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3270240" y="591192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2616120" y="5167440"/>
            <a:ext cx="42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6070320" y="4332240"/>
            <a:ext cx="42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7095960" y="4332240"/>
            <a:ext cx="42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8135640" y="3260880"/>
            <a:ext cx="42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8" name=""/>
          <p:cNvGrpSpPr/>
          <p:nvPr/>
        </p:nvGrpSpPr>
        <p:grpSpPr>
          <a:xfrm>
            <a:off x="5233680" y="2905200"/>
            <a:ext cx="511560" cy="521640"/>
            <a:chOff x="5233680" y="2905200"/>
            <a:chExt cx="511560" cy="521640"/>
          </a:xfrm>
        </p:grpSpPr>
        <p:sp>
          <p:nvSpPr>
            <p:cNvPr id="1739" name=""/>
            <p:cNvSpPr/>
            <p:nvPr/>
          </p:nvSpPr>
          <p:spPr>
            <a:xfrm flipH="1" flipV="1">
              <a:off x="5334120" y="2905200"/>
              <a:ext cx="411120" cy="50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5233680" y="2968560"/>
              <a:ext cx="42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1" name=""/>
          <p:cNvGrpSpPr/>
          <p:nvPr/>
        </p:nvGrpSpPr>
        <p:grpSpPr>
          <a:xfrm>
            <a:off x="6310080" y="2900520"/>
            <a:ext cx="511560" cy="521640"/>
            <a:chOff x="6310080" y="2900520"/>
            <a:chExt cx="511560" cy="521640"/>
          </a:xfrm>
        </p:grpSpPr>
        <p:sp>
          <p:nvSpPr>
            <p:cNvPr id="1742" name=""/>
            <p:cNvSpPr/>
            <p:nvPr/>
          </p:nvSpPr>
          <p:spPr>
            <a:xfrm flipH="1" flipV="1">
              <a:off x="6410520" y="2900520"/>
              <a:ext cx="411120" cy="50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310080" y="2963880"/>
              <a:ext cx="42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4" name=""/>
          <p:cNvGrpSpPr/>
          <p:nvPr/>
        </p:nvGrpSpPr>
        <p:grpSpPr>
          <a:xfrm>
            <a:off x="7308720" y="2905200"/>
            <a:ext cx="510480" cy="521640"/>
            <a:chOff x="7308720" y="2905200"/>
            <a:chExt cx="510480" cy="521640"/>
          </a:xfrm>
        </p:grpSpPr>
        <p:sp>
          <p:nvSpPr>
            <p:cNvPr id="1745" name=""/>
            <p:cNvSpPr/>
            <p:nvPr/>
          </p:nvSpPr>
          <p:spPr>
            <a:xfrm flipH="1" flipV="1">
              <a:off x="7408440" y="2905200"/>
              <a:ext cx="410760" cy="50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308720" y="2968560"/>
              <a:ext cx="42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EC49-B250-4F61-BB9D-82FF753468C9}" type="slidenum">
              <a:t>6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"/>
          <p:cNvSpPr/>
          <p:nvPr/>
        </p:nvSpPr>
        <p:spPr>
          <a:xfrm>
            <a:off x="685800" y="152280"/>
            <a:ext cx="77724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  <a:ea typeface="ＭＳ Ｐゴシック"/>
              </a:rPr>
              <a:t>Domains and Z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351000" y="936720"/>
            <a:ext cx="40669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artition hierarchy into data administration units called “zon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ach zone implemented by a set of name 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 flipV="1">
            <a:off x="3673440" y="2811600"/>
            <a:ext cx="129528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4898880" y="236052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8099280" y="234936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5965920" y="237024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575400" y="106524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5403960" y="1537920"/>
            <a:ext cx="1230120" cy="90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6340320" y="1614240"/>
            <a:ext cx="381240" cy="739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flipH="1" flipV="1">
            <a:off x="6927840" y="1646280"/>
            <a:ext cx="318960" cy="730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 flipH="1" flipV="1">
            <a:off x="7124400" y="1527120"/>
            <a:ext cx="106668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6026040" y="342756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3103560" y="342756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5033880" y="342756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4091040" y="341640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 flipV="1">
            <a:off x="4551480" y="2898360"/>
            <a:ext cx="482400" cy="57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 flipH="1" flipV="1">
            <a:off x="5237280" y="2952360"/>
            <a:ext cx="95040" cy="49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 flipH="1" flipV="1">
            <a:off x="6269040" y="2963880"/>
            <a:ext cx="52560" cy="48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 flipV="1">
            <a:off x="3067200" y="3998520"/>
            <a:ext cx="203040" cy="30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4493880" y="4259160"/>
            <a:ext cx="42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2454120" y="18972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cT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3686040" y="502128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H="1">
            <a:off x="4051080" y="4824360"/>
            <a:ext cx="45720" cy="193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 flipV="1">
            <a:off x="4282920" y="4006800"/>
            <a:ext cx="73080" cy="255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 flipH="1" flipV="1">
            <a:off x="4586040" y="3932280"/>
            <a:ext cx="610920" cy="479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5121360" y="425916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3909960" y="425916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 flipH="1">
            <a:off x="3957120" y="5608800"/>
            <a:ext cx="9720" cy="336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176720" y="5553000"/>
            <a:ext cx="363600" cy="38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2965320" y="3355920"/>
            <a:ext cx="4827600" cy="795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3139920" y="3040200"/>
            <a:ext cx="9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043760" y="342108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319880" y="2971800"/>
            <a:ext cx="11160" cy="460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6993000" y="236376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5989680" y="525600"/>
            <a:ext cx="17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ot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4910040" y="6037200"/>
            <a:ext cx="248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www.cs.ucl.ac.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5430960" y="505476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4384800" y="4792680"/>
            <a:ext cx="1062000" cy="44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2606760" y="425916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8018640" y="2278080"/>
            <a:ext cx="772920" cy="76212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959440" y="18972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T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5856120" y="4024440"/>
            <a:ext cx="933480" cy="77940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6886440" y="4021200"/>
            <a:ext cx="933480" cy="77940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2419200" y="4863960"/>
            <a:ext cx="933480" cy="77976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7921800" y="2946240"/>
            <a:ext cx="933120" cy="77976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4405320" y="590544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w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3670200" y="591192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2660400" y="5167440"/>
            <a:ext cx="42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6114960" y="4332240"/>
            <a:ext cx="42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140240" y="4332240"/>
            <a:ext cx="42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8180280" y="3260880"/>
            <a:ext cx="42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8" name=""/>
          <p:cNvGrpSpPr/>
          <p:nvPr/>
        </p:nvGrpSpPr>
        <p:grpSpPr>
          <a:xfrm>
            <a:off x="5278320" y="2905200"/>
            <a:ext cx="510480" cy="521640"/>
            <a:chOff x="5278320" y="2905200"/>
            <a:chExt cx="510480" cy="521640"/>
          </a:xfrm>
        </p:grpSpPr>
        <p:sp>
          <p:nvSpPr>
            <p:cNvPr id="1799" name=""/>
            <p:cNvSpPr/>
            <p:nvPr/>
          </p:nvSpPr>
          <p:spPr>
            <a:xfrm flipH="1" flipV="1">
              <a:off x="5378040" y="2905200"/>
              <a:ext cx="410760" cy="50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278320" y="2968560"/>
              <a:ext cx="42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1" name=""/>
          <p:cNvGrpSpPr/>
          <p:nvPr/>
        </p:nvGrpSpPr>
        <p:grpSpPr>
          <a:xfrm>
            <a:off x="6354720" y="2900520"/>
            <a:ext cx="510480" cy="521640"/>
            <a:chOff x="6354720" y="2900520"/>
            <a:chExt cx="510480" cy="521640"/>
          </a:xfrm>
        </p:grpSpPr>
        <p:sp>
          <p:nvSpPr>
            <p:cNvPr id="1802" name=""/>
            <p:cNvSpPr/>
            <p:nvPr/>
          </p:nvSpPr>
          <p:spPr>
            <a:xfrm flipH="1" flipV="1">
              <a:off x="6454440" y="2900520"/>
              <a:ext cx="410760" cy="50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354720" y="2963880"/>
              <a:ext cx="42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4" name=""/>
          <p:cNvGrpSpPr/>
          <p:nvPr/>
        </p:nvGrpSpPr>
        <p:grpSpPr>
          <a:xfrm>
            <a:off x="7353000" y="2905200"/>
            <a:ext cx="511560" cy="521640"/>
            <a:chOff x="7353000" y="2905200"/>
            <a:chExt cx="511560" cy="521640"/>
          </a:xfrm>
        </p:grpSpPr>
        <p:sp>
          <p:nvSpPr>
            <p:cNvPr id="1805" name=""/>
            <p:cNvSpPr/>
            <p:nvPr/>
          </p:nvSpPr>
          <p:spPr>
            <a:xfrm flipH="1" flipV="1">
              <a:off x="7453440" y="2905200"/>
              <a:ext cx="411120" cy="50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7353000" y="2968560"/>
              <a:ext cx="42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7" name=""/>
          <p:cNvSpPr/>
          <p:nvPr/>
        </p:nvSpPr>
        <p:spPr>
          <a:xfrm>
            <a:off x="6904080" y="2274840"/>
            <a:ext cx="772920" cy="76212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5878440" y="2282760"/>
            <a:ext cx="773280" cy="76212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4815000" y="2274840"/>
            <a:ext cx="772920" cy="76212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481800" y="985680"/>
            <a:ext cx="772920" cy="76212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845400" y="2201760"/>
            <a:ext cx="2014560" cy="9082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4765680" y="2198520"/>
            <a:ext cx="1957320" cy="9082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6411960" y="898560"/>
            <a:ext cx="919080" cy="9079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3046320" y="3405240"/>
            <a:ext cx="727200" cy="68400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4021200" y="3402000"/>
            <a:ext cx="726840" cy="68436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4976640" y="3402000"/>
            <a:ext cx="727200" cy="68436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5977080" y="3402000"/>
            <a:ext cx="726840" cy="68436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840120" y="4210200"/>
            <a:ext cx="727200" cy="68400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6985080" y="3398760"/>
            <a:ext cx="726840" cy="68436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3621240" y="4962600"/>
            <a:ext cx="1438200" cy="157644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5370480" y="5018040"/>
            <a:ext cx="727200" cy="68436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00E9-C5C0-4BDF-B62E-0A7BA26AAD3F}" type="slidenum">
              <a:t>6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741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DNS record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588960" y="958320"/>
            <a:ext cx="78199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D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tributed db storing resource record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R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24" name=""/>
          <p:cNvGrpSpPr/>
          <p:nvPr/>
        </p:nvGrpSpPr>
        <p:grpSpPr>
          <a:xfrm>
            <a:off x="1773360" y="1376280"/>
            <a:ext cx="5364000" cy="571680"/>
            <a:chOff x="1773360" y="1376280"/>
            <a:chExt cx="5364000" cy="571680"/>
          </a:xfrm>
        </p:grpSpPr>
        <p:sp>
          <p:nvSpPr>
            <p:cNvPr id="1825" name=""/>
            <p:cNvSpPr/>
            <p:nvPr/>
          </p:nvSpPr>
          <p:spPr>
            <a:xfrm>
              <a:off x="1773360" y="1387800"/>
              <a:ext cx="53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R format: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(name, value, type, tt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854000" y="1376280"/>
              <a:ext cx="5267160" cy="57168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7" name=""/>
          <p:cNvSpPr/>
          <p:nvPr/>
        </p:nvSpPr>
        <p:spPr>
          <a:xfrm>
            <a:off x="285840" y="2001960"/>
            <a:ext cx="436392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=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host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=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domain (e.g. foo.c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IP address of authoritative name server for this domain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4681440" y="1994040"/>
            <a:ext cx="427356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=C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n alias name for some “cannonical” (the real)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canonical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=M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hostname of mailserver associat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0DE0-91C6-4C52-B234-52D4F24F75A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663480" y="1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DNS protocol, message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542880" y="1343160"/>
            <a:ext cx="7819920" cy="5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DNS protocol 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query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p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essages, both with same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message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1" name=""/>
          <p:cNvSpPr/>
          <p:nvPr/>
        </p:nvSpPr>
        <p:spPr>
          <a:xfrm>
            <a:off x="533520" y="2352600"/>
            <a:ext cx="3809880" cy="38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sg 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dentificatio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16 bit # for query, reply to query uses same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la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ry or re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ursion desi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ursion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ly is authori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2" name="DNSmessage" descr=""/>
          <p:cNvPicPr/>
          <p:nvPr/>
        </p:nvPicPr>
        <p:blipFill>
          <a:blip r:embed="rId1"/>
          <a:stretch/>
        </p:blipFill>
        <p:spPr>
          <a:xfrm>
            <a:off x="4756320" y="2214720"/>
            <a:ext cx="4387680" cy="356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7708-5037-4F5E-9119-69531D919C0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663480" y="17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DNS protocol, message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1834" name="DNSmessage" descr=""/>
          <p:cNvPicPr/>
          <p:nvPr/>
        </p:nvPicPr>
        <p:blipFill>
          <a:blip r:embed="rId1"/>
          <a:stretch/>
        </p:blipFill>
        <p:spPr>
          <a:xfrm>
            <a:off x="4403880" y="1509840"/>
            <a:ext cx="4387680" cy="3562200"/>
          </a:xfrm>
          <a:prstGeom prst="rect">
            <a:avLst/>
          </a:prstGeom>
          <a:ln w="0">
            <a:noFill/>
          </a:ln>
        </p:spPr>
      </p:pic>
      <p:sp>
        <p:nvSpPr>
          <p:cNvPr id="1835" name=""/>
          <p:cNvSpPr/>
          <p:nvPr/>
        </p:nvSpPr>
        <p:spPr>
          <a:xfrm>
            <a:off x="1309680" y="1488960"/>
            <a:ext cx="2314440" cy="722520"/>
          </a:xfrm>
          <a:prstGeom prst="wedgeRoundRectCallout">
            <a:avLst>
              <a:gd name="adj1" fmla="val 94444"/>
              <a:gd name="adj2" fmla="val 163847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me, type fields for a 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1496880" y="2712960"/>
            <a:ext cx="2032200" cy="722520"/>
          </a:xfrm>
          <a:prstGeom prst="wedgeRoundRectCallout">
            <a:avLst>
              <a:gd name="adj1" fmla="val 105078"/>
              <a:gd name="adj2" fmla="val 73296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Rs in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530280" y="3778200"/>
            <a:ext cx="2913120" cy="676440"/>
          </a:xfrm>
          <a:prstGeom prst="wedgeRoundRectCallout">
            <a:avLst>
              <a:gd name="adj1" fmla="val 92342"/>
              <a:gd name="adj2" fmla="val 10092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ords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thoritative ser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501480" y="4776840"/>
            <a:ext cx="2913120" cy="676080"/>
          </a:xfrm>
          <a:prstGeom prst="wedgeRoundRectCallout">
            <a:avLst>
              <a:gd name="adj1" fmla="val 93925"/>
              <a:gd name="adj2" fmla="val -41782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itional “helpfu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fo that may be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AA27-1868-4895-A8CB-B5D579EA51C2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9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Application-layer protocols (cont).</a:t>
            </a:r>
            <a:endParaRPr b="0" lang="en-US" sz="3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440" y="1392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PI: application programming interf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es interface between application and transport lay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cket: Internet AP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wo processes communicate by sending data into socket, reading data out of sock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47960" y="1380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ow does a process “identify” the other process with which it wants to communicat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P addres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f host running other proc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ort numb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” - allows receiving host to determine to which local process the message should be delivered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158A-D94E-431F-96DE-DCF9C879A8AE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2294280" y="334800"/>
            <a:ext cx="459720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tocol lay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391520" y="289548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391520" y="289548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758960" y="2281320"/>
            <a:ext cx="54738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(FTP, Telnet, WWW, emai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790640" y="2895480"/>
            <a:ext cx="5410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758960" y="2890800"/>
            <a:ext cx="265428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Datagram Protoc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UD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425840" y="2890800"/>
            <a:ext cx="28069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mission Control Protoc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C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758960" y="3489480"/>
            <a:ext cx="54738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 Protocol (I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758960" y="4087800"/>
            <a:ext cx="54738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work Interface (Ethernet, A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758960" y="4686480"/>
            <a:ext cx="54738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ware (fiber, twisted-pair copper, coax, rad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359240" y="5632560"/>
            <a:ext cx="1230480" cy="609480"/>
          </a:xfrm>
          <a:prstGeom prst="wedgeRoundRectCallout">
            <a:avLst>
              <a:gd name="adj1" fmla="val -62902"/>
              <a:gd name="adj2" fmla="val -129949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ysical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8760" y="3905280"/>
            <a:ext cx="1488960" cy="1638360"/>
          </a:xfrm>
          <a:prstGeom prst="wedgeRoundRectCallout">
            <a:avLst>
              <a:gd name="adj1" fmla="val 169935"/>
              <a:gd name="adj2" fmla="val -57652"/>
              <a:gd name="adj3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rel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t eff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end data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host-ho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92240" y="2109960"/>
            <a:ext cx="1398600" cy="1636560"/>
          </a:xfrm>
          <a:prstGeom prst="wedgeRoundRectCallout">
            <a:avLst>
              <a:gd name="adj1" fmla="val 124462"/>
              <a:gd name="adj2" fmla="val 23037"/>
              <a:gd name="adj3" fmla="val 16667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rel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t eff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rocess-proces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439040" y="2313000"/>
            <a:ext cx="1444680" cy="1671480"/>
          </a:xfrm>
          <a:prstGeom prst="wedgeRoundRectCallout">
            <a:avLst>
              <a:gd name="adj1" fmla="val -135166"/>
              <a:gd name="adj2" fmla="val 10685"/>
              <a:gd name="adj3" fmla="val 16667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iable in-or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t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rocess-proces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480440" y="4338720"/>
            <a:ext cx="1104840" cy="1571400"/>
          </a:xfrm>
          <a:prstGeom prst="wedgeRoundRectCallout">
            <a:avLst>
              <a:gd name="adj1" fmla="val -166379"/>
              <a:gd name="adj2" fmla="val -45759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-point data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network interface-interf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827360" y="1243080"/>
            <a:ext cx="4784400" cy="520560"/>
          </a:xfrm>
          <a:prstGeom prst="wedgeRoundRectCallout">
            <a:avLst>
              <a:gd name="adj1" fmla="val -42435"/>
              <a:gd name="adj2" fmla="val 192379"/>
              <a:gd name="adj3" fmla="val 16667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cols provide specialized services by building on services provided by other protoco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C730-F1AA-416B-9422-4818A8A9959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5295960" y="4192560"/>
            <a:ext cx="0" cy="11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598920" y="4184640"/>
            <a:ext cx="0" cy="11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545920" y="187200"/>
            <a:ext cx="408996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tocol sta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934320" y="2577960"/>
            <a:ext cx="0" cy="280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924200" y="2643120"/>
            <a:ext cx="0" cy="280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735280" y="3517920"/>
            <a:ext cx="3424320" cy="2421000"/>
          </a:xfrm>
          <a:prstGeom prst="roundRect">
            <a:avLst>
              <a:gd name="adj" fmla="val 12426"/>
            </a:avLst>
          </a:prstGeom>
          <a:solidFill>
            <a:srgbClr val="cc99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970800" y="3492360"/>
            <a:ext cx="853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u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381400" y="2451240"/>
            <a:ext cx="4025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457360" y="3213000"/>
            <a:ext cx="4025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457360" y="4051440"/>
            <a:ext cx="520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210200" y="4051440"/>
            <a:ext cx="520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810400" y="4051440"/>
            <a:ext cx="520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457360" y="4813200"/>
            <a:ext cx="520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210200" y="48132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810400" y="4813200"/>
            <a:ext cx="520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457360" y="5499000"/>
            <a:ext cx="520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210200" y="5499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810400" y="5499000"/>
            <a:ext cx="520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1390680" y="1090440"/>
            <a:ext cx="1216080" cy="1006560"/>
            <a:chOff x="1390680" y="1090440"/>
            <a:chExt cx="1216080" cy="1006560"/>
          </a:xfrm>
        </p:grpSpPr>
        <p:grpSp>
          <p:nvGrpSpPr>
            <p:cNvPr id="680" name=""/>
            <p:cNvGrpSpPr/>
            <p:nvPr/>
          </p:nvGrpSpPr>
          <p:grpSpPr>
            <a:xfrm>
              <a:off x="1390680" y="1090440"/>
              <a:ext cx="1216080" cy="1006560"/>
              <a:chOff x="1390680" y="1090440"/>
              <a:chExt cx="1216080" cy="1006560"/>
            </a:xfrm>
          </p:grpSpPr>
          <p:pic>
            <p:nvPicPr>
              <p:cNvPr id="68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390680" y="1090440"/>
                <a:ext cx="1216080" cy="100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47720" y="1209240"/>
                <a:ext cx="514080" cy="432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3" name=""/>
            <p:cNvSpPr/>
            <p:nvPr/>
          </p:nvSpPr>
          <p:spPr>
            <a:xfrm>
              <a:off x="1464480" y="1238040"/>
              <a:ext cx="763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Host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7501680" y="5216400"/>
            <a:ext cx="15912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ate raw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to media – l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electrical/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l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7524000" y="4487760"/>
            <a:ext cx="1452600" cy="705600"/>
            <a:chOff x="7524000" y="4487760"/>
            <a:chExt cx="1452600" cy="705600"/>
          </a:xfrm>
        </p:grpSpPr>
        <p:sp>
          <p:nvSpPr>
            <p:cNvPr id="686" name=""/>
            <p:cNvSpPr/>
            <p:nvPr/>
          </p:nvSpPr>
          <p:spPr>
            <a:xfrm>
              <a:off x="7525080" y="4487760"/>
              <a:ext cx="1310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aming, err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524000" y="4678200"/>
              <a:ext cx="145260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covery, med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7525080" y="3693960"/>
            <a:ext cx="1422000" cy="683280"/>
            <a:chOff x="7525080" y="3693960"/>
            <a:chExt cx="1422000" cy="683280"/>
          </a:xfrm>
        </p:grpSpPr>
        <p:sp>
          <p:nvSpPr>
            <p:cNvPr id="689" name=""/>
            <p:cNvSpPr/>
            <p:nvPr/>
          </p:nvSpPr>
          <p:spPr>
            <a:xfrm>
              <a:off x="7527240" y="3693960"/>
              <a:ext cx="84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ing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526520" y="3884760"/>
              <a:ext cx="1152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low-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25080" y="4075200"/>
              <a:ext cx="1422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gestion-cnt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163440" y="2197080"/>
            <a:ext cx="12128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, FTP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net,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959760" y="3835440"/>
            <a:ext cx="350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05000" y="3073320"/>
            <a:ext cx="961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P/UD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333440" y="2287440"/>
            <a:ext cx="1206720" cy="36828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333440" y="3049560"/>
            <a:ext cx="1206720" cy="368280"/>
          </a:xfrm>
          <a:prstGeom prst="rect">
            <a:avLst/>
          </a:prstGeom>
          <a:solidFill>
            <a:srgbClr val="00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333440" y="3811680"/>
            <a:ext cx="1206720" cy="36828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320840" y="4573440"/>
            <a:ext cx="1206360" cy="368280"/>
          </a:xfrm>
          <a:prstGeom prst="rect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333440" y="5259240"/>
            <a:ext cx="1206720" cy="3682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343560" y="2298600"/>
            <a:ext cx="1206720" cy="36828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343560" y="3060720"/>
            <a:ext cx="1206720" cy="368280"/>
          </a:xfrm>
          <a:prstGeom prst="rect">
            <a:avLst/>
          </a:prstGeom>
          <a:solidFill>
            <a:srgbClr val="00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343560" y="3822840"/>
            <a:ext cx="1206720" cy="36828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330960" y="4584600"/>
            <a:ext cx="1206360" cy="368280"/>
          </a:xfrm>
          <a:prstGeom prst="rect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343560" y="5270400"/>
            <a:ext cx="1206720" cy="3682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551720" y="3021120"/>
            <a:ext cx="15368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iable, effic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user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990880" y="3822840"/>
            <a:ext cx="1206360" cy="36828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978280" y="4584600"/>
            <a:ext cx="1206360" cy="368280"/>
          </a:xfrm>
          <a:prstGeom prst="rect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990880" y="5270400"/>
            <a:ext cx="1206360" cy="3682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667400" y="3822840"/>
            <a:ext cx="1206360" cy="36828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654440" y="4584600"/>
            <a:ext cx="1206720" cy="368280"/>
          </a:xfrm>
          <a:prstGeom prst="rect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667400" y="5270400"/>
            <a:ext cx="1206360" cy="3682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9600" y="4510080"/>
            <a:ext cx="1386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hernet, PPP, 802.11, FD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49760" y="5305320"/>
            <a:ext cx="1240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NET, DS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844720" y="4280040"/>
            <a:ext cx="3206880" cy="1568160"/>
          </a:xfrm>
          <a:prstGeom prst="roundRect">
            <a:avLst>
              <a:gd name="adj" fmla="val 16667"/>
            </a:avLst>
          </a:prstGeom>
          <a:solidFill>
            <a:srgbClr val="ff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975480" y="4273560"/>
            <a:ext cx="8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id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586640" y="2111400"/>
            <a:ext cx="1535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 service across abstract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921040" y="5041800"/>
            <a:ext cx="3036960" cy="709560"/>
          </a:xfrm>
          <a:prstGeom prst="roundRect">
            <a:avLst>
              <a:gd name="adj" fmla="val 16667"/>
            </a:avLst>
          </a:pr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927240" y="501480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6367320" y="1100160"/>
            <a:ext cx="1216080" cy="1006560"/>
            <a:chOff x="6367320" y="1100160"/>
            <a:chExt cx="1216080" cy="1006560"/>
          </a:xfrm>
        </p:grpSpPr>
        <p:grpSp>
          <p:nvGrpSpPr>
            <p:cNvPr id="720" name=""/>
            <p:cNvGrpSpPr/>
            <p:nvPr/>
          </p:nvGrpSpPr>
          <p:grpSpPr>
            <a:xfrm>
              <a:off x="6367320" y="1100160"/>
              <a:ext cx="1216080" cy="1006560"/>
              <a:chOff x="6367320" y="1100160"/>
              <a:chExt cx="1216080" cy="1006560"/>
            </a:xfrm>
          </p:grpSpPr>
          <p:pic>
            <p:nvPicPr>
              <p:cNvPr id="72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367320" y="1100160"/>
                <a:ext cx="1216080" cy="100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624360" y="1218960"/>
                <a:ext cx="514080" cy="432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23" name=""/>
            <p:cNvSpPr/>
            <p:nvPr/>
          </p:nvSpPr>
          <p:spPr>
            <a:xfrm>
              <a:off x="6433920" y="1247760"/>
              <a:ext cx="760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Host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4173480" y="5477040"/>
            <a:ext cx="520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03040" y="1747800"/>
            <a:ext cx="11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Protoc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631280" y="1741320"/>
            <a:ext cx="11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1976040" y="2019240"/>
            <a:ext cx="11160" cy="365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 flipV="1">
            <a:off x="6982920" y="2025360"/>
            <a:ext cx="11160" cy="3632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B20D-89FF-4FCE-9517-7D7DB48F7F99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6T14:42:41Z</dcterms:created>
  <dc:creator>CS</dc:creator>
  <dc:description/>
  <dc:language>en-US</dc:language>
  <cp:lastModifiedBy>penny</cp:lastModifiedBy>
  <dcterms:modified xsi:type="dcterms:W3CDTF">2001-10-22T14:47:59Z</dcterms:modified>
  <cp:revision>53</cp:revision>
  <dc:subject/>
  <dc:title>CSC309 - 30 - HTTP</dc:title>
</cp:coreProperties>
</file>