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34A-8175-4573-893A-097F550A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FCB-CA2D-4EA9-8048-30E1D6C4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EE1-DAF1-4CE4-9727-7EA62B88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532-AAFF-4EDC-B583-3BE5EF5C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067-2C89-43D9-B8BC-2FF72A80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7FAB-71F2-4651-B74E-7ADD538B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580-0E8D-4CA9-821F-1F8ACBFB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95B-875E-4CF3-A072-13123147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F27-E471-45F6-87D4-1EBE9EB6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AAF-57BD-4480-9523-D96D5188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FF2-C84F-428E-828F-69366A6B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0143-973D-4322-BCB1-455BDE7C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AAE1-167F-4461-8983-49ECB80AB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servletApi/javax/servlet/ServletContext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servletApi/javax/servlet/http/HttpServletResponse.htm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127.0.0.1:8080/csc309/servlet/HelloWorld" TargetMode="External"/><Relationship Id="rId2" Type="http://schemas.openxmlformats.org/officeDocument/2006/relationships/hyperlink" Target="file:///examples/servlet/HelloWorld.java" TargetMode="External"/><Relationship Id="rId3" Type="http://schemas.openxmlformats.org/officeDocument/2006/relationships/hyperlink" Target="http://127.0.0.1:8080/csc309/servlet/Hello1" TargetMode="External"/><Relationship Id="rId4" Type="http://schemas.openxmlformats.org/officeDocument/2006/relationships/hyperlink" Target="file:///examples/servlet/Hello1.java" TargetMode="External"/><Relationship Id="rId5" Type="http://schemas.openxmlformats.org/officeDocument/2006/relationships/hyperlink" Target="http://127.0.0.1:8080/csc309/servlet/Hello2" TargetMode="External"/><Relationship Id="rId6" Type="http://schemas.openxmlformats.org/officeDocument/2006/relationships/hyperlink" Target="file:///examples/servlet/Hello2.java" TargetMode="External"/><Relationship Id="rId7" Type="http://schemas.openxmlformats.org/officeDocument/2006/relationships/hyperlink" Target="http://127.0.0.1:8080/csc309/servlet/ImageFileServlet?filename=C:%5Capache%5CTomcat4%5Cwebapps%5Ccsc309%5CWEB-INF%5Cclasses%5Cgrizzlypenny.jpg" TargetMode="External"/><Relationship Id="rId8" Type="http://schemas.openxmlformats.org/officeDocument/2006/relationships/hyperlink" Target="file:///examples/servlet/ImageFileServlet.java" TargetMode="External"/><Relationship Id="rId9" Type="http://schemas.openxmlformats.org/officeDocument/2006/relationships/hyperlink" Target="file:///examples/servlet/ImageFileServlet.java" TargetMode="External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servletApi/javax/servlet/http/HttpServletRequest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127.0.0.1:8080/csc309/servlet/CGILibExample" TargetMode="External"/><Relationship Id="rId2" Type="http://schemas.openxmlformats.org/officeDocument/2006/relationships/hyperlink" Target="file:///examples/servlet/CGILibExample.java" TargetMode="External"/><Relationship Id="rId3" Type="http://schemas.openxmlformats.org/officeDocument/2006/relationships/hyperlink" Target="file:///examples/servlet/CGILibExample.java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servletApi/javax/servlet/http/HttpSession.htm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127.0.0.1:8080/csc309/servlet/SessionExample" TargetMode="External"/><Relationship Id="rId2" Type="http://schemas.openxmlformats.org/officeDocument/2006/relationships/hyperlink" Target="file:///examples/servlet/SessionExample.java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servletApi/javax/servlet/http/HttpServlet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ervletApi/javax/servlet/http/HttpServlet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ic Java2EE API for invoking and connecting to “mini-servers” (lightweight, short-lived, server-side interaction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ly HTTPServ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te HTTP responses (as for CG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bedded via &lt;servlet&gt; tag into HTML pages for server-side inclu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let code snippets can be embedded directly into HTML pages: JSP = Java Server P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etitor: Microsoft ASP = Active Server P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602-2E8F-456D-B796-005720F982D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Contex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ServletContex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face defines a servlet’s view of the web application within which the servlet is running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ainer Provider is responsible for providing an implementation of the ServletContext interface in the servlet contain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letContext is rooted at a known path in webserv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the ServletContext object, a servlet ca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 even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ain URL references to resour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attributes that other servlets in the context can acces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549-6C11-4988-A596-0BCD96A32E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Context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ervlets associated with this lecture are part of one application, th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csc309 servlet contex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ences to servlets within that application a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a the UR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http://127.0.0.1:8080/csc309/serv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EAB-02E7-48CD-9A49-9A50B3A71F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omcat Configura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14300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Tomc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67652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weba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sc3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590920"/>
            <a:ext cx="12956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657600"/>
            <a:ext cx="129564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de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581280"/>
            <a:ext cx="129564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de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167652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o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rver.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80988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WEB-I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02920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800600"/>
            <a:ext cx="129564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b.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5867280"/>
            <a:ext cx="21333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lloWorld.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352320" y="175248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7524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143000" y="22096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209680"/>
            <a:ext cx="838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2767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2767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4495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3352680"/>
            <a:ext cx="129564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b.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715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CEC-1B97-4CD1-A74C-B6DBD76E5F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Context Continu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instance of ServletContext per web application per contain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access to Initialization Paramet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in the deployment descript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file called web.xml in the WEB-INF subdirectory of the app direc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getInitParameter(), getInitParameterNames(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EE0-291A-42BA-AD55-122C46E61F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Context Attribut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xt Attribut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xt level shared objects. Can be bound into the context and accessed by any servlet that is part of the applicatio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etAttribute(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Attribute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AttributeNames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removeAttributes(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than 1 thread may be accessing a shared objec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 developer responsible for synchronizing access to shared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243-F699-40A2-8B7A-1BC7B027C1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Context 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s servlet access to local documents associated with the application. (i.e. static web pages, images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getResource(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getResourceAsStream(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getResourcePaths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4E0-A53A-4930-8903-C70CCF101A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ServletRespons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ServletRespon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apsulates all information to be returned from the server to the cli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HTTP protocol, this information is transmitted from the server to the client either by HTTP headers or the message body of the reques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Head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Can set/manipulate http head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primitive manipul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etHeader(), addHeader(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onvenience metho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etContentType(), sendRedirect(), sendError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Writer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tain a PrintWriter, used to return character data to the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343-FF69-49FA-86E9-E7E941747E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Examp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interactive web pag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ello Worl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der the URL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http://127.0.0.1:8080/csc309/servlet/HelloWorl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rce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elloWorld.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w between many pages (note the different kinds of hrefs)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Hello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rce: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ello1.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ello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rce: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Hello2.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ing different content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ImageFileServ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rce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ImageFileServlet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9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this different from a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m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ag? The servlet can create the image on the fl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E96-2601-411E-839A-9385D07689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ServletReques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ServletRequ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apsulates all information from the client reques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HTTP protocol, this information is transmitted from the client to the server in the HTTP headers and the message body of the reques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ipulate 'form' variables: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Parameter(), getParameterNames(), getParameterValues(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Cookies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s all cookies associated with the reques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Session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s the Session instance associated with the request (see below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499-9F93-41AA-AFCA-253FA26AE4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Forms Examp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Using forms and form varia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ervl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CGILib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CGILibExample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.ja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override bo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Get(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doPost(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ods since the original CGILibExample used both the post and get methods at the same time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F62-D292-4327-8795-13C0F65D73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Mode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ec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li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eb browsers ie IE, Netsca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b 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Apache, Netscape Enterprise, I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GI Protoc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pecifying what a request/response looks lik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ervlet contain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Running JVM, hooked into the web server, loads and maintains servlets, session info, object stor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erv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A Java class used to handle a specific requ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BFE-9A7B-481F-A472-8720195769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en to GET/POS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form parameters are embedded in the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reload, or bookmark and return, the query will get executed a second time with the same parame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d if page is a credit card order confi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charge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form parameters are embeddd in the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relo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wser will ask if it should re-p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bookmark and retur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ry will proceed with no parame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: POST to change state, GET to get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6B5-0715-4444-A902-4525966F16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ss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ypertext Transfer Protocol (HTTP) is by design a stateless protocol. To build effective web applications, requests from a particular client must be associated with each other. Many strategies for session tracking have evolved over time, but all are difficult or troublesome for the programmer to use directl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rvlet API specification defines a simple HttpSession interface that allows a servlet container to use any of several approaches to track a user’s session without involving the Application Developer in the nuances of any one approach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0C9-E7B6-4AFD-A993-6C3E6ECCFD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ssion Tracking Mechanism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ession tok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assed back and forth between the client and servlet container. The token allows the container to associate a session with a particular sessio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ervlet container adap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whether the client (browser) is accepting cooki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ok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f the client accepts cookies, sessions will identified by a token stored on the browser as a cook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URL Rewri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f the client is not accepting cookies, session token is communicated via the URL. Use the HttpServletResponse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encodeURL(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F10-D625-4B63-B488-32D1882952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Sess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Sess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instance for each active sess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HttpSession session = request.getSession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session=current session or new one, if none exi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Object o = session.getAttribute("name"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o=the object associated with "name" in this ses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session.setAttribute("name",o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o is now the object associated with "name" for this ses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NOTE: More than one thread may try to access a resour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The application author is responsible for synchroniz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access to session resourc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B18-15B2-4D6E-B51C-13CEBBE4D2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ssion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e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erv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Session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SessionExample.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 the above with cookies off and on, notice the URL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ut down and restart your browser between accepting and rejecting cooki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2F9-06F0-4306-9B6B-B6C6F87B58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Summar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ection of servl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letContex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object per web appl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Parameters (from deployment description “web.xml”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tributes (name-object pairs associated with the web applicatio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Se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ociated with one user’s inte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licit create/delete + timeout cap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ssion attributes (name-object pairs associated with the app/session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lemented with cookies or URL re-wri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Servlet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meters from GET or PO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ECA-A9FA-4B29-81C7-18817FFF96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SP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Server P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localhost:8080/csc309/jsp/hello.jsp?name=dave (sour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ing (done by a servlet in Tomca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a .java source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not &lt;% line change into out.println() c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ve &lt;% from ot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cute as a servl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78A-80C8-4915-AF52-B981B5C1A8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dvanced JSP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ly no different than a servl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ccess other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localhost:8080/examples/jsp/num/numguess.js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:\apache\Tomcat4\webapps\examples\jsp\num\numguess.j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:\apache\Tomcat4\webapps\examples\WEB-INF\classes\num\NumberGuessBean.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213-47CF-4B1F-882B-AEE4B1A465F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ag Lib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ction of defined XML tags that take actions when the server encounters th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ed by Java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jsp tagli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add your own tagli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CC3-F128-4D6F-A1CC-B64CF5D0CD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P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soft-specific techn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e Server P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similar to J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VisualBasic instead of Ja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ccess a vast array of COM and DCOM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grocerygateway.com (Nov.23 guest lectu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P pages invoke XSLT via COM to gen. HTML output appropriate to the requesting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P sends COM messages to C++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7C5-D76A-4CCC-866E-C92B3338DA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Interac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4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makes a request by specifying a URL+additional info. Basically a method call, the method and argumen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eb server (specified in the URL) receives the reques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eb server identifies the request as a servlet reques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eb server passes the request to the servlet contain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rvlet container locates the specified servlet (Java code, loaded and running in the container JVM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rvlet container feeds the request parameters to the servlet (through HttpServletRequest, HttpServletResponse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rvlet executes in a separate threa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rvlet can store/retrieve objects (possibly session scoped) from the servlet contain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put of the servlet is sent via a PrintWriter back to the requesting web brows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rvlet continues to be available in the servlet contain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2BD-E0C3-4FBD-918D-8A705B9DE5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s vs CGI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lets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generally much faster than CGI scripts because a different process model is used. (but see FastCGI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 model allows resource sharing (ie database connection sharing). Container is always availabl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a standard API that is supported by many web serve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 all the advantages of the Java programming language, including ease of development and platform independenc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ccess the large set of APIs available for the Java platfor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 access to CGI support through the Servlet AP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 session awareness, ability to store and retrieve session scoped objects from servlet contain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B17-2CDC-4C66-A62A-B2E40E7564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Process Mode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let, CGI and Fast-CGI process mode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155-EA8F-4988-BC7F-28A7B1F838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API (javax.Servlet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sts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let Contai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let Interface (HttpServle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letContex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ServletRespo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ServletRequ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515-6683-4C83-A9E7-7B47A9908F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Container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 part of a web server or application server tha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the network services over which requests and responses are s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odes reques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s MIME based respons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ins and manages servlets through their lifecyc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E11-B6C3-4376-9857-6E33F92279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Interfac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central abstraction of the servlet AP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servlets either implement this interface, or extend a class that implements this interfa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cServlet and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Servle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wo classes in the servlet API that implement the Servlet interfa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D6E-9E42-4885-8E90-C4D8391F1B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Servl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Servle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 developers extend HttpServlet to implement their servle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often override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doGet(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doPost(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code to handle http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POS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ests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755-1A01-4E96-A0A2-073A7FA40B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2:10:20Z</dcterms:created>
  <dc:creator>arnold rosenbloom</dc:creator>
  <dc:description/>
  <dc:language>en-US</dc:language>
  <cp:lastModifiedBy>penny</cp:lastModifiedBy>
  <dcterms:modified xsi:type="dcterms:W3CDTF">2001-11-16T20:05:12Z</dcterms:modified>
  <cp:revision>22</cp:revision>
  <dc:subject/>
  <dc:title>CGI An Example </dc:title>
</cp:coreProperties>
</file>