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A00-C105-42E9-B7B4-DAC64B2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BF9-D90B-4D29-B736-764F419F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89A-29A4-48DB-80ED-0C46B334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442-190D-4F78-92C6-7BF69E40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F8F-3ECA-4889-83C0-D1AEC099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CEF-DF19-4441-B13A-CB081FFF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A80-8852-4D5A-B78A-D62B9F26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712-0C9A-48E9-BE3F-0A86EBD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012-41C6-4AD4-A3D3-C906C4A7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EEE-4E44-476E-ADBF-84C8F81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138-82EE-42A1-9DEC-AB169AF6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5D4-8E8E-4622-9CE1-FBBCF20D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52F3-A7FC-40C3-99DA-6562BF66F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TR/html4/struct/global.html#edef-H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3480" y="12571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XHTML is an XML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set of tag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XML is case-sen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 elements and attributes in the xhtml namespace are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ower-cas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s from HTML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itive re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4.01 Specification 24 Dec.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66ff"/>
                </a:solidFill>
                <a:latin typeface="Times New Roman"/>
              </a:rPr>
              <a:t>http://www.w3.org/TR/html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ml 1.0 (2nd e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66ff"/>
                </a:solidFill>
                <a:latin typeface="Times New Roman"/>
              </a:rPr>
              <a:t>http://www.w3.org/TR/2000/REC-xml-20001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1.0: The Extensible HyperText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66ff"/>
                </a:solidFill>
                <a:latin typeface="Times New Roman"/>
              </a:rPr>
              <a:t>http://www.w3.org/TR/xhtm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14D-A8D4-4EBD-A6D7-5D7AACE8000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Section Delimi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57120"/>
            <a:ext cx="8648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Courier New"/>
              </a:rPr>
              <a:t>&lt;DIV class="section" id="forest-elephants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&lt;H1&gt;Forest elephants&lt;/H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&lt;P&gt;In this section, we discuss the le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known forest eleph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i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...this section contin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DIV class="subsection" id="forest-habitat"</a:t>
            </a:r>
            <a:r>
              <a:rPr b="1" lang="en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2&gt;Habitat&lt;/H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Forest elephants do not live i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 amo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this subsection contin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Courier New"/>
              </a:rPr>
              <a:t>&lt;/DIV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FB1-67C5-445F-AE26-85B0E49AB0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White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te-space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 space &amp;#x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 tab &amp;#x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 form-feed &amp;#x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code zero-width space &amp;#x200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e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riage return &amp;#x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e feed &amp;#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r any combination of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ithin an element, sequences of white space separate "word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yout </a:t>
            </a:r>
            <a:r>
              <a:rPr b="1" i="1" lang="en-CA" sz="24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involve inserting inter-word sp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ept for the &lt;pre&gt;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17A-D960-479F-B4E3-8B4A42C309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Phrase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rase elements add structural information to text fragmen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ras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505-F74A-4E2E-A0FF-5057DA7872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Quo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blockquote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a block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nts the entire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ught to add " signs, but doesn't because of historical use as simply an indented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q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in-line qu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n'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BA5-CE6D-404B-99E1-EE30D0B4F3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Lines and Para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p&gt; starts a new, logical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contain only inlin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block elements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br/&gt; forces a lin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lear attribute indicated where the next line should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 non-breaking space prohibits a lin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nbsp; &amp;#xA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ft hyphen encourages a lin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shy; &amp;#x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DFA-0E32-4948-98DB-18A5D403DA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mis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cripts and super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b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erts and 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de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format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AF1-BBE1-44C5-885D-C6DDF4EF8E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ordered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dered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inition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C1B-1470-4475-9ABE-235A7B67FF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792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tremely useful for controlling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nn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ou can even use them for laying out tabl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tabl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ow and colum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apply the same style across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ackg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eader and foot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ling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imal-point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CE4-16B5-4741-A1C8-D895D5D178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 an "anchor"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tag a certain part of the document with an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anchor n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name="chapter1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iv id="chapter1"&gt; … 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then jump there using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fragment identifie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href="#chapter1"&gt;go to chapter 1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href="http://www.foo.com/book.html#chapter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84D-3745-4A98-911B-452D7B6BFC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frames allow authors to present documents in multiple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independent windows or sub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views offer designers a way to keep certain information visible, while other views are scrolled or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AC0-04E1-4AE2-A7E2-7F1A065E60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400" y="10537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lob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, Images, and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yle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ignment, font styles, and horizont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lti-view presentation of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r-input Forms: Text Fields, Buttons, Menus, and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imated Documents and Smart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26A-3F78-4C4F-BD1D-1CB8EB6514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rames - Size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rows="50%, 50%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divides the space in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cols="1*,250,3*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middle frame has a width of 250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left gets 25% of remaining, right 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rows="30%,70%" cols="33%,34%,33%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creates a 2x3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rows="30%,400,*,2*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first takes 30%, next takes 400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second last takes 1/3 of remainder, last 2/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306-1D41-4DDA-96E5-B7CD7D1CEA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rames - Linking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link can have a "targe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&lt;a target="_top" href="foo.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-defined and reserved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bl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self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frame name="top-frame" src="bar.html"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target="top-fram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D0D-61F9-4F06-922A-AC4983D72E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object&gt; allows authors to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ages (or use &lt;img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ets (replaces deprecated &lt;applet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deo clips (no other standard way of doing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nd files (no other standard way of doing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HTML documents (or use &lt;iframe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object&gt; not yet fully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709-6DB6-4B91-AB2E-A842CBFC28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head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 a &lt;title&gt;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d as window titles, in favourite lists, search engine result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oose a good, context-rich one - it's displayed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OOR: "Introducti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ETTER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Introduction to Medieval Bee-Keeping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co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met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lin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b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43B-6274-455B-91C5-C3751EB6A8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meta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owed meta-attributes/values may be specified via a "profile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n't get into that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name="Author" content="Dave Penn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http-equiv="Expires" content="Tue, 20 Aug 199 14:25:27 GM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name="keywords" lang="en" content="vacation, sunshin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name="keywords" lan="fr" content="vacances, solei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fforts underway to standardize document meta-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The Dublin Core Metadata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8FB-D5B7-4C7B-8D03-3EABB7A6AE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link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veys relationship information that may be rendered by user agents in a variety of ways or used by 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.g, a tool-bar with a drop-down menu of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title&gt;General Relativity - Chapter 2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Index" href="../index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Next" href="ch3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Prev" href="ch1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Start" href="grtitlepage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876-BF79-4784-885E-782F29D34D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urier New"/>
              </a:rPr>
              <a:t>%attrs;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= Common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ertain attributes are fairly common across all elements (but check individual 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%i18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ng and 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%coreatt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d, class, style,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%ev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click, ondblclick, onmousedown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788-6E57-4777-8559-39FA64F099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body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%attr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of the former most commonly used attributes are deprecated in favour of styleshe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911-E74C-4AB2-B049-6829617880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Grouping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in conjunction with class and id and style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DI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ic block-leve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SPA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ic inline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A98-BF5B-492D-9D40-E76EB1768F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Hea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ix levels of headings in HTML with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most important and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rowsers usually render more important headings in larger fonts than less important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eadings do not surround their section, only their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&lt;div&gt; fo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999-906C-4D7E-B162-D9E0BD077F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10-03T16:03:42Z</dcterms:modified>
  <cp:revision>39</cp:revision>
  <dc:subject/>
  <dc:title>csc309 - 15 - html</dc:title>
</cp:coreProperties>
</file>