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D293A4-C209-4139-939D-DF5188A0E1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are grateful to SGML for having weird comment charact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155-500A-4E09-A15D-4B69D271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826-3E1B-4EE3-9B8B-8CB6D959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93E-310A-4D14-9C14-996B6062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376-49F2-4650-A4D1-0598F856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D0C-F46D-4DFF-AD0D-2F8FE596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8F9-016C-491E-92F0-53B21F27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A63-4213-4A96-8E40-AC16D7DC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C10-4560-4D27-AE7C-121F67F6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514-5080-48D6-982C-8C8E7824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9CB-B2CD-4BD9-96CD-576F797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2C4-585E-4910-8F32-D4ACF86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BAA-EABE-4183-B8A3-D9E63B72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2D69-D332-481B-9AF1-35455CD3B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h123.html" TargetMode="External"/><Relationship Id="rId2" Type="http://schemas.openxmlformats.org/officeDocument/2006/relationships/hyperlink" Target="file:///h123css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greencss.html" TargetMode="External"/><Relationship Id="rId2" Type="http://schemas.openxmlformats.org/officeDocument/2006/relationships/hyperlink" Target="file:///greencss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lasscss.html" TargetMode="External"/><Relationship Id="rId2" Type="http://schemas.openxmlformats.org/officeDocument/2006/relationships/hyperlink" Target="file:///classcss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eparation of Style and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0120" y="1257120"/>
            <a:ext cx="85471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= Cascading Style 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umulative effect with overrides, hence "cascading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"A simple mechanism for adding style to Web document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onts, colours, spacing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applies generically to all forms of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cularly optimized for use with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original HTML, style was done using HTML elements and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HTML 4, these were mostly deprecated in favour of attaching to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external style language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not defined as part of HT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SS is an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efinitive spe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scading Style Sheets, leve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3366ff"/>
                </a:solidFill>
                <a:latin typeface="Times New Roman"/>
              </a:rPr>
              <a:t>http://www.w3.org/TR/REC-CS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B74-56C0-4B1C-9FFF-A60436ECE9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D as Sel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TML4 and XML allows any element to have a special "id" attribute that is unique in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used as the target for a hyper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used to associate style properties with a particular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cs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07E-8D8B-4C92-8D6C-880F632875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ntextual Sele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SS can match a search pattern on a stack of open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c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cestors, not just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mix and match the various types of selectors into sent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#x23a p .foo { color: red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951-8DAA-4E54-B263-7090D385BB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nchor Pseudo-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 hack to account for elements whose behaviour changes throug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a:link { color: red } /* unvisited link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a:visited { color: red } /* visited link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a:active { color: red } /* active link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 effect on elements other than &lt;a&gt;, so 'a' may be omit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91B-223D-4C37-8E8A-0BF4269C7E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ypographical Pseudo-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80899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other hack for typographically important regions of text that are not delim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-line 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P:first-line { font-variant: small-caps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-letter (drop-caps) 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P:first-letter { font-size: 200%; float: left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browser defines what's "in" the first letter (e.g., opening quot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"Pseudo" because it's as if the browser inserted these elements (and classes) for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seudoc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806-F75F-4C39-BF9C-DFAEB2689C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Casc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gt;1 style sheet can influence the presentation simultane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d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uthor/reader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 different properties, all matching selectors are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the case of a property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rule is assigned a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aviest w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677-BCAD-4091-BE81-EF9623E347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eight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nd all declarations that apply to the element/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none, then inhe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no inheritance, use initi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rt by presence of 'important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rt by origin (author or rea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uthor overrides reader overrides browser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rt by specificity of se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re specific wins ('h1 p' wins over 'p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-element ('style' attribute) is the same specificity as an id-based se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rt by order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tter specified 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9DB-6197-48B7-90B7-515E9C1B94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lassification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works entirely internally to classify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lies only on default values of certain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make a &lt;p&gt; into a &lt;li&gt; (for formatting purposes) if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play: block | inline | list-item |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ne: turns off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lock: opens a new box (&lt;div&gt;) (new-line before and af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st-item: same as block with a list-item ma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line: box that can be broken at line-breaks (&lt;span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hite-space: normal | pre | now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st-style-type, list-style-image, list-style-position, list-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F5E-CA88-4A90-8269-D1451EB843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695760" y="4635360"/>
            <a:ext cx="1978200" cy="488160"/>
            <a:chOff x="3695760" y="4635360"/>
            <a:chExt cx="1978200" cy="488160"/>
          </a:xfrm>
        </p:grpSpPr>
        <p:sp>
          <p:nvSpPr>
            <p:cNvPr id="81" name=""/>
            <p:cNvSpPr/>
            <p:nvPr/>
          </p:nvSpPr>
          <p:spPr>
            <a:xfrm>
              <a:off x="3695760" y="4635360"/>
              <a:ext cx="1905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4440" y="4663800"/>
              <a:ext cx="19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element wid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Box Formatting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1244520"/>
            <a:ext cx="6540480" cy="320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rgin (trans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6640" y="1778040"/>
            <a:ext cx="5245200" cy="2349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55800" y="2324160"/>
            <a:ext cx="3683160" cy="1587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66"/>
                </a:solidFill>
                <a:latin typeface="Times New Roman"/>
              </a:rPr>
              <a:t>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83160" y="2946240"/>
            <a:ext cx="1930320" cy="77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70080" y="5235480"/>
            <a:ext cx="6565680" cy="459720"/>
            <a:chOff x="1270080" y="5235480"/>
            <a:chExt cx="6565680" cy="459720"/>
          </a:xfrm>
        </p:grpSpPr>
        <p:sp>
          <p:nvSpPr>
            <p:cNvPr id="89" name=""/>
            <p:cNvSpPr/>
            <p:nvPr/>
          </p:nvSpPr>
          <p:spPr>
            <a:xfrm>
              <a:off x="1270080" y="5270400"/>
              <a:ext cx="6565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47760" y="5235480"/>
              <a:ext cx="140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box wid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BFF-915C-4E4D-B401-3BE69EDBB4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Box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rgin-top, margin-bottom, margin-left, margin-right,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dding-top, padding-bottom, padding-left, padding-right, pa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rder-top-width, border-bottom-width, border-right-width, border-left-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182-AD10-4EDF-B3C8-E5B74E7B08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Pos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rgin width specifies min. distance to the edges of surrounding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s max(left margin, right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erticalcs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collapsed as for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arious "auto" values used to make sum of all the width elements equal to the enclosing parent 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rizontalc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87D-8C96-4C4F-8E07-8C7E1FF0B9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SS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Level 1 (implemented in NN4/6 and IE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Level 2 (bits and pieces being implemen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re selectors, media-specific style sheets, content positioning, downloadable fonts, table layou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Level 3 (nowhere near being implemen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du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m elements, full-screen, fine-control of color, multi-column layout, paged med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B21-3C00-44E4-A068-9C1288BFAB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loating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loat: left | right |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ft, right: formatted as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eft: moved to the left, text wraps on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ight: moved to the right, text wraps on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lear: none | left | right |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st sides where floating elements are not acce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if 'left'. element will be moved below any left floating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cs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A98-1306-4B0B-B8C0-FC7449DDEE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nt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UA (user agent = brows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kes a list of properties of all known fonts (system installed or previously downloa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 each element, UA assembles font-properties applicable to the characters of tha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uses the 'font-family' to choose a tentative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maining properties are tested against it (e.g., size, italic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nsure glyph available for curren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matches,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no match, repeat with next alternative matching font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no matches at all, use a UA-dependent default font-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6FE-1E20-4DD3-8F6A-0631502DCF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nt Mat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82677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nt-style: normal | italic | obl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talic matches if keyword italic or oblique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lse must match exa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nt-variant: normal | small-c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mall-caps satisfied if keyword present or can be synthe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nt-weight: normal | bold | bolder | lighter | 100-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ways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nt-size: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tches within UA-defined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calable fonts matched to within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itmapped fonts matched within as much as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DEA-ACB1-4921-AC87-3E0BBE47DE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nt Fami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nt-family: [family-name | generic-family]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[, [family-name | generic-family]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dy { font-family: gill, helvetica, sans-serif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eneric-fami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r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ns-ser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ant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no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ntcs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F5D-9917-4CCC-97EB-43EF90220B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8013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d-spacing: normal |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etter-spacing: normal |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xt-decoration: underline | overline | line-through | b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xt-transform: capitalize | uppercase | lowercase |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xt-align: left | right | center | jus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xt-indent: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e-height: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c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19D-A5B8-4528-AA86-51F0581487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Vertical Alig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ertical-align: baseline | sub | super | top | text-top | middle | bottom | text-bottom |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valigncs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0E6-8E6F-4D35-9C09-94E95AAFDB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rward Compat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lder browsers will ignore tags they don't recogn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wever, they will treat content as text to be ren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to enclose content in SGML comment delimi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!--   …   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blem: won't new browsers also treat it as a com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1C9-09BF-466E-BEF7-A854BD4DE5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rward Compatibility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&lt;style type="text/css"&gt; &lt;!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h1 { color: green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--&gt;&lt;/sty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&lt;style&gt; element is defined in the DTD  to contain C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quoted data - passed through unchanged by the SGML/XML par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particular, comments are not disc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ithin CSS, &lt;!-- is not a comment character, /* */ are used in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SS ignores &lt;!--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942-D100-4A61-8638-EB9169F6BE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inking CSS to X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br>
              <a:rPr sz="3200"/>
            </a:b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&lt;!xml-stylesheet</a:t>
            </a:r>
            <a:br>
              <a:rPr sz="28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d "style"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t must declare in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ume.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ume.c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ume.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DFF-EB63-413D-82B3-840E690DA8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inking HTML with style she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1600" y="1257120"/>
            <a:ext cx="88520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title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e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"stylesheet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"text/css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r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"http://style.com/cool"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"text/css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mport url(http://style.com/basi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{ color: blue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&gt;Headline is blue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"color: green"&gt;While the paragraph is green.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D75-82A1-4B63-9897-15784E4793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CSS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ing CSS, one associates style property values with XML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y element k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p&gt;, &lt;h1&gt;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y element "clas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p class="my-arbitrary-class-nam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y individual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p id="a-particular-paragraph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y element in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h1&gt;This &lt;em&gt;word&lt;/em&gt; is empha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D1C-9CC7-49A3-8390-B2036AE85E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SS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ylesheet: import* rulese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mport: 'import' 'url(' url ')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ules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or [ ',' selector]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'{' declaration [ ';' declaration]* '}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or: simple_selector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claration: property ':' expr ['! important']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pr: ['+' | '-']? term [ ['/' | ',' | ' ' ] term ]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BA7-4357-42A6-9F0D-089EBCB34F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 can group multiple headings, and apply a set of styles to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123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123c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98B-57C3-4C9D-A8DA-2076E62539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st styles are inherited into nested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set a "default" style by setting property values for the &lt;body&gt;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greencss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AA7-7534-4DFF-A616-D29168350C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lass as Sel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TML elements can be tagged with possibly many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yle properties can bet set across all elements of a give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classcss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F96-0D10-4DA4-8831-BD390DD08F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25T21:36:13Z</dcterms:modified>
  <cp:revision>42</cp:revision>
  <dc:subject/>
  <dc:title>CSC309 - 14 - CSS</dc:title>
</cp:coreProperties>
</file>