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286F-1A1A-478E-8B70-10EA76E3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1780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D405-A2CD-4CC6-B842-7DF7CBBF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BFDC-7362-4BD6-86ED-ECC2453C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4C4C-54DB-47AE-A76F-AF24EBEE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4395-494B-40B5-AEAB-7C146ECB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480B-B0FD-409B-9858-B4BABDE6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2A67-1539-496D-BC00-5C8E59C3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AF4B-9B66-4F64-A568-3EDF920E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5416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5B6E-B9EA-4D07-AA28-38A58D6F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98DA-BEDB-462A-BFBB-4B022469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F485-8CC5-48D9-B7F2-DE371FC1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59A3-1D0D-49B7-A3CB-C5D9CBEA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3556-C4CB-434A-A547-8CDFE1806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unicode.org/" TargetMode="External"/><Relationship Id="rId2" Type="http://schemas.openxmlformats.org/officeDocument/2006/relationships/hyperlink" Target="http://www.unicode.org/" TargetMode="External"/><Relationship Id="rId3" Type="http://schemas.openxmlformats.org/officeDocument/2006/relationships/hyperlink" Target="http://www.unicode.org/" TargetMode="External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iso8859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zyborra.com/" TargetMode="External"/><Relationship Id="rId2" Type="http://schemas.openxmlformats.org/officeDocument/2006/relationships/hyperlink" Target="http://czyborra.com/" TargetMode="External"/><Relationship Id="rId3" Type="http://schemas.openxmlformats.org/officeDocument/2006/relationships/hyperlink" Target="http://czyborra.com/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International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'i18n' for sh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als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haracter 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ext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rting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lend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e Web must be i18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00B5-A27A-4CD3-97B6-6C905A43E22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Unicod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Unicode Surrogate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2048 escape slots to make room for 1,048,576 extra characters (less commonly used) via "surrogate pairs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ne used so f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800-DBFF   followed by   DC00-DF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 meaning in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AB5F-3525-4128-8F66-1C2D470E5FD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Unicod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he Unicode Spec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65080" y="1142640"/>
            <a:ext cx="718812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unicode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025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ATIN SMALL LETTER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OTLESS J WITH STR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voiced palatal 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ypographically a turned f,but better thought of as a form of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"gy" in Hungarian orthogra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lso archaic phonetic for palatoalveolar affricate 02A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838920" y="1600200"/>
          <a:ext cx="1712880" cy="218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38920" y="1600200"/>
                    <a:ext cx="171288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0" y="3873600"/>
          <a:ext cx="1790640" cy="2209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3873600"/>
                    <a:ext cx="17906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0" y="1378080"/>
          <a:ext cx="1763640" cy="2298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1378080"/>
                    <a:ext cx="1763640" cy="22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32D9-CEB8-4B66-86A8-56E85793464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Unicod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Unicode Design Princi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257120"/>
            <a:ext cx="4584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6-bit characters (most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n-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haracters, not gly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emantics inclu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ap lower to up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aps mirrored character (  ), 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ndicates numeric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ndicates dire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s a le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lain text (no format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ogical order (storage order = typing order not= display order necessari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59400" y="1257480"/>
            <a:ext cx="458460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nified characters (complex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ynamic 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2 16-bit code elements to do, e.g., acc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quivalenc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re than one way to form accented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tandard states must be equival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A499-A93D-4C45-97DF-B52B9A8EF23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Unicod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Unicode Encoding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TF-16 (a.k.a.) UCS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fault UNICODE encoding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traight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uited for storing UNICODE 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TF-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odal encoding method for UNICODE that uses only first 7-bits of a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TF-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-bit, variable-length en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1, 2, or 3 points could represent a UNICODE code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CII compa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06F2-03E8-4413-9B1C-745D93317CE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Unicod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UTF-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787320" y="1397160"/>
          <a:ext cx="7823160" cy="3632040"/>
        </p:xfrm>
        <a:graphic>
          <a:graphicData uri="http://schemas.openxmlformats.org/drawingml/2006/table">
            <a:tbl>
              <a:tblPr/>
              <a:tblGrid>
                <a:gridCol w="3911760"/>
                <a:gridCol w="391140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CS-2 Encoding R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F-8 Bit Patter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\u0000 - \u007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xxxxxx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\u0080 - \u07F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0xxxxx 10xxxxx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\u0800 - \uFFF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10xxxx 10xxxxxx 10xxxxx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8E08-6168-4A26-BC96-A0C7F05E983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Unicod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Choosing an Enco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monly used character encodings on the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SO-8859-1 (Latin-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SO-8859-5 (supports Cyrill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HIFT_JIS (a Japanese enco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UC_JP (another Japanese enco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TF-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TF-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forming UA's must correctly map supported encodings to UNI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0FFA-3BA7-4C55-9030-BD6B9610D5C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Unicod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Specifying the character enco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 the HTTP 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tent-Type: text/html; charset=EUC-J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erver must somehow determine encoding of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address server or config limitations, HTML documents may include explicit inf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meta http-equiv="Content-Type" content="text/html; charset=EUC-JP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ay only be used where the character encoding is ASCII compatible (at least until the META element is pars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f opening a local file, wouldn't expect this to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although it does on Netscape 4 (parses the meta ta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ertainty, may include a 'charset' attribute on an element that designates an external re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2F10-8111-4F40-9ADA-C3FCF96C106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Unicod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Using UCS-2/UTF-16 Enco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o help out the UA, the first code element should 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\uFE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OM = byte order 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zero-width no-break space in UNI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this character, the UA can ascert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byte ordering of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ought to be network byte order, but just in case it's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at the file must be UTF-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no valid character byte FE or FF in most (all?) encod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757E-982D-427B-A416-FB94337BDC4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Unicod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Character Refe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8400" y="109188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umeric (decimal or he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amp;#D; refers to UNICODE char decimal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amp;#xH; refers to UNICDE char hex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&amp;#229 = &amp;#xE5 = &amp;#Xe5 = 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Entity 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ic names rather than code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not define them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lt; = &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to escape the &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nbs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on-breaking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cop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pyright symb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DD1C-D8BC-4985-B567-B1BCE081A7C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Unicod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following file inserts a symbol in 3 way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amp;#19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amp;#frac3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raw byte 190 inserted into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character encoding should only effect the way the last character is display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so8859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hange encoding to Cyrillic (ISO-8859-5) to get a big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hange encoding to Greek (ISO-8859-7) to get a big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34E2-04B1-4C5C-99CC-CD58B1916B9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Unicod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Character Encod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haracter S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 collection of characters grouped toge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ode point </a:t>
            </a:r>
            <a:r>
              <a:rPr b="0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abstract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e.g. the letter 'e' as used in Engl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haracter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 way of encoding code points into a byte 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byte stream </a:t>
            </a:r>
            <a:r>
              <a:rPr b="0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cod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 collection of "pictu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ode point </a:t>
            </a:r>
            <a:r>
              <a:rPr b="0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gly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87A8-6E23-4F81-A595-DB8DAC139AE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Unicod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Single-Byte Code S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9800" y="1257120"/>
            <a:ext cx="836928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merican Standard Code for Information Inter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7-bit code (0-12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SO-8859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 set of 8-bit codes backwards compatible with ASC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96 extra character slo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SO-8859-0 through ISO-8895-15 (new defaul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e.g., ISO-8859-1 / Latin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Afrikaans, Albanian, Basque, Catalan, Danish, Dutch, English, Faroese, Finish, French, German, Icelandic, Irish, Italian, Norwegian, Portuguese, Rhaeto-Romanic, Scottish, Spanish, Swahili, Swedi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Default code set for 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SO-8859-6 (Arabic) and ISO-8859-7 (Greek) do not fully handle all their respective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DA46-4E44-447D-B0AE-E887F55CE2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Unicod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ISO-885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haracters 0-127 identical to US-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28-159 for less-used control charac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SO-64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pper portions of charsets 160-255 differ for each vari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ood information 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zyborra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B0C9-3227-45F1-A47C-CD24CC3A3C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Unicod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ISO-8859-1 (Latin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iso8859-1" descr=""/>
          <p:cNvPicPr/>
          <p:nvPr/>
        </p:nvPicPr>
        <p:blipFill>
          <a:blip r:embed="rId1"/>
          <a:stretch/>
        </p:blipFill>
        <p:spPr>
          <a:xfrm>
            <a:off x="0" y="1117440"/>
            <a:ext cx="9144000" cy="3443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74120" y="4714920"/>
            <a:ext cx="65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atin1 is also the first page of ISO-10646 (Uni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875A-DAB0-4A4A-8CBA-664077AE92E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Unicod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ISO-8859-5 (Cyrillic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iso8859-5" descr=""/>
          <p:cNvPicPr/>
          <p:nvPr/>
        </p:nvPicPr>
        <p:blipFill>
          <a:blip r:embed="rId1"/>
          <a:stretch/>
        </p:blipFill>
        <p:spPr>
          <a:xfrm>
            <a:off x="0" y="1117440"/>
            <a:ext cx="9144000" cy="34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846E-3E14-463B-A05E-2DF39AD1D29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Unicod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so8859-6" descr=""/>
          <p:cNvPicPr/>
          <p:nvPr/>
        </p:nvPicPr>
        <p:blipFill>
          <a:blip r:embed="rId1"/>
          <a:stretch/>
        </p:blipFill>
        <p:spPr>
          <a:xfrm>
            <a:off x="0" y="1117440"/>
            <a:ext cx="9144000" cy="34434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ISO-8859-6 (Arabic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F95A-A895-4A7F-9961-731C9D206E5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Unicod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Multibyte Code S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256 characters cannot handle the tens of thousands of characters used in languages such as Chinese, Japanese, and Korean (CJK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32-bits handles up to 4 billion charac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than su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25C9-29B2-4CBE-8A47-25E27959C4D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Unicod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he Unicode Stand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2440" y="109188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fines a code set with a fixed-width, 16-bit character encoding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haracters from all the world's major scripts are uniformly sup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.g., can combine Arabic, French, Japanese, and Russian characters all in the same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ven musical symbols, mathematics, dead languages, ecclesiastical script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65,536 unique slots (16-bi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tal estimated # characters since the start of writing = 5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2B3B-51AE-453A-B89E-BA475F193AF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Unicod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0T20:39:14Z</dcterms:created>
  <dc:creator>David A. Penny</dc:creator>
  <dc:description/>
  <dc:language>en-US</dc:language>
  <cp:lastModifiedBy>penny</cp:lastModifiedBy>
  <dcterms:modified xsi:type="dcterms:W3CDTF">2001-09-17T15:51:44Z</dcterms:modified>
  <cp:revision>42</cp:revision>
  <dc:subject/>
  <dc:title>CSC309 - 11 - Unicode</dc:title>
</cp:coreProperties>
</file>