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AC7-EBA9-4DF4-ACCB-E8B841E7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23A-F998-40C9-AB4A-87490F0F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9DC-D703-4BD8-A45E-4DF9B8C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E8C-3DF4-4D06-A16A-04CEB5A4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837-4F6D-4A5B-8BCC-731AE1E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082-05C3-4109-87A8-E1A04D05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7A4-57D2-4FFF-95B9-D0164B4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8EA-B83E-411E-A921-C1CF26A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C36-9893-472A-ABD3-62E72C3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9C9-2B83-4440-9DE6-82F80AD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D04-2C4E-4B95-BD67-F9665826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96C-CF68-4096-965C-84AE1FC5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BEC-8B10-4073-8957-C62F6220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zw/lzw.html" TargetMode="External"/><Relationship Id="rId2" Type="http://schemas.openxmlformats.org/officeDocument/2006/relationships/hyperlink" Target="file:///lzw/lzw.html" TargetMode="External"/><Relationship Id="rId3" Type="http://schemas.openxmlformats.org/officeDocument/2006/relationships/hyperlink" Target="file:///lzw/lzw.html" TargetMode="External"/><Relationship Id="rId4" Type="http://schemas.openxmlformats.org/officeDocument/2006/relationships/hyperlink" Target="file:///lzw/lzw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mages on th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the &lt;img&gt; tag to add an image to a Web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img src="picture.gif"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t must trade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age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wnloa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ABB-A1D6-4387-A310-35B7840611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1884240"/>
            <a:ext cx="46483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7 118 120 121 121 121 120 119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8 119 121 122 122 121 120 1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120 121 122 121 121 121 1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9 120 120 120 119 119 119 119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9 118 118 118 117 117 117 117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8 118 117 116 115 115 115 11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119 117 116 114 115 116 11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1 120 118 117 115 115 116 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7280" y="105732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put 8x8 (x8 bit) Imag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luminance or reduced chrominance compon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3FD-33C0-46BF-8D9F-2496FA5FC0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DCT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5360" y="2565360"/>
            <a:ext cx="3505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5 3 0 -1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-6 -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9520" y="1311120"/>
            <a:ext cx="50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rete Cosine Transformed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input matrix level shifted -1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5880" y="2476440"/>
            <a:ext cx="1295280" cy="2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2160" y="2759040"/>
            <a:ext cx="303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usually encoded a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evious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FCB-D390-4399-8E6F-FC3DDBAA244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DCT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20600" y="131112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ple 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5560" y="31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9880" y="2184480"/>
            <a:ext cx="425448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6, 5, 8, 12, 20, 26, 31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6, 7, 10, 13, 29, 30, 2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7, 8, 12, 20, 29, 35, 2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9, 11, 15, 26, 44, 40, 31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 11, 19, 28, 34, 55, 52, 3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 18, 28, 32, 41, 52, 57, 46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, 32, 39, 44, 52, 61, 60, 51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, 46, 48, 49, 56, 50, 52,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F95-A404-4E52-A16B-47C14F816C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3120" y="19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2760" y="2324160"/>
            <a:ext cx="41400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-1 -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131112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uantized rounded-off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3400" y="1741320"/>
            <a:ext cx="2173320" cy="3021120"/>
          </a:xfrm>
          <a:custGeom>
            <a:avLst/>
            <a:gdLst/>
            <a:ahLst/>
            <a:rect l="l" t="t" r="r" b="b"/>
            <a:pathLst>
              <a:path w="1369" h="1903">
                <a:moveTo>
                  <a:pt x="161" y="591"/>
                </a:moveTo>
                <a:cubicBezTo>
                  <a:pt x="444" y="435"/>
                  <a:pt x="728" y="279"/>
                  <a:pt x="713" y="343"/>
                </a:cubicBezTo>
                <a:cubicBezTo>
                  <a:pt x="698" y="407"/>
                  <a:pt x="146" y="858"/>
                  <a:pt x="73" y="975"/>
                </a:cubicBezTo>
                <a:cubicBezTo>
                  <a:pt x="0" y="1092"/>
                  <a:pt x="125" y="1172"/>
                  <a:pt x="273" y="1047"/>
                </a:cubicBezTo>
                <a:cubicBezTo>
                  <a:pt x="421" y="922"/>
                  <a:pt x="852" y="328"/>
                  <a:pt x="961" y="223"/>
                </a:cubicBezTo>
                <a:cubicBezTo>
                  <a:pt x="1070" y="118"/>
                  <a:pt x="1062" y="203"/>
                  <a:pt x="929" y="415"/>
                </a:cubicBezTo>
                <a:cubicBezTo>
                  <a:pt x="796" y="627"/>
                  <a:pt x="269" y="1314"/>
                  <a:pt x="161" y="1495"/>
                </a:cubicBezTo>
                <a:cubicBezTo>
                  <a:pt x="53" y="1676"/>
                  <a:pt x="105" y="1722"/>
                  <a:pt x="281" y="1503"/>
                </a:cubicBezTo>
                <a:cubicBezTo>
                  <a:pt x="457" y="1284"/>
                  <a:pt x="1065" y="366"/>
                  <a:pt x="1217" y="183"/>
                </a:cubicBezTo>
                <a:cubicBezTo>
                  <a:pt x="1369" y="0"/>
                  <a:pt x="1364" y="120"/>
                  <a:pt x="1193" y="407"/>
                </a:cubicBezTo>
                <a:cubicBezTo>
                  <a:pt x="1022" y="694"/>
                  <a:pt x="607" y="1298"/>
                  <a:pt x="193" y="19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680" y="543888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-9, 0, 1, 0, -1, 0, 0, -1, 0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4920" y="543564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11 11001 11000 111000 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0760" y="4245120"/>
            <a:ext cx="32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opy 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ield is 0.4 bits/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720" y="207324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w frequenc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0A1-4C4F-471E-83F4-BDF1114989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 Algorithm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5040" y="1041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antize in the frequency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each block, divide each of the 64 frequency components by a distinct quantization coefficient and round the result to the nearest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 higher coefficient for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is is the main lossy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mount of quantization is user cont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code the quantized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ing lossless Huffman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zig-zag through frequency sap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"progressive mode", send the lower frequency components first, and follow up with progressively higher frequency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10D-6DF2-4A68-8B61-080AC619CF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Overh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ke GIFs, which have an implicit dictionary in their byte stream, JPEGs carry the overhead of transmitting the tables of quantization coefficients (and possibly the Huffman keys as wel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1x1 pixel white image is 2,128 bytes as a JPEG versus 35 bytes as a G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refore JPEG is not suitable for small images, where the overhead would swamp the imag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82D-36FB-496F-B3DE-5F1EA638D7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Colour C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cause browsers first emerged when most computers could only handle 256 unique colours, Netscape defined a 216-colour "cube" that it used to display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leaves 20 for OS use, and 20 for other ap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ever a computer is set to 256 colours, browsers will use this set of col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an image needs to be displayed that uses different colours,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ithering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8F0-63FB-48D6-AE2D-5307011CF1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i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archart.256.net" descr=""/>
          <p:cNvPicPr/>
          <p:nvPr/>
        </p:nvPicPr>
        <p:blipFill>
          <a:blip r:embed="rId1"/>
          <a:stretch/>
        </p:blipFill>
        <p:spPr>
          <a:xfrm>
            <a:off x="876240" y="1523880"/>
            <a:ext cx="774720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CEE-0D91-4D58-B7AA-BE4691F774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ithering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ample" descr=""/>
          <p:cNvPicPr/>
          <p:nvPr/>
        </p:nvPicPr>
        <p:blipFill>
          <a:blip r:embed="rId1"/>
          <a:stretch/>
        </p:blipFill>
        <p:spPr>
          <a:xfrm>
            <a:off x="681120" y="1316160"/>
            <a:ext cx="3608280" cy="2701800"/>
          </a:xfrm>
          <a:prstGeom prst="rect">
            <a:avLst/>
          </a:prstGeom>
          <a:ln w="0">
            <a:noFill/>
          </a:ln>
        </p:spPr>
      </p:pic>
      <p:pic>
        <p:nvPicPr>
          <p:cNvPr id="93" name="Sample%20copy" descr=""/>
          <p:cNvPicPr/>
          <p:nvPr/>
        </p:nvPicPr>
        <p:blipFill>
          <a:blip r:embed="rId2"/>
          <a:stretch/>
        </p:blipFill>
        <p:spPr>
          <a:xfrm>
            <a:off x="4502160" y="1333440"/>
            <a:ext cx="3594240" cy="26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004-FE07-4B4A-92B5-544A2B74A5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he end-user can't figure out how to up the colours past 256, give them crummy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line art that uses only the 216 colours defined in the Netscape colour c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duce the number of colours in a photograph using adaptive palette and histogram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D85-B52E-4372-A078-E2715DC91A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m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wo major imag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F (Graphics Interchange Form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IF87a, GIF89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ssless coding using run-length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nly handle 256 different col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do animation /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tter suited for line art and smaller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PEG (Joint Photographic Experts Gro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s lossy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tradeoff quality an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tter suited for phot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824-504E-4540-A60F-AE6915F820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mage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57120"/>
            <a:ext cx="81154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size is given in the &lt;img&gt; tag, image will be displayed at full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e.g., a typical digital camera will give 1024 x 768, filling up the entire screen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specify a size in the imag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img src="image.gif" height="100" width="100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age will be shrunk down (or blown up) by the browser to occupy a 100x100-pixel square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ould specify a size so that the browser can load the rest of the page while downloading the image in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46A-FA17-4B3A-8477-C67540217B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oosing an image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ould always shrink the image to the size it will be displa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do the shrinking in, e.g., Photoshop and get a better quality result than allowing the browser to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maller file size to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B63-008B-428C-8B0F-C6CD85479E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mizing G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cause of the use of LZW compression, it is best to use the fewest possible number of colours in a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get longer runs as a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rom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ggies versus downloa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EEE-4668-46FE-A521-636E2B7759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nti-Alia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grid2" descr="A diagonal line"/>
          <p:cNvPicPr/>
          <p:nvPr/>
        </p:nvPicPr>
        <p:blipFill>
          <a:blip r:embed="rId1"/>
          <a:stretch/>
        </p:blipFill>
        <p:spPr>
          <a:xfrm>
            <a:off x="1066680" y="1155600"/>
            <a:ext cx="1725840" cy="2297160"/>
          </a:xfrm>
          <a:prstGeom prst="rect">
            <a:avLst/>
          </a:prstGeom>
          <a:ln w="0">
            <a:noFill/>
          </a:ln>
        </p:spPr>
      </p:pic>
      <p:pic>
        <p:nvPicPr>
          <p:cNvPr id="104" name="grid3" descr="Jagged little pixels"/>
          <p:cNvPicPr/>
          <p:nvPr/>
        </p:nvPicPr>
        <p:blipFill>
          <a:blip r:embed="rId2"/>
          <a:stretch/>
        </p:blipFill>
        <p:spPr>
          <a:xfrm>
            <a:off x="3263760" y="1168560"/>
            <a:ext cx="1725840" cy="2296800"/>
          </a:xfrm>
          <a:prstGeom prst="rect">
            <a:avLst/>
          </a:prstGeom>
          <a:ln w="0">
            <a:noFill/>
          </a:ln>
        </p:spPr>
      </p:pic>
      <p:pic>
        <p:nvPicPr>
          <p:cNvPr id="105" name="grid4" descr="Smooth operator"/>
          <p:cNvPicPr/>
          <p:nvPr/>
        </p:nvPicPr>
        <p:blipFill>
          <a:blip r:embed="rId3"/>
          <a:stretch/>
        </p:blipFill>
        <p:spPr>
          <a:xfrm>
            <a:off x="5587920" y="1168560"/>
            <a:ext cx="1725840" cy="2296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8720" y="364464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technique used to eliminate the "jaggie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ll add many extra col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e.g., if you draw a red triangle against a white background in Photoshop, you get a 54-colour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lours used depend upon the foreground and the background col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0FA-1303-4526-8DCF-026C657EF7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nti-Alia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riangle" descr=""/>
          <p:cNvPicPr/>
          <p:nvPr/>
        </p:nvPicPr>
        <p:blipFill>
          <a:blip r:embed="rId1"/>
          <a:stretch/>
        </p:blipFill>
        <p:spPr>
          <a:xfrm>
            <a:off x="469800" y="121932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24480" y="1384200"/>
            <a:ext cx="237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image shows a triangle, anti-aliased against a white background, moved onto a black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CDF-DB23-45AD-B3E0-E8AF9FB0E1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mizing G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usually get a good anti-aliasing result with far fewer colours than the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ways anti-alias line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t then reduce the colours used by mapping colours to nearest neighb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ferably use the Web colour cube to avoid client-side di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1CE-E714-4D43-BF38-F04902BB86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mizing JPE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ose the largest quantization coefficients you can get away with and still have the image look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es, it's su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ing the number of colours won't help compress JPEG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lurring (softening) the image reduces to closer to zero the high-frequency components of the DCT, and hence will allow them to compress better (long runs of z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e art does not compress well with JP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F82-4AA7-4716-806E-0251AADAA8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mage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matter the compression technology, before being displayed, the browsers will un-compress the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is can take up a lot of browser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void very large background images (even if they compres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 tiling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B0D-95AE-451C-B1C5-C896BE7BBF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- 8 - 44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rizzly8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7D7-BCC3-4FA3-8D50-80F3747459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- 4 - 29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grizzly4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CA2-0F08-4BE2-B1B5-298A346BC8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IF C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9760" y="1206360"/>
            <a:ext cx="82803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s Lempel-Ziv-Welch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wned and licensed by Unisys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variant proposed by Welch of a compression scheme described in a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universal algorithm for sequential data compres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Lempel and J. Zi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EEE Transactions on Information theory pp.337-343, May 19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ression of individual sequences via variable rate co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Lempel and J. Ziv.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EEE Transactions on Information Theory, IT-24(1978) 530-5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A Technique for High Performance Data Com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erry A. Welch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EEE Computer, 17(6), June 1984, pp.8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39C-6093-45AE-87C0-B79D69F530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2 - 23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rizzly2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810-B1EF-47D8-8CD9-37340825D7C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- 0 - 20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rizzly1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49A-358C-4C8E-92C0-F5C83F5C58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IF - 16 - 28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grizzlygif" descr=""/>
          <p:cNvPicPr/>
          <p:nvPr/>
        </p:nvPicPr>
        <p:blipFill>
          <a:blip r:embed="rId1"/>
          <a:stretch/>
        </p:blipFill>
        <p:spPr>
          <a:xfrm>
            <a:off x="2697120" y="1424160"/>
            <a:ext cx="366552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842-A2A6-4426-B622-95A793DF548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IF versus JPEG (both ~28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grizzlygif" descr=""/>
          <p:cNvPicPr/>
          <p:nvPr/>
        </p:nvPicPr>
        <p:blipFill>
          <a:blip r:embed="rId1"/>
          <a:stretch/>
        </p:blipFill>
        <p:spPr>
          <a:xfrm>
            <a:off x="766800" y="1182600"/>
            <a:ext cx="3647880" cy="4864320"/>
          </a:xfrm>
          <a:prstGeom prst="rect">
            <a:avLst/>
          </a:prstGeom>
          <a:ln w="0">
            <a:noFill/>
          </a:ln>
        </p:spPr>
      </p:pic>
      <p:pic>
        <p:nvPicPr>
          <p:cNvPr id="128" name="grizzly4" descr=""/>
          <p:cNvPicPr/>
          <p:nvPr/>
        </p:nvPicPr>
        <p:blipFill>
          <a:blip r:embed="rId2"/>
          <a:stretch/>
        </p:blipFill>
        <p:spPr>
          <a:xfrm>
            <a:off x="4610160" y="11811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02F-0D99-472F-B652-852866F0D76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file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certain strings that repeat very of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in text files is the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 the 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spaces, the string takes 5 bytes, or 40 bits to en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hat if we were to add the whole string to the list of characters after the last one, at 25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very time we came across " the ", we could send the code 256 instead of 32,116,104,101,3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 take 9 bits instead of 40 (since 256 does not fit into 8 bi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19D-3A14-49EE-A992-DF1947F113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 Compress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"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read a character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w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 exists in th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 = w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utput the code for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 w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 to th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 =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5B3-0653-4336-984A-4F39A648E5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 C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5640" y="1257120"/>
            <a:ext cx="87757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ever transmit the dictionary.  It is implicit in the input stream (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zw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zw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htm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30120" y="2362320"/>
          <a:ext cx="8356680" cy="3728880"/>
        </p:xfrm>
        <a:graphic>
          <a:graphicData uri="http://schemas.openxmlformats.org/drawingml/2006/table">
            <a:tbl>
              <a:tblPr/>
              <a:tblGrid>
                <a:gridCol w="1619280"/>
                <a:gridCol w="1166760"/>
                <a:gridCol w="1849680"/>
                <a:gridCol w="2112840"/>
                <a:gridCol w="160812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at en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ed to di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"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88B-111B-44BD-B56A-D1CA776A8C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 legal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on LZW owned by Uni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F and UNIX compress utility 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sys charges a license fee for its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NG and pkzip uses compression based on an unencumbered LZ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F86-19B3-466B-9898-97D3B579E3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 joint ISO/CCITT committee established a standar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mpress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ous-tone still im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our and grey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E58-EBF8-4068-AB57-A05E18C7A1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nsform into a colour space that separates luminance and chr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lose a lot more info in chrominance than in luminance and still have the image loo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 YCb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wnsample chrominance by averaging together 2x2 square group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ave luminanc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oup pixels into 8x8 blocks and apply a Discrete Cosine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ates a pixel average + chang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savings here, not lo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2E2-7106-4B47-AF52-1BF1F7ACF5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10-03T16:01:52Z</dcterms:modified>
  <cp:revision>33</cp:revision>
  <dc:subject/>
  <dc:title>CSC309 - 16 - img</dc:title>
</cp:coreProperties>
</file>