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CC5B-BD0F-4CFC-8610-11EDFD809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01AE-779F-4C2D-8CCE-BCF56156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BB18-44B9-49FF-BE6E-B090A6DA9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36BB-309A-4369-A51B-FCBB6FE5B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0703-2992-48BE-9957-AB055F5A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5821-A376-4706-9383-1563DF69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0648-EF63-4C7C-A181-A5E60C9B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CB23-2659-417E-B763-D40DE5B1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20AE-8D5A-4420-B202-6AD662F2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2B08-DF20-4561-BABD-C438125D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8543-DED4-49D8-A82C-25CD3CB2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7DB9-3888-432D-89DB-BEF9C8FF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E8F9-0FA5-4D20-84A5-62EC5341C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perlsCGIlib" TargetMode="External"/><Relationship Id="rId2" Type="http://schemas.openxmlformats.org/officeDocument/2006/relationships/hyperlink" Target="file:///perlsCGIlib.htm" TargetMode="External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127.0.0.1/cgi-bin/CGIlibExample.pl" TargetMode="External"/><Relationship Id="rId2" Type="http://schemas.openxmlformats.org/officeDocument/2006/relationships/hyperlink" Target="file:///perl2html/CGIlibExample.pl.html" TargetMode="External"/><Relationship Id="rId3" Type="http://schemas.openxmlformats.org/officeDocument/2006/relationships/hyperlink" Target="file:///AddForm.html" TargetMode="External"/><Relationship Id="rId4" Type="http://schemas.openxmlformats.org/officeDocument/2006/relationships/hyperlink" Target="file:///perl2html/add1.pl.html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perlsCGIlib.htm" TargetMode="External"/><Relationship Id="rId2" Type="http://schemas.openxmlformats.org/officeDocument/2006/relationships/hyperlink" Target="file:///perlsCGIlib.htm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LoginFormC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GI Programming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l is used as an example throughout. Most of what is said here applies to any common programming language (ie C, C++, python etc.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ls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CGI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libr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rovides tools to simplif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b page creatio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header, start_html, h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m cre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start_form,textfield, checkbox_group, submit, end_for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sing QUERY_STRING/stdi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para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ssion maintainence (late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8925-3501-4410-B831-A8612235E65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1 - CGI Programm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oncurrency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re than one copy of a script may be executing at the same tim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age shared resources (ie files) see flock in perlfunc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ordinate processes using system semaphores/mutex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refull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ou must understand the system the system the web server is running on. (ie. File locking does not work if the file system is NFS mounted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lockExamp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not a web based example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9211-10AE-4ADD-B7DC-6E2B3CF91DC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1 - CGI Programm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Exampl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 to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http://127.0.0.1/cgi-bin/expire1.p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then follow the links a few times, finally, use the back button a few time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urc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expire1.p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can not be cached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	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expire2.p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can be cached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BB7D-629C-426E-89B4-C15DD4CD7B0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1 - CGI Programm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Exampl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839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omplex example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ttp://127.0.0.1/cgi-bin/CGIlibExample.p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s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sour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simple example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AddForm.html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s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4"/>
              </a:rPr>
              <a:t>sou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019F-D5ED-4A73-B1CB-F61A24E9232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1 - CGI Programm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tatelessnes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owser/webserver interaction is stateless by defaul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Stateless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no memory of the browsers state (probably determined by previous forms filled in and pages viewed) is kept either at the browser or webserver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Want to allow access to the addition script only once a user is logged in. Don't want to require a user to login at every pag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46B6-53A2-4875-8CD7-940CDC0CAFB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1 - CGI Programm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Adding State: Cooki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ore state at the browser: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ooki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name=val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airs (like parameters in a CGI query string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GI scripts can create cookies and send them to the browser in the HTTP header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browser maintains a list of cookies that belong to a particular Web server, and returns them to the CGI script during subsequent interaction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ported by Netscape 1.1 (and later), Internet Explore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perls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 CGI lib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s several methods that support cookie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F5F9-CCB9-4BA7-BD32-4EB098FA64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1 - CGI Programm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ookies (continued)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LoginFor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using cooki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Not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owsers limit the size of cookie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rs can refuse to accept th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tional parameter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Expiration ti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cookie will be stored and returned until expiration time. If not specified, cookie lives until browser is exited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Domai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(ie cs.toronto.edu) return cookie to any server in this domain. If not specified, return cookie only to servers on host sending cooki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Pat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cookies sent only to scripts within the path. If not specified, return cookies to any scrip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Secure fla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return cookies only on a secure (SSL) channe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3765-CA7D-41A1-82B6-A42A4C8295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1 - CGI Programm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Adding Stat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(Hidden Variables)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tore state in web page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dd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hidden variables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pported by all browser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quires all hidden variables to appear in all form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e is sent inside each web pag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form based applications only. Following hyperlinks causes a loss of state (unless you use some javascript tricks)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urrent submitted page represents current state independent of what was done previousl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Example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see AddForm.html (the source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&lt;input type=hidden name=secret value="Don't tell anyone!!"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60BE-34C1-4A38-8356-AE05BA0B98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1 - CGI Programm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Adding Stat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(URL Rewriting)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Store state in the URL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Rewrite URLs so that they include state variabl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URL is now a CGI-get reques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ported by all browser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quires all URLs contain all state information (long URLs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rent submitted page represents current state independent of what was done previously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347C-59FD-44AB-9457-A3DD8C0C031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1 - CGI Programm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Exampl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 to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http://127.0.0.1/cgi-bin/URLRewrite.p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llow the links a few tim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y with the reload and back butt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sit the site by URL alon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ttp://127.0.0.1/cgi-bin/URLRewrite.p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ick the application to thinking you have visited it 1000 time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urce: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URLRewrite.p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5759-DF89-4AB9-8C05-A7C2A7CB660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1 - CGI Programm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Adding Stat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(Store State at Server)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urrent state is stored at the serv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ie in a file or database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request includes a 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oke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dentifying the browsers session (tokens can be passed via cookies, hidden vars, url rewriting)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 each request, the executing CGI script uses the token to fetch session stat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Carefull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rowser back button problem. The page the user is viewing may not reflect state stored at the server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Solution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agma: no-cach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 header to prevent page caching in client and proxie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Note: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binations of the above techniques used in practi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47B8-1129-4DCD-B1E8-56BB1274600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1 - CGI Programm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02:10:20Z</dcterms:created>
  <dc:creator>arnold rosenbloom</dc:creator>
  <dc:description/>
  <dc:language>en-US</dc:language>
  <cp:lastModifiedBy>penny</cp:lastModifiedBy>
  <dcterms:modified xsi:type="dcterms:W3CDTF">2001-10-31T16:59:38Z</dcterms:modified>
  <cp:revision>15</cp:revision>
  <dc:subject/>
  <dc:title>CSC309 - 41 - CGI Programming</dc:title>
</cp:coreProperties>
</file>