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0EF-3817-4F82-99FB-5F5362CB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A20-BB8F-4E4F-B8D9-0F1ED49D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E6F-040C-49E6-A0D7-96D153A0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053-D4BB-4D80-9E22-9B55DFBA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593-E0F9-48C6-9C37-611817F1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D69-D6DA-4FDC-9D34-1075B5BB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383-638F-46B7-88D1-FC7E3DC2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C31-EC51-4ACE-B296-5520A4BD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7071-1605-49DE-A2CB-AAA6FCA2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6708-58FA-4E1D-AD93-887CF95F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697-5005-4FFF-8B21-DC0747D4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BBA-9B19-4A62-930A-0201334F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68C7-F192-4A48-9858-2241CD8C5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ebreview.com/browsers" TargetMode="External"/><Relationship Id="rId2" Type="http://schemas.openxmlformats.org/officeDocument/2006/relationships/hyperlink" Target="http://www.webreview.com/browsers" TargetMode="External"/><Relationship Id="rId3" Type="http://schemas.openxmlformats.org/officeDocument/2006/relationships/hyperlink" Target="http://www.webreview.com/browsers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he World Wide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lies on the Intern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N (Local Area Network) connected via e.g., Ethernet (physical address: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0-B0-D0-3E-51-BC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P (Internet Protocol) for bridging separate physical networks (IP address: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128.100.27.199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P (Transmission Control Protocol) for (fairly) reliably sending streams of bytes to various TCP ports on an computer on an IP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NS (Domain Name Service) for translating names and domains into IP addresses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enny.cs.toronto.edu = 128.100.27.199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ch more later in th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4E3-8C11-4912-A159-CB94235512F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ckwards Compa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ld documents work on new brow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ust continue to allow deprecated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ust continue to support older 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wards Compa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ld browsers can render newer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quires hacks in the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deways Compa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fferent browsers can render the same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eed for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2D9-D305-4B57-B4DD-E6200EEE54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op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ndards are evolving rapi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designing Web pages, one must always be aware of the lowest common denominator and make the pages act reasonably for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should not design for the latest and grea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..e, IE5.5 1024x768 32-bit col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less for use in a controlled Intrane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CA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CA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ebreview</a:t>
            </a:r>
            <a:r>
              <a:rPr b="0" lang="en-CA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com/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 this course, for simplicity, you may assume a fixed environment (that on CDF) as for a corporate intra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96A-ACF3-451B-BBBA-8DDBD15C513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RPANet online in '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P/IP selected as standard protocol in '8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SFNet widely deployed in '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u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0403-86E0-44FD-AE23-6B47EC24C3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m Berners-Lee at CERN proposal in '89 to have a CERN Intranet so researchers could find results of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sed on earlier Hypertext work dating back to '69, but especially work in '85 at Xerox (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NoteCard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) and '87 at Apple (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HyperCar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 collection of protocols for moving content 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specially http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hypertext transport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ntained by the W3C (world-wide-web consortium) (http://www.w3.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'93 Mosaic from NCSA: X11 on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45DD-6CDA-4C95-9EE8-7EFDDEA5C8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Browsers and Serv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icrosoft IIS, Apach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Browsers (cli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tscape, Microsoft I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RLs (Uniform Resource Loc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scheme&gt;:&lt;scheme-specific-par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ttp:&lt;http-specific-par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ttp://&lt;fully-qualified-domain-name&gt;/&lt;pat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ttp://www.cs.toronto.edu/~penny/teaching/csc3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ME (Multipurpose Internet Mail Extens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type&gt;/&lt;subtyp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ext/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833-C2B5-49ED-88B7-A2FBC0150B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tatic Client C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URL is typed into a client brow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http://www.cs.toronto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NS is used to translate the name into an IP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128.100.1.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client browser makes a connection to TCP port 80 on the server machine and sends an HTTP GET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Web server running on 'christie.cs' fetches a default page and returns it to the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response header indicates the MIME type of the data (often 'text/html') and the character encoding (often 'iso-8859-1') and the browser sets to work displaying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erver may have it's way with your Web page before sending it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.g., forwar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081F-904D-40EF-8A8A-9B07FEEA0D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ry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7000" y="1091880"/>
            <a:ext cx="668016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Courier New"/>
              </a:rPr>
              <a:t>telnet www.cs.toronto.edu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Trying 128.100.1.32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Connected to christie.cs.toronto.e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Escape character is '^]'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Courier New"/>
              </a:rPr>
              <a:t>GET /. HTTP/1.0 \n\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Date: Mon, 10 Sep 2001 16:08:47 G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Content-Length: 32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Content-Type: test/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Connection closed by foreign ho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201-33F5-4592-8B05-B9B3DE7DC4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ynamic Client C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ame as the above, but the page contains references to code that executes within the brow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ava Ap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ash plu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curity is always an issue with dynamic client cont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keeping the client machine safe from intru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613-D408-4CC7-B076-87C9073EEC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ynamically Served Con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ests for certain pages result in programs being run on the serve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se programs generate information that then gets returned to the browser (usually text/htm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mm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GI with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"common gateway interfac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HTTP GET/POST methods used to send client-entered data to the serve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erver-side incl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, J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Java Serv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ecurity also an issue, but the other w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keeping the server machine safe from intru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5CF-FD76-4F9A-95F4-53FE6FBFF1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N-Tiered Web Archite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main purpose of dynamically served content are the side-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ss to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ss to a local fi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ss to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also have access to a custom-written server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"3-tiered" or "n-tiered"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3F4-B08F-4A39-9E90-652977554D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0:39:14Z</dcterms:created>
  <dc:creator>David A. Penny</dc:creator>
  <dc:description/>
  <dc:language>en-US</dc:language>
  <cp:lastModifiedBy>penny</cp:lastModifiedBy>
  <dcterms:modified xsi:type="dcterms:W3CDTF">2001-09-10T19:30:40Z</dcterms:modified>
  <cp:revision>33</cp:revision>
  <dc:subject/>
  <dc:title>CSC309 - 01 WWW intro</dc:title>
</cp:coreProperties>
</file>