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6D7-5A47-4EE3-A6D3-AF508A9F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3F9-CBF5-4FF1-BE4E-8E0914F9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AE8-1D69-41EA-9B6F-BFD83A94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AF9-2A61-48F5-BAA8-9F57949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54A-D186-45CB-9805-149E22C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935-7E90-44B9-8EDC-1B5BCA1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0A8-45F3-4EE7-93EF-F01AEDC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F83-CF8F-46D5-B78F-3741A0E4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B8C-209B-4701-91FC-C3FBD6D3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5AB-F723-41C1-81C5-D1DCB3A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EFA-7657-42F7-8F31-40E2E9D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144-2250-4AB1-81A0-E94BED8A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EE8C-4FA3-4595-8676-34AF79CE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g.mdb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DBM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R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elational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ta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se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nagement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ystem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A way of saving and accessing data on persistent (disk) stor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44B-C609-48FE-B9BA-F5A66897F1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The Suppliers and Part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B with four tables (SUPPLIER, CITY, PART, SELLS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 has attributes: number (SNO), the name (SNAME) and the city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umb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ITY has attributes number (CNO) and the city name (CN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 has attributes: number (PNO) the name (PNAME) and the price (PRIC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LS has attributes: part (PNO) and supplier (SNO). SELLS connects SUPPLIER and PAR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8E1-2819-4F0A-AEDF-909F99301F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tities and Rel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something re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a connection between ent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s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SUPPL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regarded as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SE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regarded as a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tween a particular part and a particular suppli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926-FCB7-49F2-AEFF-C84E30DF47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</a:t>
            </a: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E/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04920" y="1809720"/>
            <a:ext cx="1523880" cy="1650600"/>
            <a:chOff x="2104920" y="1809720"/>
            <a:chExt cx="1523880" cy="1650600"/>
          </a:xfrm>
        </p:grpSpPr>
        <p:sp>
          <p:nvSpPr>
            <p:cNvPr id="128" name=""/>
            <p:cNvSpPr/>
            <p:nvPr/>
          </p:nvSpPr>
          <p:spPr>
            <a:xfrm>
              <a:off x="2104920" y="1809720"/>
              <a:ext cx="1523880" cy="165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S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S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4920" y="21909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134120" y="2247840"/>
            <a:ext cx="1523880" cy="1233360"/>
            <a:chOff x="7134120" y="2247840"/>
            <a:chExt cx="1523880" cy="1233360"/>
          </a:xfrm>
        </p:grpSpPr>
        <p:sp>
          <p:nvSpPr>
            <p:cNvPr id="131" name=""/>
            <p:cNvSpPr/>
            <p:nvPr/>
          </p:nvSpPr>
          <p:spPr>
            <a:xfrm>
              <a:off x="7134120" y="2247840"/>
              <a:ext cx="1523880" cy="123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P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P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4120" y="2628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29160" y="2038320"/>
            <a:ext cx="3524400" cy="992520"/>
            <a:chOff x="3629160" y="2038320"/>
            <a:chExt cx="3524400" cy="992520"/>
          </a:xfrm>
        </p:grpSpPr>
        <p:grpSp>
          <p:nvGrpSpPr>
            <p:cNvPr id="134" name=""/>
            <p:cNvGrpSpPr/>
            <p:nvPr/>
          </p:nvGrpSpPr>
          <p:grpSpPr>
            <a:xfrm>
              <a:off x="6143760" y="2495520"/>
              <a:ext cx="1009800" cy="535320"/>
              <a:chOff x="6143760" y="2495520"/>
              <a:chExt cx="1009800" cy="535320"/>
            </a:xfrm>
          </p:grpSpPr>
          <p:sp>
            <p:nvSpPr>
              <p:cNvPr id="135" name=""/>
              <p:cNvSpPr/>
              <p:nvPr/>
            </p:nvSpPr>
            <p:spPr>
              <a:xfrm>
                <a:off x="6143760" y="28764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31000" y="2495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45200" y="263196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629160" y="2038320"/>
              <a:ext cx="990720" cy="535320"/>
              <a:chOff x="3629160" y="2038320"/>
              <a:chExt cx="990720" cy="535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629160" y="24192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30600" y="2038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16400" y="217476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400280" y="1809720"/>
            <a:ext cx="1977480" cy="3238560"/>
            <a:chOff x="4400280" y="1809720"/>
            <a:chExt cx="1977480" cy="3238560"/>
          </a:xfrm>
        </p:grpSpPr>
        <p:grpSp>
          <p:nvGrpSpPr>
            <p:cNvPr id="143" name=""/>
            <p:cNvGrpSpPr/>
            <p:nvPr/>
          </p:nvGrpSpPr>
          <p:grpSpPr>
            <a:xfrm>
              <a:off x="4619520" y="1809720"/>
              <a:ext cx="1523880" cy="1650600"/>
              <a:chOff x="4619520" y="1809720"/>
              <a:chExt cx="1523880" cy="1650600"/>
            </a:xfrm>
          </p:grpSpPr>
          <p:sp>
            <p:nvSpPr>
              <p:cNvPr id="144" name=""/>
              <p:cNvSpPr/>
              <p:nvPr/>
            </p:nvSpPr>
            <p:spPr>
              <a:xfrm>
                <a:off x="4619520" y="1809720"/>
                <a:ext cx="1523880" cy="165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3333cc"/>
                    </a:solidFill>
                    <a:latin typeface="Arial"/>
                  </a:rPr>
                  <a:t>SEL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S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P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19520" y="21909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381640" y="3495600"/>
              <a:ext cx="0" cy="1552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0280" y="3809880"/>
              <a:ext cx="1977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implemente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809800" y="3505320"/>
            <a:ext cx="5367600" cy="2075040"/>
            <a:chOff x="2809800" y="3505320"/>
            <a:chExt cx="5367600" cy="2075040"/>
          </a:xfrm>
        </p:grpSpPr>
        <p:sp>
          <p:nvSpPr>
            <p:cNvPr id="149" name=""/>
            <p:cNvSpPr/>
            <p:nvPr/>
          </p:nvSpPr>
          <p:spPr>
            <a:xfrm>
              <a:off x="2809800" y="3505320"/>
              <a:ext cx="5029200" cy="1542960"/>
            </a:xfrm>
            <a:custGeom>
              <a:avLst/>
              <a:gdLst/>
              <a:ahLst/>
              <a:rect l="l" t="t" r="r" b="b"/>
              <a:pathLst>
                <a:path w="3168" h="546">
                  <a:moveTo>
                    <a:pt x="0" y="6"/>
                  </a:moveTo>
                  <a:lnTo>
                    <a:pt x="0" y="546"/>
                  </a:lnTo>
                  <a:lnTo>
                    <a:pt x="3168" y="546"/>
                  </a:lnTo>
                  <a:lnTo>
                    <a:pt x="3162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68480" y="3562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97680" y="3943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1600" y="5181480"/>
              <a:ext cx="4243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suppliers sell parts at a certain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95360" y="4191120"/>
            <a:ext cx="1523880" cy="1233360"/>
            <a:chOff x="495360" y="4191120"/>
            <a:chExt cx="1523880" cy="1233360"/>
          </a:xfrm>
        </p:grpSpPr>
        <p:sp>
          <p:nvSpPr>
            <p:cNvPr id="154" name=""/>
            <p:cNvSpPr/>
            <p:nvPr/>
          </p:nvSpPr>
          <p:spPr>
            <a:xfrm>
              <a:off x="495360" y="4191120"/>
              <a:ext cx="1523880" cy="123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360" y="4572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6680" y="3059280"/>
            <a:ext cx="1919160" cy="2189520"/>
            <a:chOff x="166680" y="3059280"/>
            <a:chExt cx="1919160" cy="2189520"/>
          </a:xfrm>
        </p:grpSpPr>
        <p:sp>
          <p:nvSpPr>
            <p:cNvPr id="157" name=""/>
            <p:cNvSpPr/>
            <p:nvPr/>
          </p:nvSpPr>
          <p:spPr>
            <a:xfrm>
              <a:off x="237960" y="3276720"/>
              <a:ext cx="1847880" cy="1533240"/>
            </a:xfrm>
            <a:custGeom>
              <a:avLst/>
              <a:gdLst/>
              <a:ahLst/>
              <a:rect l="l" t="t" r="r" b="b"/>
              <a:pathLst>
                <a:path w="1164" h="966">
                  <a:moveTo>
                    <a:pt x="1164" y="0"/>
                  </a:moveTo>
                  <a:lnTo>
                    <a:pt x="0" y="0"/>
                  </a:lnTo>
                  <a:lnTo>
                    <a:pt x="0" y="966"/>
                  </a:lnTo>
                  <a:lnTo>
                    <a:pt x="162" y="9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4680" y="30592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680" y="4849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EA6-5D68-43BF-99DA-97D0ECB22F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CITY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NO |  C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----+---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1  | 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2  | Pa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3  | 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R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4  | 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Vien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 Londo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a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distinct city, Londo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umbe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eg.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1F1-AF1B-4570-83C2-5AE26FACCD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533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UPPLI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NO |  SNAME  |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+---------+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Smith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Jones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Adams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Blake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Smith, </a:t>
            </a:r>
            <a:r>
              <a:rPr b="0" lang="en-CA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SUPPLIER represents a supplier with supplier number 1 whose name is Smith and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based in the city numbered 1 (Lond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F24-98FA-4D99-A077-00C4DB8A0F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990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PAR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PNO |  P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+---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Screw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N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Bo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C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2,Nu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PART represents a part with part number 2,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name Nut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88D-D2EE-426D-8A2E-7789A1B94D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829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EL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NO | PNO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| 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-+-----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+--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1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2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4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1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3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2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3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4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685880"/>
            <a:ext cx="400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2</a:t>
            </a:r>
            <a:r>
              <a:rPr b="0" lang="en-CA" sz="2800" spc="-1" strike="noStrike">
                <a:solidFill>
                  <a:srgbClr val="008000"/>
                </a:solidFill>
                <a:latin typeface="Courier New"/>
              </a:rPr>
              <a:t>,8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SELLS represents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relationship of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supplier 1 (Smith)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   selling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part 2 (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or 10 c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178-E29D-461A-9447-217886802E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ructured Query Langu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971640"/>
            <a:ext cx="875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d Query Language (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on a RDBMS to create, search and modify tab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ble creation (by example): Executing the following causes the creation of the Suppliers and Parts database abov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CREATE TABLE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(CNO INTEGER PRIMARY KEY, CNAME VARCHAR(20)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SUPPL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S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NAME VARCHAR(20),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NO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INTEGER REFERENCES CIT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P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NAME VARCHAR(20)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S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S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REFERENCES SUPPLIER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REFERENCES PAR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RICE DECIMAL(4,2)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PRIMARY KEY (SNO, PNO)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75D-6376-42EF-A884-893CD3EFE4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QL Data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QL Data types your database may sup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fullword binary integ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ECIMAL (p[,q]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packed decimal number of up to p digits, with q digits to the right of the decimal point. If q is omitted it is assumed to be 0. MSAccess supports NUMBER instead of DECIM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doubleword floating point nu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HAR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ixed length character string of length 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ARCHAR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varying length character string of maximum length 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 date attribute in a DBMS-specific forma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79F-6B22-4701-8158-B47F0B35C1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L allows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 to appear in tuples (table rows).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dicates a non-initialized attribute in a row. This can be disallowed by adding a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 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aint in table cre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REATE TABLE SUPPLIER (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NO INTEGER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NAME VARCHAR(20) NOT NULL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CNO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INTEGER REFERENCES CITY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dding a row to the SUPPLIER table, an SNAME must be specif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8B7-4F3B-4335-99A4-9DDCE0213F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Why Use an RDB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ata 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ata is immune to program cras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ncurrent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atomic updates via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replicated dbs for instant failover on machine/disk cras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aids to keep data meaningf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n handle small/large quantities of data in a uniform ma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easy to write SQL programs to generate arbitrary re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3C2-4225-45F9-B594-A1D7D2538C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KEY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rimary Key for a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be non-nu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be un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ill be indexed for fast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oreig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refer to an entry in the other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Both are op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DDF-69F1-4AB5-A096-FC1D175012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6120" y="1082520"/>
            <a:ext cx="883944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 of a SQL search is a tab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PAR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RICE &gt; 1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1E6-5AFE-4A4B-BAC9-C1F6D0BF91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10447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PRICE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RICE &gt; 1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4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P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PRICE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N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ND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C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65A-2EFC-4F21-87BC-A5B30E191B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7360" y="11966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sian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* FROM SUPPLIER, PAR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ve example forms the table SUPPLIER x PART with rows of the form (s,p) where s is a row in SUPPLIER, p is a row in PAR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otal SUPPLIER x PART has a total of 4*4 row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C67-732D-4316-BF2D-0D10623033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280" y="1143000"/>
            <a:ext cx="847116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ching up rows in tables based on the same value for colum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supplier, we want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he name of their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 7.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AME, CN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7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7.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.SNAME, C.C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S.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A41-0E94-4C70-959B-2FDA944829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London Suppli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9760" y="1285920"/>
            <a:ext cx="8543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NAME AS LondonSuppli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OM SUPPLIER,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NAME = 'London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2A0-F752-4858-AEDB-4FA62CFD3D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Who Sells Wh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9760" y="1285920"/>
            <a:ext cx="835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2400" spc="-1" strike="noStrike">
                <a:solidFill>
                  <a:srgbClr val="ff3300"/>
                </a:solidFill>
                <a:latin typeface="Comic Sans MS"/>
              </a:rPr>
              <a:t>9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NAME, PNAME, PR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OM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PLIER,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UPPLIER.S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.PNO = PART.P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ORDER BY SNAME, PNAM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266-7753-4267-B5F2-E19BF1274D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Cheapest Parts Suppliers</a:t>
            </a:r>
            <a:br>
              <a:rPr sz="4400"/>
            </a:b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(Subqueries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9760" y="1904760"/>
            <a:ext cx="85438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1600" spc="-1" strike="noStrike">
                <a:solidFill>
                  <a:srgbClr val="ff3300"/>
                </a:solidFill>
                <a:latin typeface="Comic Sans MS"/>
              </a:rPr>
              <a:t>10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, S.SNAME, SE1.PR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SELLS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UPPLIER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, PART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SNO = 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SNO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.PNO = 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NO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SE1.PRICE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(SELECT MIN(SE2.PRICE) FROM SELLS AS S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WHERE SE2.PNO = SE1.P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ORDER 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.P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EFD-0E3E-4F8A-9C2C-369891826B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7360" y="1130400"/>
            <a:ext cx="77724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f-Joins: Suppliers selling the same p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SELLS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1, SELLS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ve example forms the table SELLS x SELLS with rows of the form (s,p) where s and p are rows in SEL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able has 8*8 = 64 row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we have aliased (SELLS AS SE1) the tables so we can identify where attributes are fro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3A6-8ED7-487C-A971-D5D24089DC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8720" y="1041120"/>
            <a:ext cx="8242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pliers selling the same p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PNO, SE1.SNO, SE2.S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LS AS SE1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LS AS SE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PNO = SE2.PNO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SNO &lt; SE2.SN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FFB-909D-4553-862F-0E063F7BCF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lational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published by E.F. Codd in 197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ational database consists of a collection of tab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able consists of rows and colum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w represents a recor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lumn represents an attribute of the records contained in the ta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230-9E11-4A47-BF68-E9B8938EF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8720" y="1041120"/>
            <a:ext cx="8242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tty-print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PNAME, S1.SNAME, S2.S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LLS AS SE1, SELLS AS SE2, PAR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UPPLIER AS S1, SUPPLIER AS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1.PNO = SE2.PNO AND SE1.SNO &lt; SE2.S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AND SE1.PNO = PART.PNO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1.SNO = S1.SNO AND SE2.SNO = S2.S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ORDER BY P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D5D-8B3E-43A9-A8E9-523436EA8A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 Manipul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dd a row to SUPPL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 INTO SUPPLIER VALUES (1, 'Smith'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Update rows in a t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ET PRICE = 15 WHER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1 AND PNO = 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lete rows from a t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 FROM SUPPLIER WHERE SNAME = 'Smith'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233-8AB1-467B-801B-3BCADEE728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eferential Integ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elete from SUPPLIER but SELLS contains records referring to the deleted suppl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1: NO 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elete proceeds, data loses i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2: CASC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elete also deletes all referring records from S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3: SET N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foreign key set to null (if allow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4: SET DEFA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foreign key set to its default value (as specified in the CREATE TABLE stat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(Same options when an update occu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8EA-3E1E-4D11-BB1B-A3A7831BC2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eferential Integ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8762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(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GE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EFERENCES SUPPL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DELETE CASCAD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EFERENCES P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DELETE CASCADE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CD5-B1D3-4C65-B435-B5CB390BCA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reating Indi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Index: a data structure that assist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quickly finding specific rows based on the value of a field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raversing rows in a table on filed-sorted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ay DB products will automatically create indices on PRIMARY KEY and UNIQUE colum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an ensure and/or create indices on other columns (or column combinations) as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REATE INDEX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 price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Index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 ON 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SELLS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(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PRICE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ever need an index. For performance reasons on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Query optimizer will attempt to make use of indices to optimize the implementation of a given que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EE2-A449-485F-9DA4-5000F6CA58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Normal Fo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 database schema with no duplicated information is in </a:t>
            </a:r>
            <a:r>
              <a:rPr b="0" i="1" lang="en-CA" sz="2800" spc="-1" strike="noStrike">
                <a:solidFill>
                  <a:srgbClr val="000000"/>
                </a:solidFill>
                <a:latin typeface="Comic Sans MS"/>
              </a:rPr>
              <a:t>normal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Good to maintain data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Bad for queries/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lows them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akes them more difficult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13D-64E6-4DA4-96B8-C61C258855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De-Normaliz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9240" y="990360"/>
            <a:ext cx="433368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05440" y="3178080"/>
            <a:ext cx="50385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de-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d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C28-8370-45CC-A6DA-0E98317A50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De-Normalized Que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790640" y="981000"/>
            <a:ext cx="50389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de-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d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0120" y="38192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SELECT SNAME FROM SUPPLIER WHERE CITY = 'London'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4680000"/>
            <a:ext cx="19335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692-7045-48A1-AF65-4E65E1B2B6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Normalized Que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0120" y="3819600"/>
            <a:ext cx="461016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LECT S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ROM SUPPLIER, 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UPPLIER.CNO = CITY.C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ITY = 'London'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448320" y="4035600"/>
            <a:ext cx="19335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7560" y="990720"/>
            <a:ext cx="43336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B95-A221-4B79-96DB-24BCC66786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tc...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lational database is a powerful tool. We have not covered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 process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urrent ac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e quer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d procedures (PL/SQL, embedded Java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ity constraints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 and Tri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backu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 distribu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just scratched the surfa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B47-2E14-48A3-8819-22C7CD526E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DBMS Technolog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lient/Server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Oracle, Sybase, MySQL, SQL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ers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Embedded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oint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7DA-8B22-431B-B40D-9EEB6C5CF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48680" y="3809880"/>
            <a:ext cx="8165880" cy="1828800"/>
            <a:chOff x="148680" y="3809880"/>
            <a:chExt cx="8165880" cy="1828800"/>
          </a:xfrm>
        </p:grpSpPr>
        <p:sp>
          <p:nvSpPr>
            <p:cNvPr id="50" name=""/>
            <p:cNvSpPr/>
            <p:nvPr/>
          </p:nvSpPr>
          <p:spPr>
            <a:xfrm>
              <a:off x="2209680" y="3809880"/>
              <a:ext cx="41911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6272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114800"/>
              <a:ext cx="609480" cy="533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760" y="3809880"/>
              <a:ext cx="182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3333cc"/>
                  </a:solidFill>
                  <a:latin typeface="Arial"/>
                </a:rPr>
                <a:t>Serv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680" y="48006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server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905120" y="4419360"/>
              <a:ext cx="2209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971440" y="4572000"/>
              <a:ext cx="12193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962520" y="4648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464832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572000"/>
              <a:ext cx="1295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1480" y="44388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disk 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334120" y="464796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Client/Server Databas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1600200"/>
            <a:ext cx="7798680" cy="2895480"/>
            <a:chOff x="1143000" y="1600200"/>
            <a:chExt cx="7798680" cy="2895480"/>
          </a:xfrm>
        </p:grpSpPr>
        <p:grpSp>
          <p:nvGrpSpPr>
            <p:cNvPr id="67" name=""/>
            <p:cNvGrpSpPr/>
            <p:nvPr/>
          </p:nvGrpSpPr>
          <p:grpSpPr>
            <a:xfrm>
              <a:off x="1143000" y="1600200"/>
              <a:ext cx="1981080" cy="1371600"/>
              <a:chOff x="1143000" y="1600200"/>
              <a:chExt cx="1981080" cy="1371600"/>
            </a:xfrm>
          </p:grpSpPr>
          <p:sp>
            <p:nvSpPr>
              <p:cNvPr id="68" name=""/>
              <p:cNvSpPr/>
              <p:nvPr/>
            </p:nvSpPr>
            <p:spPr>
              <a:xfrm>
                <a:off x="1143000" y="1600200"/>
                <a:ext cx="1981080" cy="1371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05120" y="2209680"/>
                <a:ext cx="60948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3000" y="16002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600" spc="-1" strike="noStrike">
                    <a:solidFill>
                      <a:srgbClr val="3333cc"/>
                    </a:solidFill>
                    <a:latin typeface="Arial"/>
                  </a:rPr>
                  <a:t>clien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038480" y="1600200"/>
              <a:ext cx="1981440" cy="1371600"/>
              <a:chOff x="4038480" y="1600200"/>
              <a:chExt cx="1981440" cy="1371600"/>
            </a:xfrm>
          </p:grpSpPr>
          <p:sp>
            <p:nvSpPr>
              <p:cNvPr id="72" name=""/>
              <p:cNvSpPr/>
              <p:nvPr/>
            </p:nvSpPr>
            <p:spPr>
              <a:xfrm>
                <a:off x="4038480" y="1600200"/>
                <a:ext cx="1981440" cy="1371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67080" y="2209680"/>
                <a:ext cx="60984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038480" y="16002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600" spc="-1" strike="noStrike">
                    <a:solidFill>
                      <a:srgbClr val="3333cc"/>
                    </a:solidFill>
                    <a:latin typeface="Arial"/>
                  </a:rPr>
                  <a:t>clien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05520" y="2209680"/>
                <a:ext cx="60948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638680" y="3962520"/>
              <a:ext cx="60984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2160" y="32767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client pro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520" y="350532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638680" y="26665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20320" y="2668680"/>
            <a:ext cx="5418360" cy="1751040"/>
            <a:chOff x="220320" y="2668680"/>
            <a:chExt cx="5418360" cy="1751040"/>
          </a:xfrm>
        </p:grpSpPr>
        <p:sp>
          <p:nvSpPr>
            <p:cNvPr id="81" name=""/>
            <p:cNvSpPr/>
            <p:nvPr/>
          </p:nvSpPr>
          <p:spPr>
            <a:xfrm>
              <a:off x="2357280" y="2668680"/>
              <a:ext cx="190188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419360" y="27432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72000" y="2743200"/>
              <a:ext cx="8380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724280" y="42670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320" y="3413160"/>
              <a:ext cx="22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tcp/ip conn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362320" y="32767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6F1-643B-46EA-BB67-04048BD2CC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lient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Inside the Client Proc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91120" y="3581280"/>
            <a:ext cx="4190760" cy="2133720"/>
            <a:chOff x="4191120" y="3581280"/>
            <a:chExt cx="4190760" cy="2133720"/>
          </a:xfrm>
        </p:grpSpPr>
        <p:sp>
          <p:nvSpPr>
            <p:cNvPr id="91" name=""/>
            <p:cNvSpPr/>
            <p:nvPr/>
          </p:nvSpPr>
          <p:spPr>
            <a:xfrm>
              <a:off x="4191120" y="4952880"/>
              <a:ext cx="2895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000" y="3581280"/>
              <a:ext cx="2666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8000"/>
                  </a:solidFill>
                  <a:latin typeface="Arial"/>
                </a:rPr>
                <a:t>tcp/ip connection to serv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66680" y="2057400"/>
            <a:ext cx="5859360" cy="2913120"/>
            <a:chOff x="1066680" y="2057400"/>
            <a:chExt cx="5859360" cy="2913120"/>
          </a:xfrm>
        </p:grpSpPr>
        <p:grpSp>
          <p:nvGrpSpPr>
            <p:cNvPr id="94" name=""/>
            <p:cNvGrpSpPr/>
            <p:nvPr/>
          </p:nvGrpSpPr>
          <p:grpSpPr>
            <a:xfrm>
              <a:off x="1066680" y="4191120"/>
              <a:ext cx="3886200" cy="779400"/>
              <a:chOff x="1066680" y="4191120"/>
              <a:chExt cx="3886200" cy="77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066680" y="4191120"/>
                <a:ext cx="388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08000" y="4267080"/>
                <a:ext cx="226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4000" spc="-1" strike="noStrike">
                    <a:solidFill>
                      <a:srgbClr val="008000"/>
                    </a:solidFill>
                    <a:latin typeface="Arial"/>
                  </a:rPr>
                  <a:t>db library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173640" y="205740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3333cc"/>
                  </a:solidFill>
                  <a:latin typeface="Arial"/>
                </a:rPr>
                <a:t>A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95680" y="2362320"/>
              <a:ext cx="1676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5BD-FBB6-494C-8BE5-24EC11B933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Pointb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5257800"/>
            <a:ext cx="5943600" cy="914400"/>
            <a:chOff x="1676520" y="5257800"/>
            <a:chExt cx="5943600" cy="914400"/>
          </a:xfrm>
        </p:grpSpPr>
        <p:sp>
          <p:nvSpPr>
            <p:cNvPr id="102" name=""/>
            <p:cNvSpPr/>
            <p:nvPr/>
          </p:nvSpPr>
          <p:spPr>
            <a:xfrm>
              <a:off x="4343400" y="5257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8000"/>
                  </a:solidFill>
                  <a:latin typeface="Arial"/>
                </a:rPr>
                <a:t>local file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562720"/>
              <a:ext cx="259056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5257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447920" y="205740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lient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057400"/>
            <a:ext cx="5859360" cy="2887920"/>
            <a:chOff x="1066680" y="2057400"/>
            <a:chExt cx="5859360" cy="2887920"/>
          </a:xfrm>
        </p:grpSpPr>
        <p:grpSp>
          <p:nvGrpSpPr>
            <p:cNvPr id="107" name=""/>
            <p:cNvGrpSpPr/>
            <p:nvPr/>
          </p:nvGrpSpPr>
          <p:grpSpPr>
            <a:xfrm>
              <a:off x="1066680" y="4191120"/>
              <a:ext cx="3886200" cy="754200"/>
              <a:chOff x="1066680" y="4191120"/>
              <a:chExt cx="3886200" cy="754200"/>
            </a:xfrm>
          </p:grpSpPr>
          <p:sp>
            <p:nvSpPr>
              <p:cNvPr id="108" name=""/>
              <p:cNvSpPr/>
              <p:nvPr/>
            </p:nvSpPr>
            <p:spPr>
              <a:xfrm>
                <a:off x="1066680" y="4191120"/>
                <a:ext cx="388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24040" y="4363920"/>
                <a:ext cx="2617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200" spc="-1" strike="noStrike">
                    <a:solidFill>
                      <a:srgbClr val="008000"/>
                    </a:solidFill>
                    <a:latin typeface="Arial"/>
                  </a:rPr>
                  <a:t>Pointbase lib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173640" y="205740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3333cc"/>
                  </a:solidFill>
                  <a:latin typeface="Arial"/>
                </a:rPr>
                <a:t>A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495680" y="2362320"/>
              <a:ext cx="1676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4AD-4A93-461F-A55F-8D54D5FAC5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Microsoft Acc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5680" y="24382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Access a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733920"/>
            <a:ext cx="26668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Microsoft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SQL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520" y="4876920"/>
            <a:ext cx="5943600" cy="1295280"/>
            <a:chOff x="1676520" y="4876920"/>
            <a:chExt cx="5943600" cy="1295280"/>
          </a:xfrm>
        </p:grpSpPr>
        <p:sp>
          <p:nvSpPr>
            <p:cNvPr id="117" name=""/>
            <p:cNvSpPr/>
            <p:nvPr/>
          </p:nvSpPr>
          <p:spPr>
            <a:xfrm>
              <a:off x="4343400" y="5257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8000"/>
                  </a:solidFill>
                  <a:latin typeface="Arial"/>
                </a:rPr>
                <a:t>local file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5562720"/>
              <a:ext cx="259056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4876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362-223E-4F57-8BA1-F61A206D0C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APIs to RDBM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ll are very simi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 collection of routines designed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oduce and send to the db engine an SQL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 original SQL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QL that invokes a "stored procedure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e-fab, parameterized SQ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get row/column oriented results back if applic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ll ASC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arsing/compiling/enco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DF6-394E-4A9A-927E-64C3F9B574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David A. Penny</cp:lastModifiedBy>
  <dcterms:modified xsi:type="dcterms:W3CDTF">2001-11-21T16:22:31Z</dcterms:modified>
  <cp:revision>27</cp:revision>
  <dc:subject/>
  <dc:title>CSC309 - 51- RDBMS</dc:title>
</cp:coreProperties>
</file>