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F91-A00B-4C56-8D86-23BF1034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3FB-7656-40BC-8C39-7E4EAC65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534-8F71-4C1D-87F7-BEF73C32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D31-B811-40A1-8D14-A816E060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ECC-1AB5-4EF8-A06A-B64ABBF5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740-5D16-43BF-A81F-A7F60D03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A84-6311-40A9-9BB7-B0DB3330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7B4-C740-48D2-A2D6-2CDD3335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432-C36C-4D7F-B00E-7442C6A5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803-2343-48E6-84FF-E7F1FC89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EE9-7F50-4957-988F-371367EC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074-026F-47BE-854B-C2971CCB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8B57-A046-4922-B605-45A7F14A0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nny@cs.toronto.edu" TargetMode="External"/><Relationship Id="rId2" Type="http://schemas.openxmlformats.org/officeDocument/2006/relationships/hyperlink" Target="mailto:penny@cs.toronto.edu" TargetMode="External"/><Relationship Id="rId3" Type="http://schemas.openxmlformats.org/officeDocument/2006/relationships/hyperlink" Target="mailto:penny@cs.toronto.edu" TargetMode="External"/><Relationship Id="rId4" Type="http://schemas.openxmlformats.org/officeDocument/2006/relationships/hyperlink" Target="mailto:penny@cs.toronto.edu" TargetMode="External"/><Relationship Id="rId5" Type="http://schemas.openxmlformats.org/officeDocument/2006/relationships/hyperlink" Target="mailto:penny@cs.toronto.edu" TargetMode="External"/><Relationship Id="rId6" Type="http://schemas.openxmlformats.org/officeDocument/2006/relationships/hyperlink" Target="mailto:penny@cs.toronto.edu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SC309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gramming on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645000"/>
            <a:ext cx="4419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f. Pen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10:30-11:30, LP396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enny@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oronto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503-669F-4B41-B1A8-52871D7AFD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urse Go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derstand concepts and principles underlying Web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will understand what’s going on behind the sc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won’t need to practice hit &amp; miss program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will encourage a professional approach to Web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9BA-1195-4BEB-AE4B-BD1F8B30B2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urse T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ic Client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code, XML, CSS, XHTML, XSL, &lt;IM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ynamic Client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ms, JavaScript, Java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ynamic Server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erl CGI, Java Servlets, RDBMS via Servlet 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rational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tworks, protocols, web servers,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yper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uest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rian Miller, VP Technology, grocerygatewa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067-A8DC-457B-A3BF-D92032465E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Minimum Prepa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SC270, CSC209, CSC2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ava, systems programming, file structures, some degree of maturity in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prior knowledge of Web technologies is assu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though we will move quickly so anything you already know will be an as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8F1-F31A-4F58-A02E-0586CDA032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400" y="107928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"Programming the World Wide Web",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st Edition, Robert Sebesta,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ddison-Wesley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ill post soon after each 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bug me by e-mail if I forg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so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t, … will find on your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ainly from  </a:t>
            </a:r>
            <a:r>
              <a:rPr b="0" lang="en-CA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3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Book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225600" y="2540160"/>
            <a:ext cx="5502600" cy="3111480"/>
            <a:chOff x="3225600" y="2540160"/>
            <a:chExt cx="5502600" cy="3111480"/>
          </a:xfrm>
        </p:grpSpPr>
        <p:sp>
          <p:nvSpPr>
            <p:cNvPr id="53" name=""/>
            <p:cNvSpPr txBox="1"/>
            <p:nvPr/>
          </p:nvSpPr>
          <p:spPr>
            <a:xfrm>
              <a:off x="5724360" y="2863800"/>
              <a:ext cx="3003840" cy="125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Exam Fodd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219280" y="2540160"/>
              <a:ext cx="863640" cy="44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283360" y="4368960"/>
              <a:ext cx="799920" cy="1282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3225600" y="3301560"/>
              <a:ext cx="2463480" cy="241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A92-6652-4E30-A19C-080DDCF59D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4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1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15%)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: HTML, XML,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2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15%)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: + JavaScript &amp; Java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3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15%)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: Perl 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4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15%)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: Java Servlet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 practice test (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 final exam (4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93E-C944-4652-871A-500E966627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nd-in assignments on the CDF Sun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do all work on that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work at home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ood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dditional set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ra work to install onto CDF and ensure everything works properly in that environment - NO EXCUS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utorial Friday, Sep.14 1:00  in this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tt will introduce you to the CDF t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B13-B8A0-4B5D-81CC-A9805F3059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09-10T19:13:06Z</dcterms:modified>
  <cp:revision>24</cp:revision>
  <dc:subject/>
  <dc:title>cCSC309 - 00 Course Intro</dc:title>
</cp:coreProperties>
</file>