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8823-4149-4D54-B2B3-5BB40D9F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2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5F5-8AFD-4D7E-926F-2E5DB0AF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2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F48-5337-49B9-8665-9F8C10B8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2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2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2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135-E24E-4C53-8E2E-3A4BF3DF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4E2-091F-4690-B9B5-7084837B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FC7-D17C-40A0-B1D0-7C2456DC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35C-F27A-4D37-9A64-5E5E35B2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3E6-1A06-4A54-8BAF-D7CEBD57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D99-DE33-4BD9-8958-0D0B50B0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45A-8096-4C31-8BFE-3BC4D62E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2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41C-4EC2-466F-AEC5-0366B66A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BE3-1E81-4DCF-8289-9007D69D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9D46-0703-406C-BBB2-7A9B22FD2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ransaction.java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rivial.java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DBC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DBC (Java Database Connectivity) is a standard SQL database access interfa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JDBC API defines classes to represent constructs such as database connections, SQL statements, result sets, and database metadata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DBC allows a Java program to issue SQL statements and process the result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7CA-DCAD-4940-BBE9-82FD0F9F04C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PI: Executing Queri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query can return many rows, each with many attribut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s a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 query to the databa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rieve one row at a tim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row, retrieve attribut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B3C-3E0F-493A-97F4-2DAD1A9AC1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PI: Executing Queri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 stmt = con.createStatement();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end the query to the DB, get back a ResultSe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Set rs = stmt.executeQuery("SELECT * FROM PART;"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Go through all rows returned by the quer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rs.next()){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ull out individual columns from the current row int pno=rs.getInt("PNO"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pname=rs.getString("PNAME"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rint out the values System.out.println(pno+"\t"+pname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s.close(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602-6E70-4C4E-BABE-95D0002B09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PI: Updat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urier New"/>
              </a:rPr>
              <a:t>Int rows</a:t>
            </a:r>
            <a:r>
              <a:rPr b="1" i="1" lang="en-CA" sz="28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i="1" lang="en-US" sz="2800" spc="-1" strike="noStrike">
                <a:solidFill>
                  <a:srgbClr val="3333cc"/>
                </a:solidFill>
                <a:latin typeface="Courier New"/>
              </a:rPr>
              <a:t>ffected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i="1" lang="en-US" sz="2800" spc="-1" strike="noStrike">
                <a:solidFill>
                  <a:srgbClr val="3333cc"/>
                </a:solidFill>
                <a:latin typeface="Courier New"/>
              </a:rPr>
              <a:t>stmt.executeUpdate(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i="1" lang="en-US" sz="2800" spc="-1" strike="noStrike">
                <a:solidFill>
                  <a:srgbClr val="3333cc"/>
                </a:solidFill>
                <a:latin typeface="Courier New"/>
              </a:rPr>
              <a:t>"DELETE * FROM ACCOUNTS;")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ecutes a SQL INSERT, UPDATE or DELETE statement. Returns the number of rows affected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F22-9A06-4D5D-89DC-59A7A5DB88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PI: Prepared Statement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a parameterized SQL statemen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to speedup query parsing (statement does not need to be reparsed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to simplify development (clumsy strings do not have to be created and recreated for each update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tring insert="INSERT INTO ACCOUNT(NAME,AMOUNT)VALUES(?,?);"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reparedStatement ps =con.prepareStatement(insert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s.setString(1,"Charlie"); // Fill in the first 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s.setDouble(2,23.45); // Fill in the second 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ows</a:t>
            </a:r>
            <a:r>
              <a:rPr b="1" lang="en-CA" sz="18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fected=ps.executeUpdate(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s.setInt(1,"Arnold"); // Fill in the first 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s.setInt(2,102.23); // Fill in the second 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ows</a:t>
            </a:r>
            <a:r>
              <a:rPr b="1" lang="en-CA" sz="18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fected=ps.executeUpdate();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17F-4277-459C-8DA8-AF5EFE3C04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ransac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ransaction is a collection of DB modifications, which is treated as an atomic DB operation. All take place or none d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actions are used to make sure that a collection of updates leaves the database in a consistent state (as defined by the application program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default the Connection automatically commits changes after executing each statement. If auto commit has been disabled, the method commit must be called explicitly; otherwise, database changes will not be sav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3F0-B7C7-4376-AFD9-9877E7BB38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PI: Transac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/ Change to transactional m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n.setAutoCommit(fals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/ Transaction A begins her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mt.executeUpdate("DELETE * FROM ACCOUNT...;");// 1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mt.executeUpdate("INSERT INTO ACCOUNT ...."); //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mt.executeUpdate("INSERT INTO ACCOUNT ...."); // 3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mt.executeUpdate("INSERT INTO ACCOUNT ...."); // 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n.commit(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/ Commit changes to databa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/ All of 1,2,3,4 take effe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7C3-E1E7-4369-A3E7-2C6CC93D56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PI: Transac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/ Transaction B begins her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mt.executeUpdate("DELETE * FROM SALES...;"); // 5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mt.executeUpdate("INSERT INTO SALES ...."); // 6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mt.executeUpdate("INSERT INTO SALES ...."); // 7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mt.executeUpdate("INSERT INTO SALES ...."); // 8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n.rollback(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/ Rollback to before transaction B bega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/ None of 5,6,7,8 effects the DB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Transaction.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6CA-81A5-46A7-BAC3-D84B9F7B1F3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cope of DB Connec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rvle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pen/close connection on each servlet invo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ll work, but very s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ss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ep 1 open connection associated with the session: HttpSession.getParameter(“dbCon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ngerous (multiple concurrent servlets in same session): concurrency probl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wkward (when to close?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b App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ep 1 open connection for the web application and re-use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ngerous: Concurrency issues: bottlene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AE0-7D4C-487E-A058-A9644F7538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nnection Pooling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olu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ain a pool of open connections that know how to time themselves o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servlet cal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bConnectionPool dbcp = getServletContext().getAttribute(“dbConPool”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bConnection con = dbcp.checkoutConnection(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ement s = con.createStatement(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bcp.checkinConnection(con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CE4-170E-40B3-B3F7-69ED3FDD37D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nnection Pooling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bConnectionPool allocates a new Connection object when asked to do 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wraps it in a DbConnection object that delegates calls to its enclosed Connection object and returns it to the cli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sets a timeout that will reclaim the Connection for a pool of free conne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client accesses DbConnection after timeout, DbConnection will request a fresh connection from the poo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returns DbConnection to the pool when done with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bConnectionPool does not close the Connection, rather saves it for the next requ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may block awaiting a freed connection if some maximum upper limit of open connections is reach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A7C-D451-4C1F-9F41-A93D32B1469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DBC Goal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rovid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programmers with a uniform, simple interface to a wide range of relational databas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B independence. Can replace underlying database with minimal code impac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mon base on which higher level tools and interfaces can be built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9AF-E527-4862-A8EE-2CAD6FF784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JB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rprise Java Be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 of Sun J2EE initia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e development of Web-oriented, 3-tier, RDBMS-based, applica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ity bea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apsulates a persistent object that is mirrored in an RDB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ssion bea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apsulates trans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les all the crap for you (e.g., sessions, connection pooling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C09-3C39-4286-A378-204278EC2B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Trivial First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Trivial.j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Comp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Erro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Create an ODBC en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ee the resul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A77-CBA1-4C03-B428-F0066FC7EA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JDBC Applica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5562360" cy="544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C8C-F084-48A5-B908-7A7ECE13D2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ieces Continued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JDBC application consists of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 client: code implementing the applic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DBC API. Provides DB independent abstraction t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blish a connection with a databa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 SQL statemen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 the resul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4DF-B3AE-44E6-968C-D38FA21002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ieces Continued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DBC Driv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lates API calls to requests made against the specific databas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c driver for the specific databas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lled on the client. Usually a set of class files placed in the class path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large databases are now support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base client software (optional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ablishes communication between DB clients and the DB serv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ending on the DB Manufacturer, you may need to install database client software on the client machin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DBC Driver may already include this functional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A4A-03FD-4DC3-BB90-D9F2F74E97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ieces Continued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base serve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ctual database engin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acle, MSAccess, SQL Server, Postgresql etc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404-3531-4491-B6FD-DC743A065F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lternatives (ODBC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is ODB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rosofts version of JDBC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drivers exist for ODBC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n provides a JDBC-ODBC driver to allow Java applications connectivity to databases that are only ODBC enabl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DBC-9095-4543-B72C-E20A5D4B84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PI: Establish Connec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urier New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Courier New"/>
              </a:rPr>
              <a:t>Class.forName(...)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the driver class availabl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urier New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Courier New"/>
              </a:rPr>
              <a:t>String url = "jdbc:odbc:supplier-part"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the connect string. The connect string, mentions the driver as well as the database. For the example above, the driver i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dbc:odb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ridge driver. The database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plier-par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urier New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Courier New"/>
              </a:rPr>
              <a:t>Connection con=DriverManager.getConnection(url, uID, pw)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 a connection (session) with a specific database. Within the context of a Connection, SQL statements are executed and results are return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nnection can be used to obtain information about the DB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default a Connection automatically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omm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hanges after each statemen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ly, setting up a connection is an expennsive oper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5FF-CE5B-4DC5-A58D-4417160C60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2:10:20Z</dcterms:created>
  <dc:creator>arnold rosenbloom</dc:creator>
  <dc:description/>
  <dc:language>en-US</dc:language>
  <cp:lastModifiedBy>penny</cp:lastModifiedBy>
  <dcterms:modified xsi:type="dcterms:W3CDTF">2001-11-28T17:10:32Z</dcterms:modified>
  <cp:revision>27</cp:revision>
  <dc:subject/>
  <dc:title>CSC309 - 51 - JDBC</dc:title>
</cp:coreProperties>
</file>