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366-D310-4943-9340-8B5408E1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F7E-8C48-4395-873C-B5B00682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545-46B6-4A44-937A-6B0B695D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33E-D32F-4C15-9045-F1D182E5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76E-F0FD-4AFE-B1C4-98DE6D7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BC0-CBCB-4511-AC6A-F35FCF6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F88-3ACC-444D-B767-56BE7AA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82E-FEC0-46D0-B401-2CE8B1F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2D7-F068-47FC-93CF-F37D9311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2C8-5DBF-4901-82AC-9CA417F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6A6-DCD7-4ED9-BEED-1F207FA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B2F-C7AC-446F-82C9-3B5D17A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3814-0283-44FC-BD8D-4FA2D64C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127.0.0.1/cgi-bin/hello.p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127.0.0.1/cgi-bin/hello.p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127.0.0.1/cgi-bin/environment.pl?var1=val1&amp;var2=val2&amp;var3=val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127.0.0.1/cgi-bin/webPage.pl" TargetMode="External"/><Relationship Id="rId2" Type="http://schemas.openxmlformats.org/officeDocument/2006/relationships/hyperlink" Target="http://127.0.0.1/cgi-bin/getImage.pl" TargetMode="External"/><Relationship Id="rId3" Type="http://schemas.openxmlformats.org/officeDocument/2006/relationships/hyperlink" Target="http://127.0.0.1/cgi-bin/redirect.p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An Example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s causes the execution of the perl script hello.p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though our examples use Perl, CGI scripts can be written in any language Perl, C, C++, VB, Python, SmallTalk, Assembly, Lisp etc..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01F-18E6-450D-9A83-AB77397358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 (example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cript-uri = protocol "://" SERVER_NAME ":" SERVER_PORT enc-script enc-path-info "?" 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ttp://finance.yahoo.com/q?s=NT.TO&amp;d=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e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_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_PO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pecified (default to 80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-scrip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-path-inf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pecifi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=NT.TO&amp;d=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407-50D4-4405-B17F-2F58FD9690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 Input to the CGI Scrip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about a request comes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quest h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ciated message-bod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ers MUST make portions of this information available to scrip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EAB-47B5-48B8-AE38-1D301EC53A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quest Metadata (Metavariables)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AUTH_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_LENG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_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ATEWAY_INTERFA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TRANS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AD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H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I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QUEST_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C36-72E0-431D-87C5-0393EFDC7DC1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ault method for communicating query information to the scrip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y specify the URL as abo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't need a for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thing after the ? in the URL appears in the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vironment vari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ed amount of information can be passed this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 may have a length restriction on the ser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 variable may be restri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C51-3E9D-4731-B10E-EF88B3719A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ust do your own URL-Encoding (see below). URL-Encoding in this case is up to the web page designer and script writer. It is a good idea to conform to standards (see below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for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specify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g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data will be URL-Encoded (see below) by the browser before sent to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visible in the URL (at the browser) and appear in server logs (which are sometimes public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47D-1FFB-40BB-89CE-FBFF292549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OS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o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specify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data will be URL-Encoded (see below) by the browser before sent to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be used from UR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 data appears in the scripts stdin (standard in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still populate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ing the UR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bitrarily long form data can be communicated (some browsers may have limits (ie 7k)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 data is not visible in the URL, usually does not appear in server log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C4A-70FA-4185-931F-F3E5A83E43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URL-Encod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way to send many name/value pairs in a single string (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ed in RFC 2396 'Uniform Resource Identifiers (URI): Generic Syntax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encode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ent confusion between CGI URL and HTML ta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think of a CGI script as a function, send arguments by specifying name/value pai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s consist of many elements, usually want all available to the script so need a way to pack and unpack them into a single string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standard set of libraries to pack and unpack cgi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10B-F95D-41CF-8F9E-D319C57DA2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ules of URL-Enco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ubmitted form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concatenated into a single string of ampersand (&amp;) separated name=value pairs, one pair for each form tag. Like thi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form_tag_name_1=value_1&amp;form_tag_name_2=value_2&amp;..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pac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name or value are replaced by a plus (+) sign. This is because url's cannot have spaces in them and under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G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 form data is supplied in the query string in the ur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ther charact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e, =, &amp;, +) are replaced by a percent sign (%) followed by the two-digit hexadecimal equivalent of the punctuation character in the Ascii character se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wise, it would be hard to distinguish these characters inside a form variable from those between the form variables in the first rule abov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7B6-8021-46E6-9ACF-DDFE591BAA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llo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aking this one step at a ti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command prompt, telnet to 127.0.0.1, port 80 and issue the following HTTP Ge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get /cgi-bin/hello.pl http/1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executes the scrip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 transcript 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otice the http header that comes back to the client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B84-8AB1-4A33-917B-666E997577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vironmen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environment.pl?var1=val1&amp;var2=val2&amp;var3=val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aking this one step at a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net to 127.0.0.1, port 80 and issue the following HTTP G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 /cgi-bin/environment.pl?var1=val1&amp;var2=val2&amp;var3=val3 http/1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xecutes the scrip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environmen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ich prints its environment. The transcrip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tice where the query variables end up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47-895B-4DA4-9808-C9CE16C472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Model (Pieces)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lien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b browsers ie IE, Netscap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eb Server (WS)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ache, Netscape Enterprise, I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GI Protoco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pecifying what a request/responce looks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andler program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y executable residing on the web serv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948-087F-402C-BAFE-61866DBEB3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orm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form.htm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Not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the url-encoded form variables in the GET for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stdin in the POST for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the hidden variables in both form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49-6F4D-46FE-AA12-9D0857410C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tput from the CGI Scrip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output (stdout) is redirected to the webserver for relay to the client (browser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or may not include a head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Parsed Header Outpu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 not parsed by the web serv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sts of a complete http response messag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ed Header Output: Server creates a complete http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eader     &lt;-see 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&lt;-blank line separating header/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body       &lt;-message body (optionally nul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header consists of HTTP-fields (relayed to the client) as well as the additional CGI-Fields (interpreted by the server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607-A60A-4C57-AC77-C392E77392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rsed Header Outpu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de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E 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Locatio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y to the server that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ipt is returning a reference to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. Causes the webserver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 a redirect. A browser m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o load the specified p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 the status code in the serve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ce message extension-h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fields recognized by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B6E-1634-406B-9998-E0A0F9B96E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rsed Header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Content-type: text/ht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webPage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Content-type: image/jpe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getImage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ocation http://127.0.0.1/cgi-bin/redirec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redirec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is could have redirected to yahoo.com or any other URL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aking this one step at a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net to 127.0.0.1, port 80 and issue the following HTTP G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 /cgi-bin/redirect.pl 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crip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768-E64D-4E54-AAFC-C09930EDDF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makes a request by specifying a URL+additional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(in the URL) receives the requ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identifies the request as a CGI reque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locates the program corresponding to the requ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starts up the handling program (heavy weight process creation!!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feeds request parameters to handler (through stdin or environment variables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F22-AE16-4832-AB42-33F1E99BD5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ndler execu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put of the handler is sent via stdout back to the webserver for rerouting back to the requesting web brows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put is typically a web pa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ndler terminat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216-E86F-47F8-94D5-C7BC548F29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3C4-60DE-4165-8297-20DFD4B00F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gether the HTTP server and the CGI script are responsible for servicing a client request by sending back respons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lient request compri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niversal Resource Identifier (URI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quest metho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information about the request provided by the transport mechanis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193-E4F5-4F64-B426-6BA9AB2130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GI defines the abstract parameters, known as metavariables, which describe the client's request. Together with a concrete programmer interface this specifies a platform-independent interface between the script and the HTTP ser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1BB-DD9C-4BFD-B2E9-3963A78AD3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cript-URI has the syntax of generic-RL as defined in section 2.1 of RFC 18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&lt;scheme&gt;://&lt;host&gt;&lt;port&gt;/&lt;path&gt;?&lt;query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various components of the Script-URI are defined by some of the metavariables (see Metavariables below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1D1-2655-4B90-A652-0DCF35D133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 (more detail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-uri = protocol "://" SERVER_NAME ":" SERVER_PORT enc-script enc-path-info "?" 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'protocol' is obtained from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'enc-script' is a URL-encoded version of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'enc-path-info' is a URL-encoded version of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499-698B-4139-B24A-C810D5608B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0-30T15:41:55Z</dcterms:modified>
  <cp:revision>14</cp:revision>
  <dc:subject/>
  <dc:title>CSC309 - 40 - CGI</dc:title>
</cp:coreProperties>
</file>