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4BAF-3414-4FF4-96A7-A884CB53F1B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Core platform relies on an internal tree-like representation of the document, and enables you to traverse the hierarchy accordingly. The standard model of viewing a document is as a hierarchy of elements, with the computer building up an internal model of the document based on a kind of tree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OM Range and Traversal modules can be used on the Core platform for tree manipul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X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OM XML extends the Core platform for specific XML 1.0 needs such as processing instructions, CDATA, and ent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HTML DOM provides a set of convenient easy-to-use ways to manipulate HTML documents. The initial HTML DOM merely describes methods, for example, for accessing an identifier by name, or a particular link. The HTML DOM is sometimes referred to as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DOM Level 0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but has been imported into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DOM Level 1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is part includes XML-tree manipulation oriented events with the Mutation events and the Web user-oriented events with mouse events and HTM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C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OM CSS provides a set of convenient easy-to-use ways to manipulate CSS documents.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Vi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A document may have one or more "views" associated with it, e.g., a computed view on a document after applying a CSS stylesheet, or multiple presentations (e.g., HTML Frame) of the same document in a client. That is, a view is some alternate representation of, or a presentation of, and associated with, a source doc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404-C825-4C8D-A307-02DE2339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04C-0AC3-41B4-9550-5B434280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36A-68A2-40AD-9A31-6B95E4F5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822-2607-450F-9765-FFF3A7D1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7DF-C692-4137-B992-7203388C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997-03DD-4228-8161-2D661E80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30A-DE8B-4874-A93D-2191BF10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859-EB4C-44CC-BB2C-74F7B2B1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6FD9-11E6-4A0C-91FB-12D4555B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B8D-7BF6-483C-BE47-C58970F0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8A3-70E1-41D4-87FF-F3303DB2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234-59B4-4F84-B8A0-F1CF3673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C356-C67C-4A82-AFFF-B20EA1FCB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car.utoronto.ca/~rosselet/cscc09/c09/20JScore_files/fact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car.utoronto.ca/~rosselet/cscc09/c09/20JScore_files/alert.html" TargetMode="External"/><Relationship Id="rId2" Type="http://schemas.openxmlformats.org/officeDocument/2006/relationships/hyperlink" Target="http://www.scar.utoronto.ca/~rosselet/cscc09/c09/20JScore_files/onclick.html" TargetMode="External"/><Relationship Id="rId3" Type="http://schemas.openxmlformats.org/officeDocument/2006/relationships/hyperlink" Target="http://www.scar.utoronto.ca/~rosselet/cscc09/c09/20JScore_files/createwin.html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lient-Side Scripting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far, the browser has only passively displayed cont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lso possible to download a program to the browser, and have it execute on the client brows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ent-side scripting requires some mechanism for referring to the HTML document within which it is embedded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B5B-1289-4D9D-8543-BA18422439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ample Java Language Binding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ackage org.w3c.dom.html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ublic interface HTMLTitleEl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extends HTMLElement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ublic String getText(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ublic void setText(String text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2AF-8D78-43F8-868B-2471FE55BC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ample JavaScript Language Binding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mic Sans MS"/>
              </a:rPr>
              <a:t>Object HTMLTitleElemen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HTMLTitleElement has the all the properties and methods of the HTMLElement object as well as the properties and methods defined below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The HTMLTitleElement object has the following propertie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This property is of type </a:t>
            </a:r>
            <a:r>
              <a:rPr b="1" lang="en-CA" sz="2000" spc="-1" strike="noStrike">
                <a:solidFill>
                  <a:srgbClr val="000000"/>
                </a:solidFill>
                <a:latin typeface="Comic Sans MS"/>
              </a:rPr>
              <a:t>String</a:t>
            </a: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F1E-62EF-43C9-BEA6-BD4A0FD182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rivial Exampl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fact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34F-D631-4E4D-AC26-722C342BED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elationship to Java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scape originat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iveScrip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renamed to JavaScript at the last minu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eived competition with Sun Microsystems Java for client-side scrip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ement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not draw, multi-thread, network or do I/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not interact with Browser or control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75A-79DE-4EA3-AD69-044F61C839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 JavaScript Languag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typ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than Java or C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variable can hold any type of valu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(8-byte IEEE f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(first-class data typ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ray (elements can be of mixed typ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can hold values of different types at different times during exec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2B1-4E7D-4988-865A-F34A13CF4D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JavaScript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s HTML tags as ob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g attributes are represented as object proper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-commonly-referenced objects are defined as part of the D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B9E-AF45-4F09-841C-CC736A14AF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JavaScript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 decl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 i = 12, msg = “hello”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omit a variable declar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tically declared at global sco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block-level 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test() 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1 == 1 ) 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j = 12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cument.write(j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36C-87E2-44EC-9DBD-6FFA98292D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lock scop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scope = “globa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ction f(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ert(scope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scope = “local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ert(scope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(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Beware of references to variables that have not yet been assigned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 rot="2005200">
            <a:off x="3885480" y="2528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declaring up here and initializing dow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581280" y="2092320"/>
            <a:ext cx="274320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809880" y="3124080"/>
            <a:ext cx="45720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F04-CA0E-42FB-8892-808E294B4D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ecution Context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variables are properties of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 objects are used for global scope and “call scope” (lexical, not run-tim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have more than one “global” sco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two windows onto the same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still communicate using DOM objec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urity implications –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ata tain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execution context (source line) has a scope chain it uses for variable name re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C1F-00C0-42B3-8729-5F754B8C3A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755640" y="1143000"/>
            <a:ext cx="3745080" cy="4249800"/>
            <a:chOff x="755640" y="1143000"/>
            <a:chExt cx="3745080" cy="4249800"/>
          </a:xfrm>
        </p:grpSpPr>
        <p:sp>
          <p:nvSpPr>
            <p:cNvPr id="94" name=""/>
            <p:cNvSpPr/>
            <p:nvPr/>
          </p:nvSpPr>
          <p:spPr>
            <a:xfrm>
              <a:off x="755640" y="1143000"/>
              <a:ext cx="3745080" cy="424980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44720" y="1719360"/>
              <a:ext cx="3240000" cy="3024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03280" y="2583000"/>
              <a:ext cx="2737080" cy="1368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cope Chai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39840" y="1299960"/>
            <a:ext cx="313704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x=1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ction f(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y = 2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ction g(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z = 3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484280"/>
            <a:ext cx="100800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2565360"/>
            <a:ext cx="100800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3645000"/>
            <a:ext cx="100800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3645000"/>
            <a:ext cx="1223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79600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96000" y="198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5960" y="148428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4880" y="2565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bject of scope f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5240" y="36450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bject of scope 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BBE-2EA1-4F69-ABB1-99A9FEA55D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ocument Object Model (DOM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3C Stand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In the pre-standardized world, NN &amp; IE had different DOM’s (and thus API’s), so e.g. different Javascript implementations might be required for  dynamic pages might be different for the 2 brows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The Document Object Model is a platform- and language-neutral interface (API) that allows programs and scripts to dynamically access and update the content, structure and style (essentially all attributes) of documents (both HTML and XML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F93-4AC9-4D11-AB8C-571665EE0A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mplications of Lexical Scoping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tion makefunc(x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unction() { return x; 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= [makefunc(0), makefunc(1), makefunc(2)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ert(a[0]()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displays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ert(a[1]()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displays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ert(a[2]()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displays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function reference is actually a reference to a “Closure” that has 2 properti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0].__proto__: the function reference itsel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0].__parent__: the scope obj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3DF-B3D7-4806-BA31-3AFF23CD999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micol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 newline terminates a statement, then a semicolon is inserted for you automatical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= 3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= 3; b =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4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shudder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1EE-D8D5-4408-BC09-ADED0F380FF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Literal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 number, string, boolean liter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ction literals (“lambda” function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 square = function(x) { return x*x; 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 liter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 point = { x:2, y:4 }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ray liter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 a = [1,“foo”,,true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ular expression liter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 a = /[1-9][0-9]*/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s object of type RegEx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7FF-EB71-4010-959D-6A7F2CBCB5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bject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002960"/>
            <a:ext cx="80010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anguage has no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las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s are most like associative arr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 point = new Object(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.x = 2;  // equivalent to point[“x”] 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[“y”] = 3;  // equivalent to point.y 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ert(point.x); alert(point.y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var i in obj) document.write(i + “\n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However, note a Javascript Object‘s definition is determined at </a:t>
            </a:r>
            <a:r>
              <a:rPr b="0" i="1" lang="en-CA" sz="2800" spc="-1" strike="noStrike">
                <a:solidFill>
                  <a:srgbClr val="000000"/>
                </a:solidFill>
                <a:latin typeface="Comic Sans MS"/>
              </a:rPr>
              <a:t>run time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. Unlike C++ or Java, it is possible to dynamically add new properties or methods and to change the binding of methods at run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F1C-4082-4019-81CC-316F2039F5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bject Constructo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028520"/>
            <a:ext cx="79246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ction Rectangle_area(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his.width * this.heigth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* “this” is a keyword used within a method to refer to the current object */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ction Rectangle(w,h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width = w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height = h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area = Rectangle_area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rec = new Rectangle(2,4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cument.write(rec.area()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07F-AEAD-4F7D-88DD-9DF3C7A859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ototype Inheritance Hack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ction Circle(x,y,r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x = x; this.y = y; this.r = r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.prototype.pi = 3.1415926534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.prototype.area = function(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his.pi * this.r * this.r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look up the property in the prototype object if it’s not defined in the object itself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 will create a local copy if property is defined in the prototype object; useful for creating instances that differ from the stand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672-14A4-465C-8643-18F11D209C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efault Method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u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s to the constructor function used to create an objec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tion Circle(x,y,r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x = x; this.y = y; this.r = r;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String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matically called for conversions to st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Value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matically called for conversions to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AB4-A171-4754-863B-83FCF7002E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rray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81532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a = new Array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empty arr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b = new Array(“dog”, 3, 8.4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c = new Array(10); // array of size 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d = [2, 5, ‘a’, ‘b’]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[15] = “hello”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implicit exten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F4E-5C0F-49D1-AAFE-A9BBE0886B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rray Properties and method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erse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rt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at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ice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lice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sh() / pop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ift() / unshift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String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36A-6E9F-49CF-8A33-93B3AAB81C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egular Expressi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 p1 = new RegExp(“s$”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 p2 = /s$/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atible with Perl regular expression synta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d in certain basic String metho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arch(), replace(), math(), split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87B-A2BE-4320-A192-E995A49D472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nsdom" descr=""/>
          <p:cNvPicPr/>
          <p:nvPr/>
        </p:nvPicPr>
        <p:blipFill>
          <a:blip r:embed="rId1"/>
          <a:stretch/>
        </p:blipFill>
        <p:spPr>
          <a:xfrm>
            <a:off x="1554120" y="990720"/>
            <a:ext cx="6035760" cy="507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76320"/>
            <a:ext cx="77724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etscape 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025-A2C3-42FA-AA01-DD1375B8511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vent-Driven Executio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Script programs are typically event-drive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cution is triggered by variou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v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t occur on the Web page, usually as a result of something the user does, e.g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nClick, OnDblClick, onKeyDown, onLoad, onMouseOver, onSubmit, onResize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ts are associated with the various objects that make up a Web page, for example, an onClick event might be associated with clicking a radio button element on a fo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F0A-31B5-4C5C-801F-1534ACFFFD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88560"/>
            <a:ext cx="8382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ssociating Events with Element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812520"/>
            <a:ext cx="83822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ts can be specifie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as the values of attributes of HTML ele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, a hyperlink is subject to a MouseOver event, meaning that its event handler will be triggered when the mouse passes over the link. Therefore, you place the event handler for a hyperlink's MouseOver inside the A ta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4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4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a href=“…" onMouseOver="popupFunc();"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ilarly, a form selection is subject to an onClick eve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4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form name=“order”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4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input type=“radio” name=“size” onClick=“sizeSelection()”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4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342-8689-4C5E-9CCF-86A67AA4540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ssociating Events with Element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57120"/>
            <a:ext cx="83822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nts can be specifie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properties associated with events on objects representing HTML element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document.order.elements[0].onclick=sizeSel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86A-CD21-4FB1-9CC9-6E8FB585ED2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vent Exampl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aler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built-in alert meth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onclic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parate Javascript fun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createw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create &amp; output to a new wind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D56-3DE7-4A9E-A6A8-C893A4EF65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vent Applicati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 input check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s unnecessary transmission and server-side processing in case of err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loads processing task to typically lightly loaded client, rather than heavily loaded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better performance for u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ical error-handling events: alert, focus, se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ular expression type often useful for checking field synta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074-E1DB-4624-A1A5-D160F8401F7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OM cont’d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mic Sans MS"/>
              </a:rPr>
              <a:t>A document can be further processed and the results of that processing can be incorporated back into (or even replace) the presented pag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 document.images[3].src = “img/button3.gif“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mic Sans MS"/>
              </a:rPr>
              <a:t>DOM also provides a standard way for developers to acquire information (possibly from multiple sources) and integrate disparate applications, for example, to tie together incompatible database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AF2-42BD-48C6-8D4C-96275503D6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OM Level 2 (Nov., 2000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7" name="" descr="DOM Level 2 Architecture"/>
          <p:cNvPicPr/>
          <p:nvPr/>
        </p:nvPicPr>
        <p:blipFill>
          <a:blip r:embed="rId1"/>
          <a:stretch/>
        </p:blipFill>
        <p:spPr>
          <a:xfrm>
            <a:off x="755640" y="1125360"/>
            <a:ext cx="7775640" cy="516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A17-F241-419F-BD54-E24200E6BA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OM Representation of HTML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956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A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B&gt;text1&lt;/B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C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D&gt;child of C&lt;/D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E&gt;another child of C&lt;/E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/C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F&gt;moreText&lt;/F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dom2" descr=""/>
          <p:cNvPicPr/>
          <p:nvPr/>
        </p:nvPicPr>
        <p:blipFill>
          <a:blip r:embed="rId1"/>
          <a:stretch/>
        </p:blipFill>
        <p:spPr>
          <a:xfrm>
            <a:off x="5222880" y="1066680"/>
            <a:ext cx="346392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57800" y="4572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5257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t representation: a b c d e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FEC-9AE9-4A81-B1B1-6CDC4B2D27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OM Representation of HTML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 object properti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childNodes[0] =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childNodes[2] = 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firstChild =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childNodes.length =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parentNode =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nextSibling = 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.nextSibling = nu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childNodes[1].firstChild =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parentNode.parentNode =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ElementById(“id")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dom2" descr=""/>
          <p:cNvPicPr/>
          <p:nvPr/>
        </p:nvPicPr>
        <p:blipFill>
          <a:blip r:embed="rId1"/>
          <a:stretch/>
        </p:blipFill>
        <p:spPr>
          <a:xfrm>
            <a:off x="3429000" y="1328760"/>
            <a:ext cx="3352680" cy="3319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19720" y="4343400"/>
            <a:ext cx="47242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3505320"/>
            <a:ext cx="221004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if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ertBefor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Child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veChild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endChild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neNod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C9D-C5ED-4666-9A2F-5AFB447B6C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ow the DOM is Defined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OM is defined using IDL (Interface Definition Languag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L was originally defined for use in CORB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RMI and Microsoft DCOM can also use ID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L is then mapped i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CMAScript (JavaScript to the rest of u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602-3921-406B-891C-02D348A75C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 IDL Definitio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interface HTMLTitleElement: HTMLElement { attribute DOMString tex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E87-45B4-45BC-97EB-5EBCA04B24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14:52:32Z</dcterms:created>
  <dc:creator>David Penny</dc:creator>
  <dc:description/>
  <dc:language>en-US</dc:language>
  <cp:lastModifiedBy>Computing Centre</cp:lastModifiedBy>
  <dcterms:modified xsi:type="dcterms:W3CDTF">2001-10-03T16:53:49Z</dcterms:modified>
  <cp:revision>23</cp:revision>
  <dc:subject/>
  <dc:title>Client-Side Scripting</dc:title>
</cp:coreProperties>
</file>