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468-F75F-4865-AC47-17A2A7A5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278-0A5A-4AA3-BE48-F800D568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D70-F8E0-4D0A-A4BC-860C25C7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054-FE16-418E-9F81-4DA4BA01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7B1-AC22-402A-9263-216CBFB8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64A-87AF-43AC-A7EB-5584EDD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852-254C-4EA1-AD55-BAA2F19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1AA-AAAB-4DE0-879D-9E60DE58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B0B-840E-4D16-A5A1-0DE96383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5C8-0474-4D94-9866-8A44538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47D-89B6-46A4-B3CC-51AB219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BC4-3396-4D0E-AFBF-0D912C38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AB73-76D5-4EA3-93B6-90B8BF984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resum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sume.x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Consortiu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SGM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Standardized General Markup Langu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TML is an instance of an SGML language specifically intended to markup general types o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GML applications intended to be mor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recipe markup, resume mar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w XHTML = an XM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1F4-A3EA-4FDF-9112-71E488C9B1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yntax of XHTML 1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orming to XML syntax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3C XML 1.0, Octo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d 1 of 3 XHTML 1.0 DTD (Document Type Defin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3C XHTML 1.0 Jan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ayout-tag and frame-free.  Use with CSS for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atible with 4.01 no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.,g., &lt;body bgcolor="re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ram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ransitional +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769-6A1B-41DC-99B2-E8C2F27C58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trict X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2697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xml version="1.0"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encoding="iso-8859-1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DOCTYPE html PUBLIC "-//W3C//DTD XHTML 1.0 Frameset//EN" "DTD/xhtml1-frameset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 xmlns="http://www.w3.org/1999/xhtml" xml:lang="en" lang="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eta http-equiv="Content Typ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="text/html; charset=iso-8859-1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itle&gt;A Document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A paragraph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244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214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896-AF99-4603-ABAA-787BA7003B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ntent no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3840" y="1104480"/>
            <a:ext cx="857232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iginally, HTML, as inspired by SGML, was intended to markup content, not specify formatt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um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job of the Web browser is to render the marked-up content into human-readabl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addition, SGML always assumed the presence of tools to create the SGML as well as display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me with HTML: but, many prefer straight text editing because of tool lim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2D0-5EF6-459C-893E-81266CA572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Unfortunately, SGML, though complex, was correct in its assumption that different types of documents needed different markup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.g., Resumes, cookbooks, Shakespearean play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ume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3F2-C416-41B7-94A1-0652359318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mat not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TML quickly 'degenerated' into a markup language for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mething for which it was not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phic designers starting to work on the Web were horrified at the lack of expres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d ha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"pouring" of text into tables for precise paragraph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using 1-pixel transparent images for precise spacing and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2 warring factions ('html purists' and design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igners w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6EE-9A45-4777-995B-7290854667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 Temporary Tru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SS (cascading Style She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ows graphic designers much better control over forma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parate file for detailed formatting instructions from the HTML mark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igners were hap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control over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rists were hap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moves the requirement for further formatting tags from HTML proper (a battle purists were headed towards defeat on any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BD0-AF72-4010-8999-8CC25B831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: Th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1360" y="118080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alizing that they were going to lose anyways, purists abandoned HTML and CSS to the graphics designer c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nted XML (eXtensible Markup Language) which is a complete return to SGML (a bit simp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Very useful for inter-application communications as well, as we shall 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nted XSL (eXtensible Stylesheet Language) for formatting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particular, XHTML (= strictly formatted 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oal of XS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be able to specify how browsers should display X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be able to specify how XHTML should publ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3A1-C608-4721-91A0-02FB27643F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HTM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6560" y="1015560"/>
            <a:ext cx="77724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, first version (Berners-Lee) '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 SGML(ISO8879)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2.0 (Berners-Lee, Dan Conno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oduced by IETF (Internet Engineering Task Force), HTML Working group, RFC 1866 (Request for Com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3.2 (Dave Raggett) '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ables, applets, text-flow around imag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4.0 (Raggett et. al.) '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HTML 4.01, Dec 24, '99 (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leanup for use with XHTML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1.0 Jan. 2000 (s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ased on XML rather than SG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ferences HTML 4.01 for semantics of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ferences XML 1.0 for language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rovides XML DTDs for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406760"/>
            <a:ext cx="52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079960"/>
            <a:ext cx="52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63B-6F68-4188-9F47-8658DE3CDB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volving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igned to address client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Modularization, Apr., 2001 (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vidually delimits and defines modules in XHTML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escribes how to add new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Basic, Dec., 2000 (s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nimal set of modules (e.g., for cellph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tructure, text, hypertext, list, basic forms, basic tables, image, object, meta-info, link,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1.1 Mar. 2001 (s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formulation of XHTML 1.0 Strict based on modu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modules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ram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EC6-4FD6-4580-BED9-37866A2C4C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How W3C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ld Wide Web Consort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reated in October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ing common protocols for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, gov't, standards bodi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ull-time employees, paid for by th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ing out of MIT, INRIA, and Ke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EC4-97C8-487D-A069-43147951E3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24T15:54:02Z</dcterms:modified>
  <cp:revision>38</cp:revision>
  <dc:subject/>
  <dc:title>CSC309 - 10 - HTML intro</dc:title>
</cp:coreProperties>
</file>