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40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4320" y="69516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0740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C9758427-9F43-4032-9F7D-084D75E0B49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Just show them to get an idea of what they d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Back for more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2AAB-3A04-4746-9A97-B8729CBA7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817800"/>
            <a:ext cx="77724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A011-0B4D-4BDF-9E09-BA55C4C1B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37926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57120"/>
            <a:ext cx="37926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817800"/>
            <a:ext cx="37926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817800"/>
            <a:ext cx="37926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EA25-4FF7-4CD0-8548-339B61149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25023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57120"/>
            <a:ext cx="25023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57120"/>
            <a:ext cx="25023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817800"/>
            <a:ext cx="25023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817800"/>
            <a:ext cx="25023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817800"/>
            <a:ext cx="25023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B677-953D-4C4B-9EF3-A01166CD5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3F04-71F4-487F-AE98-6D31FA321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004B-F7D2-465F-B501-71B3AAC86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37926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57120"/>
            <a:ext cx="37926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F214-8FDC-402E-A268-829C2B441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7F02-C1F9-4490-B98C-EE94E58D2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54160"/>
            <a:ext cx="77724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8946-4B41-4CCB-A2D1-5E569F73E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37926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57120"/>
            <a:ext cx="37926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817800"/>
            <a:ext cx="37926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7D8B-9988-4F62-93C6-22CB60C8B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37926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57120"/>
            <a:ext cx="37926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817800"/>
            <a:ext cx="37926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FD3D-19CA-41BC-AD0B-A2A5ED0EA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37926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57120"/>
            <a:ext cx="37926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817800"/>
            <a:ext cx="77724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D982-CA2A-4F4D-A0B8-DFFB6A04F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6CD82-DCBE-4D0F-9039-661F872BD4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w3.org/TR/REC-xml" TargetMode="External"/><Relationship Id="rId2" Type="http://schemas.openxmlformats.org/officeDocument/2006/relationships/hyperlink" Target="http://www.xml.com/axml/axml.html" TargetMode="External"/><Relationship Id="rId3" Type="http://schemas.openxmlformats.org/officeDocument/2006/relationships/hyperlink" Target="http://www.xml.com/axml/axml.html" TargetMode="External"/><Relationship Id="rId4" Type="http://schemas.openxmlformats.org/officeDocument/2006/relationships/hyperlink" Target="http://www.xml.com/axml/axml.html" TargetMode="External"/><Relationship Id="rId5" Type="http://schemas.openxmlformats.org/officeDocument/2006/relationships/hyperlink" Target="http://www.xml.com/axml/axml.html" TargetMode="External"/><Relationship Id="rId6" Type="http://schemas.openxmlformats.org/officeDocument/2006/relationships/hyperlink" Target="http://www.xml.com/axml/axml.html" TargetMode="External"/><Relationship Id="rId7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entitydtd.xml" TargetMode="External"/><Relationship Id="rId2" Type="http://schemas.openxmlformats.org/officeDocument/2006/relationships/hyperlink" Target="file:///entitydtd.xml" TargetMode="External"/><Relationship Id="rId3" Type="http://schemas.openxmlformats.org/officeDocument/2006/relationships/hyperlink" Target="file:///entitydtddtd.html" TargetMode="External"/><Relationship Id="rId4" Type="http://schemas.openxmlformats.org/officeDocument/2006/relationships/hyperlink" Target="file:///entitydtddtd.html" TargetMode="External"/><Relationship Id="rId5" Type="http://schemas.openxmlformats.org/officeDocument/2006/relationships/hyperlink" Target="file:///entitydtddtd.html" TargetMode="External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resumenoxsl.xml" TargetMode="External"/><Relationship Id="rId2" Type="http://schemas.openxmlformats.org/officeDocument/2006/relationships/hyperlink" Target="file:///resume.xml" TargetMode="External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file:///resume.xml" TargetMode="External"/><Relationship Id="rId2" Type="http://schemas.openxmlformats.org/officeDocument/2006/relationships/hyperlink" Target="file:///resumexsl.html" TargetMode="External"/><Relationship Id="rId3" Type="http://schemas.openxmlformats.org/officeDocument/2006/relationships/hyperlink" Target="file:///resumexsl.html" TargetMode="External"/><Relationship Id="rId4" Type="http://schemas.openxmlformats.org/officeDocument/2006/relationships/hyperlink" Target="file:///resumecss.xml" TargetMode="External"/><Relationship Id="rId5" Type="http://schemas.openxmlformats.org/officeDocument/2006/relationships/hyperlink" Target="file:///resumecss.html" TargetMode="External"/><Relationship Id="rId6" Type="http://schemas.openxmlformats.org/officeDocument/2006/relationships/hyperlink" Target="file:///resumecss.html" TargetMode="External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resumenoxsl.xml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resumedtd.xml" TargetMode="External"/><Relationship Id="rId2" Type="http://schemas.openxmlformats.org/officeDocument/2006/relationships/hyperlink" Target="file:///resumedtd.xml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XM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Definitive specification 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1"/>
              </a:rPr>
              <a:t>http://www.w3.org/TR/REC-x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00ff"/>
                </a:solidFill>
                <a:uFillTx/>
                <a:latin typeface="Times New Roman"/>
                <a:hlinkClick r:id="rId2"/>
              </a:rPr>
              <a:t>http://www.xml.com/</a:t>
            </a:r>
            <a:r>
              <a:rPr b="0" lang="en-CA" sz="2400" spc="-1" strike="noStrike" u="sng">
                <a:solidFill>
                  <a:srgbClr val="0000ff"/>
                </a:solidFill>
                <a:uFillTx/>
                <a:latin typeface="Times New Roman"/>
                <a:hlinkClick r:id="rId3"/>
              </a:rPr>
              <a:t>axml</a:t>
            </a:r>
            <a:r>
              <a:rPr b="0" lang="en-CA" sz="2400" spc="-1" strike="noStrike" u="sng">
                <a:solidFill>
                  <a:srgbClr val="0000ff"/>
                </a:solidFill>
                <a:uFillTx/>
                <a:latin typeface="Times New Roman"/>
                <a:hlinkClick r:id="rId4"/>
              </a:rPr>
              <a:t>/</a:t>
            </a:r>
            <a:r>
              <a:rPr b="0" lang="en-CA" sz="2400" spc="-1" strike="noStrike" u="sng">
                <a:solidFill>
                  <a:srgbClr val="0000ff"/>
                </a:solidFill>
                <a:uFillTx/>
                <a:latin typeface="Times New Roman"/>
                <a:hlinkClick r:id="rId5"/>
              </a:rPr>
              <a:t>axml</a:t>
            </a:r>
            <a:r>
              <a:rPr b="0" lang="en-CA" sz="2400" spc="-1" strike="noStrike" u="sng">
                <a:solidFill>
                  <a:srgbClr val="0000ff"/>
                </a:solidFill>
                <a:uFillTx/>
                <a:latin typeface="Times New Roman"/>
                <a:hlinkClick r:id="rId6"/>
              </a:rPr>
              <a:t>.html</a:t>
            </a:r>
            <a:r>
              <a:rPr b="0" lang="en-CA" sz="2400" spc="-1" strike="noStrike">
                <a:solidFill>
                  <a:srgbClr val="3366ff"/>
                </a:solidFill>
                <a:latin typeface="Times New Roman"/>
              </a:rPr>
              <a:t> (annota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xtensible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 subset of SG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enable generic SGML to be served, received and processed on the Web as for 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Designed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ease of implem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interoperability with SGML and 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7D54-94D7-4A50-9FB0-2FB0DF19C845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 -XM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Mix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ixed: ( #PCDATA [ '|' name]* )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(#PCDAT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e.g.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3333cc"/>
                </a:solidFill>
                <a:latin typeface="Arial"/>
              </a:rPr>
              <a:t>&lt;!ELEMENT a (#PCDATA)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illeg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&lt;a&gt;&lt;b/&gt;&lt;/a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leg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&lt;a&gt;hello world&lt;/a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&lt;a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&lt;a&gt;  &lt;/a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3333cc"/>
                </a:solidFill>
                <a:latin typeface="Arial"/>
              </a:rPr>
              <a:t>&lt;!ELEMENT a (#PCDATA|a)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leg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&lt;a&gt; text &lt;a&gt;more&lt;/a&gt; &lt;/a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C91B-9823-41DD-8EA9-D760C8BE821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 -XM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Attribute-List Declar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Used to associate name-value pairs with el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ttribute specifications may appear only within start-tags and empty-element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&lt;!ATTLIST tag-name att-def*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tt-def: att-name att-type att-defa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tt-default: #REQUIRED | #IMPLIED | [#FIXED] "value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tt-type: CDATA | builtin | ( token ['|' token]*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builtin: ID | ENTITY | NMTOKEN |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8E2A-6327-465F-81D5-F25E182AD98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 -XM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Attribute Exam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3333cc"/>
                </a:solidFill>
                <a:latin typeface="Arial"/>
              </a:rPr>
              <a:t>&lt;!ATTLIST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CA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CA" sz="2000" spc="-1" strike="noStrike">
                <a:solidFill>
                  <a:srgbClr val="3333cc"/>
                </a:solidFill>
                <a:latin typeface="Arial"/>
              </a:rPr>
              <a:t>id </a:t>
            </a:r>
            <a:r>
              <a:rPr b="0" lang="en-CA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CA" sz="2000" spc="-1" strike="noStrike">
                <a:solidFill>
                  <a:srgbClr val="3333cc"/>
                </a:solidFill>
                <a:latin typeface="Arial"/>
              </a:rPr>
              <a:t>ID </a:t>
            </a:r>
            <a:r>
              <a:rPr b="0" lang="en-CA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CA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CA" sz="2000" spc="-1" strike="noStrike">
                <a:solidFill>
                  <a:srgbClr val="3333cc"/>
                </a:solidFill>
                <a:latin typeface="Arial"/>
              </a:rPr>
              <a:t>#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CA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CA" sz="2000" spc="-1" strike="noStrike">
                <a:solidFill>
                  <a:srgbClr val="3333cc"/>
                </a:solidFill>
                <a:latin typeface="Arial"/>
              </a:rPr>
              <a:t>name</a:t>
            </a:r>
            <a:r>
              <a:rPr b="0" lang="en-CA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CA" sz="2000" spc="-1" strike="noStrike">
                <a:solidFill>
                  <a:srgbClr val="3333cc"/>
                </a:solidFill>
                <a:latin typeface="Arial"/>
              </a:rPr>
              <a:t>CDATA</a:t>
            </a:r>
            <a:r>
              <a:rPr b="0" lang="en-CA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CA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CA" sz="2000" spc="-1" strike="noStrike">
                <a:solidFill>
                  <a:srgbClr val="3333cc"/>
                </a:solidFill>
                <a:latin typeface="Arial"/>
              </a:rPr>
              <a:t>#IMPLI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CA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CA" sz="2000" spc="-1" strike="noStrike">
                <a:solidFill>
                  <a:srgbClr val="3333cc"/>
                </a:solidFill>
                <a:latin typeface="Arial"/>
              </a:rPr>
              <a:t>type</a:t>
            </a:r>
            <a:r>
              <a:rPr b="0" lang="en-CA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CA" sz="2000" spc="-1" strike="noStrike">
                <a:solidFill>
                  <a:srgbClr val="3333cc"/>
                </a:solidFill>
                <a:latin typeface="Arial"/>
              </a:rPr>
              <a:t>(A|B|C) </a:t>
            </a:r>
            <a:r>
              <a:rPr b="0" lang="en-CA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CA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CA" sz="2000" spc="-1" strike="noStrike">
                <a:solidFill>
                  <a:srgbClr val="3333cc"/>
                </a:solidFill>
                <a:latin typeface="Arial"/>
              </a:rPr>
              <a:t>"C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CA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CA" sz="2000" spc="-1" strike="noStrike">
                <a:solidFill>
                  <a:srgbClr val="3333cc"/>
                </a:solidFill>
                <a:latin typeface="Arial"/>
              </a:rPr>
              <a:t>kind</a:t>
            </a:r>
            <a:r>
              <a:rPr b="0" lang="en-CA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CA" sz="2000" spc="-1" strike="noStrike">
                <a:solidFill>
                  <a:srgbClr val="3333cc"/>
                </a:solidFill>
                <a:latin typeface="Arial"/>
              </a:rPr>
              <a:t>(ka|kb)</a:t>
            </a:r>
            <a:r>
              <a:rPr b="0" lang="en-CA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CA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CA" sz="2000" spc="-1" strike="noStrike">
                <a:solidFill>
                  <a:srgbClr val="3333cc"/>
                </a:solidFill>
                <a:latin typeface="Arial"/>
              </a:rPr>
              <a:t>#FIXED "ka"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leg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a id="mya" name="david" type="A" kind="ka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a id="mya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illeg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a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a id="mya"   type="c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a id="mya"  kind="kb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088A-4895-4FD2-8326-8C63D550105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 -XM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Entity Decla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06080" y="1257120"/>
            <a:ext cx="831852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&lt;!ENTITY [%] name entity-value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3333cc"/>
                </a:solidFill>
                <a:latin typeface="Arial"/>
              </a:rPr>
              <a:t>&lt;!ENTITY threeOverFour "&amp;#190;"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3333cc"/>
                </a:solidFill>
                <a:latin typeface="Arial"/>
              </a:rPr>
              <a:t>&lt;!ENTITY % versionnumber "4.3.2.1"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3333cc"/>
                </a:solidFill>
                <a:latin typeface="Arial"/>
              </a:rPr>
              <a:t>&lt;!ENTITY version "Version %versionnumber;"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&lt;a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&amp;version; and &amp;threeOverFour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&lt;/a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entitydtd</a:t>
            </a:r>
            <a:r>
              <a:rPr b="0" lang="en-CA" sz="2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.xml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 using </a:t>
            </a:r>
            <a:r>
              <a:rPr b="0" lang="en-CA" sz="28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entitydtd</a:t>
            </a:r>
            <a:r>
              <a:rPr b="0" lang="en-CA" sz="28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.</a:t>
            </a:r>
            <a:r>
              <a:rPr b="0" lang="en-CA" sz="28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dt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188A-10C3-4185-ABD7-79A5F4DA4AE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 -XM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External Entit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19040" y="1257120"/>
            <a:ext cx="836928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arsed external ent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ourier New"/>
              </a:rPr>
              <a:t>&lt;!ENTITY toinclude SYSTEM "file.xml"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ourier New"/>
              </a:rPr>
              <a:t>&amp;toinclud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Unparsed external ent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3333cc"/>
                </a:solidFill>
                <a:latin typeface="Courier New"/>
              </a:rPr>
              <a:t>&lt;!NOTATION jpeg SYSTEM "Joint Photographic Experts Group"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3333cc"/>
                </a:solidFill>
                <a:latin typeface="Courier New"/>
              </a:rPr>
              <a:t>&lt;!ENTITY dogpic SYSTEM "dog.jpeg" NDATA jpeg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3333cc"/>
                </a:solidFill>
                <a:latin typeface="Courier New"/>
              </a:rPr>
              <a:t>&lt;!ELEMENT dog EMPTY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3333cc"/>
                </a:solidFill>
                <a:latin typeface="Courier New"/>
              </a:rPr>
              <a:t>&lt;!ATTLIST dog picture ENTITY #REQUIRED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3333cc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3333cc"/>
                </a:solidFill>
                <a:latin typeface="Courier New"/>
              </a:rPr>
              <a:t>&lt;dog picture="dogpic"/&gt; </a:t>
            </a:r>
            <a:r>
              <a:rPr b="1" lang="en-CA" sz="20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i="1" lang="en-CA" sz="2000" spc="-1" strike="noStrike">
                <a:solidFill>
                  <a:srgbClr val="3333cc"/>
                </a:solidFill>
                <a:latin typeface="Times New Roman"/>
              </a:rPr>
              <a:t>&lt;!--can ONLY appear here--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3333cc"/>
                </a:solidFill>
                <a:latin typeface="Courier New"/>
              </a:rPr>
              <a:t>&amp;dogpic; </a:t>
            </a:r>
            <a:r>
              <a:rPr b="1" lang="en-CA" sz="20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CA" sz="20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CA" sz="20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i="1" lang="en-CA" sz="2000" spc="-1" strike="noStrike">
                <a:solidFill>
                  <a:srgbClr val="3333cc"/>
                </a:solidFill>
                <a:latin typeface="Times New Roman"/>
              </a:rPr>
              <a:t>&lt;!--forbidden--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E80A-F5AD-4385-B63E-462379E082F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 -XM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Entity Replacement Tex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Literal entity val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quoted string actually present in the entity declar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eplacement tex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literal entity value after replacement of character references and parameter-entity values (but not general entity referenc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llows for mix and match of DTDs by document constru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2275-4EDA-4BF7-A121-120B85982A0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 -XM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Pre-defined Entiti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3333cc"/>
                </a:solidFill>
                <a:latin typeface="Courier New"/>
              </a:rPr>
              <a:t>&lt;!ENTITY lt    "&amp;#38;#60;"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3333cc"/>
                </a:solidFill>
                <a:latin typeface="Courier New"/>
              </a:rPr>
              <a:t>&lt;!ENTITY gt    "&amp;#62;"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3333cc"/>
                </a:solidFill>
                <a:latin typeface="Courier New"/>
              </a:rPr>
              <a:t>&lt;!ENTITY amp   "&amp;#38;#38;"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3333cc"/>
                </a:solidFill>
                <a:latin typeface="Courier New"/>
              </a:rPr>
              <a:t>&lt;!ENTITY apos  "&amp;#39;"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3333cc"/>
                </a:solidFill>
                <a:latin typeface="Courier New"/>
              </a:rPr>
              <a:t>&lt;!ENTITY quot  "&amp;#34;"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when the XML processor parses the </a:t>
            </a:r>
            <a:r>
              <a:rPr b="0" i="1" lang="en-CA" sz="2000" spc="-1" strike="noStrike">
                <a:solidFill>
                  <a:srgbClr val="000000"/>
                </a:solidFill>
                <a:latin typeface="Times New Roman"/>
              </a:rPr>
              <a:t>entity declaration</a:t>
            </a: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 for </a:t>
            </a:r>
            <a:r>
              <a:rPr b="0" lang="en-CA" sz="1800" spc="-1" strike="noStrike">
                <a:solidFill>
                  <a:srgbClr val="000000"/>
                </a:solidFill>
                <a:latin typeface="Courier New"/>
              </a:rPr>
              <a:t>lt</a:t>
            </a: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 it stores </a:t>
            </a:r>
            <a:r>
              <a:rPr b="0" lang="en-CA" sz="1800" spc="-1" strike="noStrike">
                <a:solidFill>
                  <a:srgbClr val="000000"/>
                </a:solidFill>
                <a:latin typeface="Courier New"/>
              </a:rPr>
              <a:t>&amp;#60;</a:t>
            </a: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 as its valu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when </a:t>
            </a:r>
            <a:r>
              <a:rPr b="0" lang="en-CA" sz="1800" spc="-1" strike="noStrike">
                <a:solidFill>
                  <a:srgbClr val="000000"/>
                </a:solidFill>
                <a:latin typeface="Courier New"/>
              </a:rPr>
              <a:t>&amp;lt;</a:t>
            </a: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 is used in the document, it therefore expands to </a:t>
            </a:r>
            <a:r>
              <a:rPr b="0" lang="en-CA" sz="1800" spc="-1" strike="noStrike">
                <a:solidFill>
                  <a:srgbClr val="000000"/>
                </a:solidFill>
                <a:latin typeface="Courier New"/>
              </a:rPr>
              <a:t>&amp;#60; </a:t>
            </a: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(the five bytes)</a:t>
            </a:r>
            <a:r>
              <a:rPr b="0" lang="en-CA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and not to </a:t>
            </a:r>
            <a:r>
              <a:rPr b="0" lang="en-CA" sz="20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 (the one byte) which would start a start ta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not necessary for the &gt; and qu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All XML processors must recognize these entities whether they are declared or no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If they are declared, they must be declared as abov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All Unicode numeric entities are recognized by defau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1FCF-B037-4065-A257-551A37683D43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 -XM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'&lt;?' Processing Instruc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n XML, tags starting with &lt;? are knows as "PI's": processing instruc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hese are passed through without handl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&lt;?xml …&gt; are special, reserved processing instruc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he first thing in any XML document is the XML declaration which states the XML standard being us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urier New"/>
              </a:rPr>
              <a:t>&lt;?xml version="1.0"</a:t>
            </a:r>
            <a:r>
              <a:rPr b="0" lang="en-CA" sz="2400" spc="-1" strike="noStrike">
                <a:solidFill>
                  <a:srgbClr val="3333cc"/>
                </a:solidFill>
                <a:latin typeface="Courier New"/>
              </a:rPr>
              <a:t>?</a:t>
            </a:r>
            <a:r>
              <a:rPr b="0" lang="en-US" sz="2400" spc="-1" strike="noStrike">
                <a:solidFill>
                  <a:srgbClr val="3333cc"/>
                </a:solidFill>
                <a:latin typeface="Courier New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E83C-EEE2-45BD-8C32-030592BD496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 -XM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&lt;?xml P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an also specif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tandalone na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urier New"/>
              </a:rPr>
              <a:t>&lt;?xml standalone="yes"?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Indicates there is no external DTD which affects the information passed from the XML processor to the app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haracter encoding u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urier New"/>
              </a:rPr>
              <a:t>&lt;?xml encoding="UTF-8"?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2D0D-694D-4B1B-9DD4-0FFB3EE3173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 -XM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Stylesheet P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17520" y="1257120"/>
            <a:ext cx="848376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n important PI is the one that associates a </a:t>
            </a: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stylesheet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with an XML docu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ourier New"/>
              </a:rPr>
              <a:t>&lt;?xml-stylesheet type="text/xsl" href="resume.xsl"?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ourier New"/>
              </a:rPr>
              <a:t>&lt;?xml-stylesheet type="text/css" href="resume.css"?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 Web browser is an example of an application that reads XML and processes it for displ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The above PI tells the browser what type of stylesheet to apply and where to find i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CSS = cascading style she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declara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straightforward format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XS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more powerful - generic transform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especially into 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EA02-562D-4691-93F1-54D2B2D6EBE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 -XM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U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 new basis for defining HTML = X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Storing and transmitting structure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for coupling application file formats: input and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for the content of mess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See also SOAP for OO R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 a basis for standardizing data in the semantic re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e.g., how to describe a financial instru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llows for arbitrary XML to XML trans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translating data amongst interfa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translating data into XHTML for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Raw XML: </a:t>
            </a:r>
            <a:r>
              <a:rPr b="0" lang="en-CA" sz="2000" spc="-1" strike="noStrike" u="sng">
                <a:solidFill>
                  <a:srgbClr val="0000ff"/>
                </a:solidFill>
                <a:uFillTx/>
                <a:latin typeface="Times New Roman"/>
                <a:hlinkClick r:id="rId1"/>
              </a:rPr>
              <a:t>resume.x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Processed using XSL: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hlinkClick r:id="rId2"/>
              </a:rPr>
              <a:t>resume.x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09C8-016B-4E79-BA5C-E4D86239D9F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 -XM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Examples of Styleshee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his version of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Times New Roman"/>
                <a:hlinkClick r:id="rId1"/>
              </a:rPr>
              <a:t>resume.xml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u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 u="sng">
                <a:solidFill>
                  <a:srgbClr val="0000ff"/>
                </a:solidFill>
                <a:uFillTx/>
                <a:latin typeface="Times New Roman"/>
                <a:hlinkClick r:id="rId2"/>
              </a:rPr>
              <a:t>resume.</a:t>
            </a:r>
            <a:r>
              <a:rPr b="0" lang="en-CA" sz="2800" spc="-1" strike="noStrike" u="sng">
                <a:solidFill>
                  <a:srgbClr val="0000ff"/>
                </a:solidFill>
                <a:uFillTx/>
                <a:latin typeface="Times New Roman"/>
                <a:hlinkClick r:id="rId3"/>
              </a:rPr>
              <a:t>xs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his version of </a:t>
            </a:r>
            <a:r>
              <a:rPr b="0" lang="en-CA" sz="3200" spc="-1" strike="noStrike" u="sng">
                <a:solidFill>
                  <a:srgbClr val="0000ff"/>
                </a:solidFill>
                <a:uFillTx/>
                <a:latin typeface="Times New Roman"/>
                <a:hlinkClick r:id="rId4"/>
              </a:rPr>
              <a:t>resume.xml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u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Times New Roman"/>
                <a:hlinkClick r:id="rId5"/>
              </a:rPr>
              <a:t>resume.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Times New Roman"/>
                <a:hlinkClick r:id="rId6"/>
              </a:rPr>
              <a:t>c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CE24-C7EC-4900-A27A-5905B1EAB19C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 -XM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CDATA Se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Used to escape blocks of text containing characters which would otherwise be recognized as marku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ourier New"/>
              </a:rPr>
              <a:t>&lt;![CDATA[&lt;greeting&gt;hello, world!&lt;/greeting&gt;]]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tags recognized as character data, not mark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Especially useful for inserting whitespace which would otherwise be gobbled up by an XML pars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ourier New"/>
              </a:rPr>
              <a:t>&lt;![CDATA[ ]]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4F4C-DB75-498E-A696-6304A663ADA8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 -XM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Pre-defined attribu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55680" y="1257120"/>
            <a:ext cx="843264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ourier New"/>
              </a:rPr>
              <a:t>&lt;!ATTLIST po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CA" sz="2000" spc="-1" strike="noStrike">
                <a:solidFill>
                  <a:srgbClr val="000000"/>
                </a:solidFill>
                <a:latin typeface="Courier New"/>
              </a:rPr>
              <a:t>xml:space (default|preserve) "preserve"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CA" sz="2000" spc="-1" strike="noStrike">
                <a:solidFill>
                  <a:srgbClr val="000000"/>
                </a:solidFill>
                <a:latin typeface="Courier New"/>
              </a:rPr>
              <a:t>xml:lang NMTOKEN #IMPLIED "fr"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specification gives special meaning to the attributes xml:space and xml: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must be declared before being used, howe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xml:space indicates if XML processor should preserve white space in tags or process it normally (Usually means collapsing and/or re-formattin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xml:lang is a standardized hint to the application as to the language of the cont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2-letter language codes ISO63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2-letter country codes ISO316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language identifiers registeres with the Internet Assigned Numbers Authority (IANA-LANGCO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43D3-04FD-46CC-8FFF-391617A3BEE5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 -XM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XML Namespa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equired to avoid name collisions when many are defining their own XML applic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n XML namespace is a collection of names, identified by a URI reference, which are used in XML documents as element types and attribute nam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FCC3-E500-4755-8C48-BEE8C052394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 -XM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Declaring Namespa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namespace is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clar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using a family of reserved attribu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ch an attribute's name must either be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xml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r have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xmlns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s a prefix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'xmlns' sets a default namesp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'xmlns:' is used to declare a namespace which will be used in the docu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7C41-03E0-48A8-8E4E-7210B4C7D923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 -XM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Qualified Nam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Qualified Nam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namespace prefix : local p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namespace prefix maps to a namespace UR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ourier New"/>
              </a:rPr>
              <a:t>&lt;html:html xmlns:html='http://www.w3.org/TR/REC-html40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CA" sz="1800" spc="-1" strike="noStrike">
                <a:solidFill>
                  <a:srgbClr val="000000"/>
                </a:solidFill>
                <a:latin typeface="Courier New"/>
              </a:rPr>
              <a:t>&lt;html:head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CA" sz="1800" spc="-1" strike="noStrike">
                <a:solidFill>
                  <a:srgbClr val="000000"/>
                </a:solidFill>
                <a:latin typeface="Courier New"/>
              </a:rPr>
              <a:t>&lt;html:title&gt;title&lt;/html:titl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CA" sz="1800" spc="-1" strike="noStrike">
                <a:solidFill>
                  <a:srgbClr val="000000"/>
                </a:solidFill>
                <a:latin typeface="Courier New"/>
              </a:rPr>
              <a:t>&lt;/html:head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ourier New"/>
              </a:rPr>
              <a:t>&lt;/html: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vailable in that element and all nested ele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331F-906B-4FE5-BDDB-E682A706B770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 -XM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Default Namespa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 default can be set for a tag and all its nested tag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html xmlns="http://www.w3.org/1999/xhtml"</a:t>
            </a:r>
            <a:r>
              <a:rPr b="0" lang="en-CA" sz="18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CA" sz="1800" spc="-1" strike="noStrike">
                <a:solidFill>
                  <a:srgbClr val="000000"/>
                </a:solidFill>
                <a:latin typeface="Courier New"/>
              </a:rPr>
              <a:t>&lt;head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CA" sz="1800" spc="-1" strike="noStrike">
                <a:solidFill>
                  <a:srgbClr val="000000"/>
                </a:solidFill>
                <a:latin typeface="Courier New"/>
              </a:rPr>
              <a:t>&lt;title&gt;title&lt;/titl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CA" sz="1800" spc="-1" strike="noStrike">
                <a:solidFill>
                  <a:srgbClr val="000000"/>
                </a:solidFill>
                <a:latin typeface="Courier New"/>
              </a:rPr>
              <a:t>&lt;/head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ourier New"/>
              </a:rPr>
              <a:t>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he default applies to the element in which it is delcared, and all nested el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rovided they have no namespace prefi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A605-22A2-476D-8926-35D2F0C7391C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 -XM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Meaning of Namespace URI'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o meaning: an arbitrary set of characters following certain formatting ru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hould be used to point to a document that describes (any way you want) the tags available in that namesp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not requi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668F-720E-497A-81D9-4B51EAAE369B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 -XM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XML Reference Architec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86000" y="4597560"/>
            <a:ext cx="1003320" cy="1447560"/>
          </a:xfrm>
          <a:prstGeom prst="foldedCorner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X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943280" y="2946240"/>
            <a:ext cx="1536480" cy="10544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imes New Roman"/>
              </a:rPr>
              <a:t>X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imes New Roman"/>
              </a:rPr>
              <a:t>Proces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930320" y="1346040"/>
            <a:ext cx="1536840" cy="105444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2705040" y="240012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2705040" y="3962520"/>
            <a:ext cx="0" cy="6220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23960" y="2629080"/>
            <a:ext cx="4178160" cy="88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933440" y="1959120"/>
            <a:ext cx="39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S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Simple API for XML Pars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254200" y="2606760"/>
            <a:ext cx="307620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DOM Inte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(Document Object Mode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Raw Inte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765600" y="4237200"/>
            <a:ext cx="4267080" cy="102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Part of the power of XML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221C-0747-48BA-9DFC-04540D084701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 -XM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XML Syntactic Eleme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35040" y="1257120"/>
            <a:ext cx="784872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mment tag: </a:t>
            </a:r>
            <a:r>
              <a:rPr b="0" lang="en-CA" sz="2800" spc="-1" strike="noStrike">
                <a:solidFill>
                  <a:srgbClr val="3333cc"/>
                </a:solidFill>
                <a:latin typeface="Arial"/>
              </a:rPr>
              <a:t>&lt;!-- …--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tart tag:  </a:t>
            </a:r>
            <a:r>
              <a:rPr b="0" lang="en-CA" sz="2400" spc="-1" strike="noStrike">
                <a:solidFill>
                  <a:srgbClr val="3333cc"/>
                </a:solidFill>
                <a:latin typeface="Arial"/>
              </a:rPr>
              <a:t>&lt;tagname attribute="value" …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nd tag:  </a:t>
            </a:r>
            <a:r>
              <a:rPr b="0" lang="en-CA" sz="2400" spc="-1" strike="noStrike">
                <a:solidFill>
                  <a:srgbClr val="3333cc"/>
                </a:solidFill>
                <a:latin typeface="Arial"/>
              </a:rPr>
              <a:t>&lt;/tagna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mpty element tag: </a:t>
            </a:r>
            <a:r>
              <a:rPr b="0" lang="en-CA" sz="2400" spc="-1" strike="noStrike">
                <a:solidFill>
                  <a:srgbClr val="3333cc"/>
                </a:solidFill>
                <a:latin typeface="Arial"/>
              </a:rPr>
              <a:t>&lt;tagname attribute="value" … 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ntity reference: </a:t>
            </a:r>
            <a:r>
              <a:rPr b="0" lang="en-CA" sz="2400" spc="-1" strike="noStrike">
                <a:solidFill>
                  <a:srgbClr val="3333cc"/>
                </a:solidFill>
                <a:latin typeface="Arial"/>
              </a:rPr>
              <a:t>&amp;entity-re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rocessing instruction: </a:t>
            </a:r>
            <a:r>
              <a:rPr b="0" lang="en-CA" sz="2800" spc="-1" strike="noStrike">
                <a:solidFill>
                  <a:srgbClr val="3333cc"/>
                </a:solidFill>
                <a:latin typeface="Arial"/>
              </a:rPr>
              <a:t>&lt;? … ?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doctype declaration: </a:t>
            </a:r>
            <a:r>
              <a:rPr b="0" lang="en-CA" sz="2800" spc="-1" strike="noStrike">
                <a:solidFill>
                  <a:srgbClr val="3333cc"/>
                </a:solidFill>
                <a:latin typeface="Arial"/>
              </a:rPr>
              <a:t>&lt;! .. 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0000ff"/>
                </a:solidFill>
                <a:uFillTx/>
                <a:latin typeface="Times New Roman"/>
                <a:hlinkClick r:id="rId1"/>
              </a:rPr>
              <a:t>resume.x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2693-5FFE-490F-91E4-02074E8E18B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 -XM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Tags Must Ne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ags must n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llega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ourier New"/>
              </a:rPr>
              <a:t>&lt;test&gt;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Courier New"/>
              </a:rPr>
              <a:t>  &lt;a&gt;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CA" sz="2800" spc="-1" strike="noStrike">
                <a:solidFill>
                  <a:srgbClr val="ff0000"/>
                </a:solidFill>
                <a:latin typeface="Courier New"/>
              </a:rPr>
              <a:t>&lt;b&gt;</a:t>
            </a:r>
            <a:r>
              <a:rPr b="1" lang="en-CA" sz="2800" spc="-1" strike="noStrike">
                <a:solidFill>
                  <a:srgbClr val="3366ff"/>
                </a:solidFill>
                <a:latin typeface="Courier New"/>
              </a:rPr>
              <a:t>&lt;c&gt;</a:t>
            </a:r>
            <a:r>
              <a:rPr b="0" lang="en-CA" sz="2800" spc="-1" strike="noStrike">
                <a:solidFill>
                  <a:srgbClr val="000000"/>
                </a:solidFill>
                <a:latin typeface="Courier New"/>
              </a:rPr>
              <a:t>words</a:t>
            </a:r>
            <a:r>
              <a:rPr b="1" lang="en-CA" sz="2800" spc="-1" strike="noStrike">
                <a:solidFill>
                  <a:srgbClr val="ff0000"/>
                </a:solidFill>
                <a:latin typeface="Courier New"/>
              </a:rPr>
              <a:t>&lt;/b&gt;</a:t>
            </a:r>
            <a:r>
              <a:rPr b="1" lang="en-CA" sz="2800" spc="-1" strike="noStrike">
                <a:solidFill>
                  <a:srgbClr val="3366ff"/>
                </a:solidFill>
                <a:latin typeface="Courier New"/>
              </a:rPr>
              <a:t>&lt;/c&gt;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Courier New"/>
              </a:rPr>
              <a:t>  &lt;/a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6A9D-CEB6-4F92-92FA-83F569AC349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 -XM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Document Type Decla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he XML DTD contains or points to markup declarations that provide a rudimentary grammar for a class of docu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lement type decla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declares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ttribute-list decla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declares attributes that go with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ntity decla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declares a reference to some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especially replacement 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717A-D3A3-4BF1-AD66-5B016876197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 -XM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&lt;!DOCTYP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ourier New"/>
              </a:rPr>
              <a:t>&lt;!DOCTYPE test SYSTEM "test.dtd"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ourier New"/>
              </a:rPr>
              <a:t>&lt;!DOCTYPE test 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i="1" lang="en-CA" sz="2000" spc="-1" strike="noStrike">
                <a:solidFill>
                  <a:srgbClr val="000000"/>
                </a:solidFill>
                <a:latin typeface="Courier New"/>
              </a:rPr>
              <a:t>markupdecl</a:t>
            </a:r>
            <a:r>
              <a:rPr b="0" lang="en-CA" sz="20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Courier New"/>
              </a:rPr>
              <a:t>]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ourier New"/>
              </a:rPr>
              <a:t>&lt;!DOCTYPE test SYSTEM "test.dtd" 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i="1" lang="en-CA" sz="2000" spc="-1" strike="noStrike">
                <a:solidFill>
                  <a:srgbClr val="000000"/>
                </a:solidFill>
                <a:latin typeface="Courier New"/>
              </a:rPr>
              <a:t>markupdecl</a:t>
            </a:r>
            <a:r>
              <a:rPr b="0" lang="en-CA" sz="20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Courier New"/>
              </a:rPr>
              <a:t>]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name given must be the same as the root element type of the XML docu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 u="sng">
                <a:solidFill>
                  <a:srgbClr val="0000ff"/>
                </a:solidFill>
                <a:uFillTx/>
                <a:latin typeface="Times New Roman"/>
                <a:hlinkClick r:id="rId1"/>
              </a:rPr>
              <a:t>resumedtd</a:t>
            </a:r>
            <a:r>
              <a:rPr b="0" lang="en-CA" sz="2800" spc="-1" strike="noStrike" u="sng">
                <a:solidFill>
                  <a:srgbClr val="0000ff"/>
                </a:solidFill>
                <a:uFillTx/>
                <a:latin typeface="Times New Roman"/>
                <a:hlinkClick r:id="rId2"/>
              </a:rPr>
              <a:t>.x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rot="20634600">
            <a:off x="4995000" y="3444840"/>
            <a:ext cx="346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called the "internal subset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 flipV="1">
            <a:off x="3429000" y="3809880"/>
            <a:ext cx="1409760" cy="2923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2501-438E-493A-99B4-EE550CD1D4C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 -XM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Element Declar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&lt;!ELEMENT </a:t>
            </a:r>
            <a:r>
              <a:rPr b="0" i="1" lang="en-CA" sz="2800" spc="-1" strike="noStrike">
                <a:solidFill>
                  <a:srgbClr val="000000"/>
                </a:solidFill>
                <a:latin typeface="Times New Roman"/>
              </a:rPr>
              <a:t>tag-name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CA" sz="2800" spc="-1" strike="noStrike">
                <a:solidFill>
                  <a:srgbClr val="000000"/>
                </a:solidFill>
                <a:latin typeface="Times New Roman"/>
              </a:rPr>
              <a:t>content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Declares a new element ta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All tag names should be declared (but not an erro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content: EMPTY | ANY | </a:t>
            </a:r>
            <a:r>
              <a:rPr b="0" i="1" lang="en-CA" sz="2000" spc="-1" strike="noStrike">
                <a:solidFill>
                  <a:srgbClr val="000000"/>
                </a:solidFill>
                <a:latin typeface="Arial"/>
              </a:rPr>
              <a:t>mixed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 | </a:t>
            </a:r>
            <a:r>
              <a:rPr b="0" i="1" lang="en-CA" sz="2000" spc="-1" strike="noStrike">
                <a:solidFill>
                  <a:srgbClr val="000000"/>
                </a:solidFill>
                <a:latin typeface="Arial"/>
              </a:rPr>
              <a:t>childr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.g.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3333cc"/>
                </a:solidFill>
                <a:latin typeface="Times New Roman"/>
              </a:rPr>
              <a:t>&lt;!ELEMENT a EMPT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illeg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&lt;a&gt;hello&lt;/a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&lt;a&gt;&lt;b&gt;&lt;/b&gt;&lt;/a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&lt;a&gt;   &lt;/a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leg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&lt;a&gt;&lt;/a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&lt;a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F462-AD5F-419B-9456-8BA8681397D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 -XM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Childr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hildren: [choice|sequence] [?|*|+]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hoice: ( cp [ '|' cp]+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sequence: ( cp [',' cp]*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p: [name|choice|sequence] [?|*|+]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e.g.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3333cc"/>
                </a:solidFill>
                <a:latin typeface="Arial"/>
              </a:rPr>
              <a:t>&lt;!ELEMENT a (b,(c|d)+)+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illeg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&lt;a&gt;&lt;b/&gt;&lt;b/&gt;&lt;/a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&lt;a&gt;&lt;/a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leg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&lt;a&gt; &lt;b/&gt;&lt;c/&gt;&lt;d/&gt; &lt;b/&gt;&lt;d/&gt; &lt;/a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7450-EAD0-4358-B42F-5CC9C830691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 -XM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10T20:39:14Z</dcterms:created>
  <dc:creator>David A. Penny</dc:creator>
  <dc:description/>
  <dc:language>en-US</dc:language>
  <cp:lastModifiedBy>penny</cp:lastModifiedBy>
  <dcterms:modified xsi:type="dcterms:W3CDTF">2001-09-21T19:04:05Z</dcterms:modified>
  <cp:revision>29</cp:revision>
  <dc:subject/>
  <dc:title>CSC309 - 12 - XML</dc:title>
</cp:coreProperties>
</file>