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491-E3EA-429A-9A47-E1A2E0D6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1EE-D171-4EC4-9F11-76E7CCA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78A-8752-43CB-82D0-D0EC626B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3F-4F86-43E1-94B0-5428A2E8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8A4-C774-4F3C-B18E-538109F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D1D-6C34-4247-9479-3016500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142-5C2C-4AA6-9BCF-7112397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020-2468-4B3C-8CB8-2160334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F4F-D6FA-4C6F-B12F-E71211C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5C1-50A3-4B94-9DF8-2F3E6D1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42D-9620-42BE-9DDA-FE69ACB5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9C4-069D-4EC0-AD9D-2D486D7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70EB-588E-47BE-895C-261DC6E1A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Sec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11480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Intermediaries, Secure/Authenticated E-mail, SSL/HTTPS, Signed Applets, Firewalls,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F0D-80DC-4403-A984-887A9A49BD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Sockets Layer (SSL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862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SA/PGP provide security for specific network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 works at Internet transport layer. Provides security to any TCP-based application using SSL servi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between WWW browsers and servers for e-commerce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https://www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servi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(and optionally client) authentication using public key sign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ion of all data flowing between client and server (including URL’s, any submitted form contents, data returned by the server,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2B0-A291-464B-A5DE-7EC03BE67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rver authentic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-enabled browser includes public keys for trusted Certificate Authorities (C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requests server certificate, issued by trusted 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uses CA’s public key to extract server’s public key from certific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 your browser’s security menu to see its trusted CA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E2E-0B1E-4953-8F5D-179B6794EE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158840"/>
            <a:ext cx="7985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ncrypted SSL sess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generates symmetric session key, encrypts it with server’s public key, sends encrypted key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its private key, server decrypts sessio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, server agree that future messages will be encryp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data sent into TCP socket (by client and server) is encrypted with sessio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742-6209-4134-9309-CF8BDA0F9B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 and HTTP use different ports, so single server can provide both secure and insecure service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different URL schemes (http and https), mean that a non-SSL-capable browser will not even attempt to send secure info collected through a form with submit action specified as https: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authentication can be done with client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 can be used for non-Web applications, such as an e-mail user a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D54-9E7F-45B0-99BF-C737BF7C25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gned Java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Download applets from source about which you know nothing – how to be sure the applet is not maliciou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e is authenticated by checking its digital signature using the source’s public key to verify the author and that code hasn’t been modif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ignature tells who the applet comes from, and that the applet has not been tampered with. A signature doesn't tell you anything about the content or quality of the applet, just that it comes from the source that signed i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A0F-6B56-4595-B173-35BDF2DE8E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Signed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33308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ing a signed applet triggers a Java security dialog, indicating that a java applet from “the sender’s signature id" is requesting additional privileges, e.g. reading, modification, or deletion of any of your files. Granting the privilege is noted as high ris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Java Security dialog should indicate "Identity verified b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riginal issuer of certific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" and display a button for you to examine the certif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can grant permissions for applets to execute or not based on who signed the co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976-143C-4DDF-A99F-B364E75BE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0 Securit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30320" y="328932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30320" y="4952880"/>
            <a:ext cx="5587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3467160"/>
            <a:ext cx="14605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1663560"/>
            <a:ext cx="733320" cy="2484720"/>
          </a:xfrm>
          <a:custGeom>
            <a:avLst/>
            <a:gdLst>
              <a:gd name="textAreaLeft" fmla="*/ 98280 w 733320"/>
              <a:gd name="textAreaRight" fmla="*/ 635040 w 733320"/>
              <a:gd name="textAreaTop" fmla="*/ 456120 h 2484720"/>
              <a:gd name="textAreaBottom" fmla="*/ 1693800 h 24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35" stAng="-5400000" swAng="-5400000"/>
                <a:lnTo>
                  <a:pt x="0" y="10755"/>
                </a:lnTo>
                <a:arcTo wR="21600" hR="7935" stAng="10800000" swAng="-2765835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16"/>
                </a:lnTo>
                <a:arcTo wR="21600" hR="7935" stAng="8034165" swAng="2538131"/>
                <a:lnTo>
                  <a:pt x="344" y="9345"/>
                </a:lnTo>
                <a:arcTo wR="21600" hR="7935" stAng="-10572296" swAng="5172296"/>
                <a:close/>
              </a:path>
              <a:path fill="darkenLess" w="21600" h="21600">
                <a:moveTo>
                  <a:pt x="21600" y="0"/>
                </a:moveTo>
                <a:arcTo wR="21600" hR="7935" stAng="-5400000" swAng="-5400000"/>
                <a:lnTo>
                  <a:pt x="0" y="7935"/>
                </a:lnTo>
                <a:arcTo wR="21600" hR="7935" stAng="10800000" swAng="-227704"/>
                <a:lnTo>
                  <a:pt x="344" y="9345"/>
                </a:lnTo>
                <a:arcTo wR="21600" hR="7935" stAng="-10572296" swAng="5172296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60840" y="1282680"/>
            <a:ext cx="1854360" cy="119376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(Java app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447920"/>
            <a:ext cx="2006640" cy="1371600"/>
          </a:xfrm>
          <a:prstGeom prst="flowChartDocumen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code (Java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1968480"/>
            <a:ext cx="733320" cy="2497320"/>
          </a:xfrm>
          <a:custGeom>
            <a:avLst/>
            <a:gdLst>
              <a:gd name="textAreaLeft" fmla="*/ 98280 w 733320"/>
              <a:gd name="textAreaRight" fmla="*/ 635040 w 733320"/>
              <a:gd name="textAreaTop" fmla="*/ 437040 h 2497320"/>
              <a:gd name="textAreaBottom" fmla="*/ 1810800 h 249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3D5-5090-4C67-9F69-94FE1D5FDDF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1 Securit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30320" y="332748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30320" y="4991040"/>
            <a:ext cx="5587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2760" y="3505320"/>
            <a:ext cx="14461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2006640"/>
            <a:ext cx="733320" cy="2496960"/>
          </a:xfrm>
          <a:custGeom>
            <a:avLst/>
            <a:gdLst>
              <a:gd name="textAreaLeft" fmla="*/ 98280 w 733320"/>
              <a:gd name="textAreaRight" fmla="*/ 635040 w 733320"/>
              <a:gd name="textAreaTop" fmla="*/ 436680 h 2496960"/>
              <a:gd name="textAreaBottom" fmla="*/ 1810440 h 249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1676520"/>
            <a:ext cx="814320" cy="2560680"/>
          </a:xfrm>
          <a:custGeom>
            <a:avLst/>
            <a:gdLst>
              <a:gd name="textAreaLeft" fmla="*/ 109080 w 814320"/>
              <a:gd name="textAreaRight" fmla="*/ 705240 w 814320"/>
              <a:gd name="textAreaTop" fmla="*/ 447840 h 2560680"/>
              <a:gd name="textAreaBottom" fmla="*/ 1856520 h 256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1727280"/>
            <a:ext cx="725400" cy="2763720"/>
          </a:xfrm>
          <a:custGeom>
            <a:avLst/>
            <a:gdLst>
              <a:gd name="textAreaLeft" fmla="*/ 97200 w 725400"/>
              <a:gd name="textAreaRight" fmla="*/ 628200 w 725400"/>
              <a:gd name="textAreaTop" fmla="*/ 585360 h 2763720"/>
              <a:gd name="textAreaBottom" fmla="*/ 1901880 h 27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51" stAng="-5400000" swAng="5400000"/>
                <a:lnTo>
                  <a:pt x="21600" y="10290"/>
                </a:lnTo>
                <a:arcTo wR="21600" hR="9151" stAng="0" swAng="3102066"/>
                <a:lnTo>
                  <a:pt x="6853" y="21127"/>
                </a:lnTo>
                <a:lnTo>
                  <a:pt x="0" y="18871"/>
                </a:lnTo>
                <a:lnTo>
                  <a:pt x="6853" y="15668"/>
                </a:lnTo>
                <a:lnTo>
                  <a:pt x="6853" y="17828"/>
                </a:lnTo>
                <a:arcTo wR="21600" hR="9151" stAng="3102066" swAng="-3011272"/>
                <a:lnTo>
                  <a:pt x="21558" y="9720"/>
                </a:lnTo>
                <a:arcTo wR="21600" hR="9151" stAng="-90794" swAng="-5309206"/>
                <a:close/>
              </a:path>
              <a:path fill="darkenLess" w="21600" h="21600">
                <a:moveTo>
                  <a:pt x="0" y="0"/>
                </a:moveTo>
                <a:arcTo wR="21600" hR="9151" stAng="-5400000" swAng="5400000"/>
                <a:lnTo>
                  <a:pt x="21600" y="10290"/>
                </a:lnTo>
                <a:arcTo wR="21600" hR="9151" stAng="0" swAng="-90794"/>
                <a:lnTo>
                  <a:pt x="21558" y="9720"/>
                </a:lnTo>
                <a:arcTo wR="21600" hR="9151" stAng="-90794" swAng="-530920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4560" y="1511280"/>
            <a:ext cx="817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5280" y="1295280"/>
            <a:ext cx="9046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68680" y="339084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960" y="1600200"/>
            <a:ext cx="2006640" cy="137160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code (Java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2080" y="1473120"/>
            <a:ext cx="1854000" cy="1193760"/>
          </a:xfrm>
          <a:prstGeom prst="flowChartDocumen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(Java app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AD0-9068-4DE6-BB6C-3B28E359167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2 Security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360684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9640" y="5270400"/>
            <a:ext cx="558792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4680" y="3784680"/>
            <a:ext cx="14461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990720"/>
            <a:ext cx="3505320" cy="83808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ode: applications an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24240" y="1295280"/>
            <a:ext cx="9050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08160" y="2146320"/>
            <a:ext cx="3068640" cy="95256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94240"/>
            <a:ext cx="11559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3594240"/>
            <a:ext cx="11559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43480" y="3606840"/>
            <a:ext cx="1155600" cy="104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1828800"/>
            <a:ext cx="384480" cy="290520"/>
          </a:xfrm>
          <a:prstGeom prst="downArrow">
            <a:avLst>
              <a:gd name="adj1" fmla="val 44444"/>
              <a:gd name="adj2" fmla="val 390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8" idx="2"/>
            <a:endCxn id="229" idx="0"/>
          </p:cNvCxnSpPr>
          <p:nvPr/>
        </p:nvCxnSpPr>
        <p:spPr>
          <a:xfrm rot="5400000">
            <a:off x="2395440" y="2347200"/>
            <a:ext cx="496080" cy="1999440"/>
          </a:xfrm>
          <a:prstGeom prst="curvedConnector5">
            <a:avLst>
              <a:gd name="adj1" fmla="val 49963"/>
              <a:gd name="adj2" fmla="val 49990"/>
              <a:gd name="adj3" fmla="val 499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2"/>
            <a:endCxn id="230" idx="3"/>
          </p:cNvCxnSpPr>
          <p:nvPr/>
        </p:nvCxnSpPr>
        <p:spPr>
          <a:xfrm rot="5400000">
            <a:off x="2818080" y="3417120"/>
            <a:ext cx="1143720" cy="5068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8" idx="2"/>
            <a:endCxn id="231" idx="0"/>
          </p:cNvCxnSpPr>
          <p:nvPr/>
        </p:nvCxnSpPr>
        <p:spPr>
          <a:xfrm flipH="1" rot="16200000">
            <a:off x="3628080" y="3113280"/>
            <a:ext cx="508680" cy="47880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36" name=""/>
          <p:cNvCxnSpPr>
            <a:stCxn id="228" idx="2"/>
            <a:endCxn id="225" idx="0"/>
          </p:cNvCxnSpPr>
          <p:nvPr/>
        </p:nvCxnSpPr>
        <p:spPr>
          <a:xfrm flipH="1" rot="16200000">
            <a:off x="4330800" y="2410920"/>
            <a:ext cx="660600" cy="2036160"/>
          </a:xfrm>
          <a:prstGeom prst="curvedConnector5">
            <a:avLst>
              <a:gd name="adj1" fmla="val 51908"/>
              <a:gd name="adj2" fmla="val 49991"/>
              <a:gd name="adj3" fmla="val 5190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959520" y="2374920"/>
            <a:ext cx="2019240" cy="3111480"/>
          </a:xfrm>
          <a:prstGeom prst="wedgeRoundRectCallout">
            <a:avLst>
              <a:gd name="adj1" fmla="val -178615"/>
              <a:gd name="adj2" fmla="val 3556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uilt-in notion of trusted code, each applet runs with separate per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6A0-300A-474A-BBB0-34F33976AB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ava Secu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257120"/>
            <a:ext cx="81025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K 1.2 designed to support easily configurable security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JDK 1.2, no longer a built-in concept that all local code is trust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code (e.g., non-system code, application packages installed on the local file system) is subject to the same security control as app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ame principles apply to signed applets and any Java appl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EDF-6C7B-4BD9-9833-A338D1F911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usted Intermediari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two entities establish shared symmetric secret key over networ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Distribution Cen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KDC) acting as intermediary between ent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19720" y="1218960"/>
            <a:ext cx="454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lice obtains Bob’s public key (from web site, e-mail, diskette), how does she know it is actually Bob’s public key, not Trudy’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Certification Authority (CA) distributes certified public ke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87D-BCE6-4CB5-98F9-5913E994078A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gning Java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ign a jar file you need public/private keys and a certificate authority to validate the publ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igned jar file includes at least one signature file, as well as normal manifes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DK provides these tools for signing apple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tool – manages identities, keys and certificates in JDK identity D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signer – generates signatures for jar files and verifies signatures for signed jar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tool – creates and modifies policy configuration files that define security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CEB-40F0-46FB-9108-09F7E69C0B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ternet availability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954000"/>
            <a:ext cx="77724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Denial of service (DOS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od of maliciously generated packets “swamp”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DOS (DDOS): multiple coordinated sources swamp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 and remote host SYN-attack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13320" y="3581280"/>
            <a:ext cx="5664240" cy="2667240"/>
            <a:chOff x="1813320" y="3581280"/>
            <a:chExt cx="5664240" cy="2667240"/>
          </a:xfrm>
        </p:grpSpPr>
        <p:grpSp>
          <p:nvGrpSpPr>
            <p:cNvPr id="245" name=""/>
            <p:cNvGrpSpPr/>
            <p:nvPr/>
          </p:nvGrpSpPr>
          <p:grpSpPr>
            <a:xfrm>
              <a:off x="6692760" y="5181480"/>
              <a:ext cx="609840" cy="522360"/>
              <a:chOff x="6692760" y="5181480"/>
              <a:chExt cx="609840" cy="52236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2760" y="5181480"/>
                <a:ext cx="609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21640" y="5243040"/>
                <a:ext cx="257760" cy="2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8" name=""/>
            <p:cNvGrpSpPr/>
            <p:nvPr/>
          </p:nvGrpSpPr>
          <p:grpSpPr>
            <a:xfrm>
              <a:off x="3205080" y="5105520"/>
              <a:ext cx="642600" cy="327600"/>
              <a:chOff x="3205080" y="5105520"/>
              <a:chExt cx="642600" cy="327600"/>
            </a:xfrm>
          </p:grpSpPr>
          <p:sp>
            <p:nvSpPr>
              <p:cNvPr id="249" name=""/>
              <p:cNvSpPr/>
              <p:nvPr/>
            </p:nvSpPr>
            <p:spPr>
              <a:xfrm>
                <a:off x="3210120" y="5251680"/>
                <a:ext cx="637560" cy="181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10120" y="523656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47680" y="523656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10120" y="5236560"/>
                <a:ext cx="631800" cy="11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05080" y="5105520"/>
                <a:ext cx="637200" cy="211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358440" y="5151960"/>
                <a:ext cx="315360" cy="124200"/>
                <a:chOff x="3358440" y="5151960"/>
                <a:chExt cx="315360" cy="12420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3358440" y="515196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574800" y="527616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120" y="515484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358440" y="5150520"/>
                <a:ext cx="315360" cy="124200"/>
                <a:chOff x="3358440" y="5150520"/>
                <a:chExt cx="315360" cy="124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58440" y="527220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74800" y="515052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462120" y="515052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2351160" y="4160880"/>
              <a:ext cx="4586040" cy="1081080"/>
            </a:xfrm>
            <a:custGeom>
              <a:avLst/>
              <a:gdLst/>
              <a:ahLst/>
              <a:rect l="l" t="t" r="r" b="b"/>
              <a:pathLst>
                <a:path w="2889" h="681">
                  <a:moveTo>
                    <a:pt x="2" y="0"/>
                  </a:moveTo>
                  <a:lnTo>
                    <a:pt x="0" y="394"/>
                  </a:lnTo>
                  <a:lnTo>
                    <a:pt x="2887" y="394"/>
                  </a:lnTo>
                  <a:lnTo>
                    <a:pt x="2889" y="6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3320" y="3639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1720" y="5181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2209680" y="3581280"/>
            <a:ext cx="45720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3581280"/>
                      <a:ext cx="4572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"/>
            <p:cNvSpPr/>
            <p:nvPr/>
          </p:nvSpPr>
          <p:spPr>
            <a:xfrm flipV="1">
              <a:off x="3541680" y="4807080"/>
              <a:ext cx="0" cy="37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46200" y="4410000"/>
              <a:ext cx="1271880" cy="1838520"/>
            </a:xfrm>
            <a:custGeom>
              <a:avLst/>
              <a:gdLst/>
              <a:ahLst/>
              <a:rect l="l" t="t" r="r" b="b"/>
              <a:pathLst>
                <a:path w="801" h="1158">
                  <a:moveTo>
                    <a:pt x="801" y="1158"/>
                  </a:moveTo>
                  <a:lnTo>
                    <a:pt x="798" y="165"/>
                  </a:lnTo>
                  <a:lnTo>
                    <a:pt x="3" y="16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519360" y="5435640"/>
              <a:ext cx="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454560" y="5622840"/>
              <a:ext cx="533160" cy="243720"/>
              <a:chOff x="3454560" y="5622840"/>
              <a:chExt cx="533160" cy="243720"/>
            </a:xfrm>
          </p:grpSpPr>
          <p:sp>
            <p:nvSpPr>
              <p:cNvPr id="271" name=""/>
              <p:cNvSpPr/>
              <p:nvPr/>
            </p:nvSpPr>
            <p:spPr>
              <a:xfrm>
                <a:off x="3493080" y="5644080"/>
                <a:ext cx="44748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54560" y="5622840"/>
                <a:ext cx="53316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54560" y="5927760"/>
              <a:ext cx="533160" cy="243720"/>
              <a:chOff x="3454560" y="5927760"/>
              <a:chExt cx="533160" cy="2437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3080" y="5949000"/>
                <a:ext cx="44748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54560" y="5927760"/>
                <a:ext cx="53316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743200" y="4495680"/>
              <a:ext cx="533520" cy="243720"/>
              <a:chOff x="2743200" y="4495680"/>
              <a:chExt cx="533520" cy="243720"/>
            </a:xfrm>
          </p:grpSpPr>
          <p:sp>
            <p:nvSpPr>
              <p:cNvPr id="277" name=""/>
              <p:cNvSpPr/>
              <p:nvPr/>
            </p:nvSpPr>
            <p:spPr>
              <a:xfrm>
                <a:off x="2781720" y="451692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3200" y="449568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978440" y="3683160"/>
              <a:ext cx="609480" cy="522000"/>
              <a:chOff x="4978440" y="3683160"/>
              <a:chExt cx="609480" cy="5220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78440" y="3683160"/>
                <a:ext cx="609480" cy="52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07320" y="3744720"/>
                <a:ext cx="2577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"/>
            <p:cNvSpPr/>
            <p:nvPr/>
          </p:nvSpPr>
          <p:spPr>
            <a:xfrm>
              <a:off x="5420880" y="3657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105520" y="4114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19400" y="4108320"/>
              <a:ext cx="2998800" cy="781200"/>
            </a:xfrm>
            <a:custGeom>
              <a:avLst/>
              <a:gdLst/>
              <a:ahLst/>
              <a:rect l="l" t="t" r="r" b="b"/>
              <a:pathLst>
                <a:path w="1889" h="492">
                  <a:moveTo>
                    <a:pt x="1889" y="39"/>
                  </a:moveTo>
                  <a:lnTo>
                    <a:pt x="1889" y="492"/>
                  </a:lnTo>
                  <a:lnTo>
                    <a:pt x="0" y="49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20920" y="5106960"/>
              <a:ext cx="642600" cy="328320"/>
              <a:chOff x="3220920" y="5106960"/>
              <a:chExt cx="642600" cy="328320"/>
            </a:xfrm>
          </p:grpSpPr>
          <p:sp>
            <p:nvSpPr>
              <p:cNvPr id="286" name=""/>
              <p:cNvSpPr/>
              <p:nvPr/>
            </p:nvSpPr>
            <p:spPr>
              <a:xfrm>
                <a:off x="3225960" y="5253480"/>
                <a:ext cx="637560" cy="181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5960" y="52380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63520" y="52380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25960" y="5238000"/>
                <a:ext cx="631800" cy="111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20920" y="5106960"/>
                <a:ext cx="637200" cy="21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3374280" y="5153400"/>
                <a:ext cx="315360" cy="124200"/>
                <a:chOff x="3374280" y="5153400"/>
                <a:chExt cx="315360" cy="124200"/>
              </a:xfrm>
            </p:grpSpPr>
            <p:sp>
              <p:nvSpPr>
                <p:cNvPr id="292" name=""/>
                <p:cNvSpPr/>
                <p:nvPr/>
              </p:nvSpPr>
              <p:spPr>
                <a:xfrm flipV="1">
                  <a:off x="3374280" y="515340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590640" y="527760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477960" y="515628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374280" y="5151960"/>
                <a:ext cx="315360" cy="124200"/>
                <a:chOff x="3374280" y="5151960"/>
                <a:chExt cx="315360" cy="124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374280" y="527364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590640" y="515196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477960" y="515196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2666880" y="4813200"/>
              <a:ext cx="533520" cy="243720"/>
              <a:chOff x="2666880" y="4813200"/>
              <a:chExt cx="533520" cy="243720"/>
            </a:xfrm>
          </p:grpSpPr>
          <p:sp>
            <p:nvSpPr>
              <p:cNvPr id="300" name=""/>
              <p:cNvSpPr/>
              <p:nvPr/>
            </p:nvSpPr>
            <p:spPr>
              <a:xfrm>
                <a:off x="270540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6688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809880" y="4813200"/>
              <a:ext cx="533520" cy="243720"/>
              <a:chOff x="3809880" y="4813200"/>
              <a:chExt cx="533520" cy="243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84840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0988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572000" y="4813200"/>
              <a:ext cx="533520" cy="243720"/>
              <a:chOff x="4572000" y="4813200"/>
              <a:chExt cx="533520" cy="243720"/>
            </a:xfrm>
          </p:grpSpPr>
          <p:sp>
            <p:nvSpPr>
              <p:cNvPr id="306" name=""/>
              <p:cNvSpPr/>
              <p:nvPr/>
            </p:nvSpPr>
            <p:spPr>
              <a:xfrm>
                <a:off x="461052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200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515-0FEF-4304-9508-AD262D3F8B0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8600" y="1377720"/>
            <a:ext cx="788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lectronic Transactions (SET) designed for payment-card transactions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ecurity services among 3 play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’s ba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l must have certific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specifies legal meanings of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ortionment of liabilities for trans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067-891F-4E97-8F15-CA449F632D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stomer’s card number passed to merchant’s bank without merchant ever seeing number in plain 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ents merchants from stealing or leaking payment card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software compon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wser wall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hant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quirer gate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F2C-4D63-45C6-B222-9662B492BB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of info – implemented using symmetr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rity of data – implemented using digital sign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dholder authentication – implemented with digital signature and cardholder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 authentication – implemented with digital signature and merchant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460-D15E-49BD-BEE6-D16745827F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PSec: Network Layer Securi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4040" y="1376280"/>
            <a:ext cx="825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-layer 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host encrypts the data in IP dat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and UDP segments; ICMP and SNMP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-layer authentication and message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ination host can authenticate source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wo principle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header (AH)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apsulation security payload (ESP)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208-7C68-4180-8DAC-103102ED29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PSec: Network Layer Securi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both AH and ESP, source, destination handsha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network-layer logical channel called a Service Agreement (S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SA unidirec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ly determin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protocol (AH or E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-bit connection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780-7719-4D76-8F4B-2491FBE1FC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SP Protoco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410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ecrecy, host authentication, data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, ESP trailer encryp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header field is in ESP trail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00240" y="1371240"/>
            <a:ext cx="380988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 authentication field is similar to AH authentication fiel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ocol = 5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461088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461556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4521240"/>
            <a:ext cx="2667240" cy="92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UDP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47560" y="5410080"/>
            <a:ext cx="2972160" cy="802080"/>
            <a:chOff x="1447560" y="5410080"/>
            <a:chExt cx="2972160" cy="802080"/>
          </a:xfrm>
        </p:grpSpPr>
        <p:sp>
          <p:nvSpPr>
            <p:cNvPr id="325" name=""/>
            <p:cNvSpPr/>
            <p:nvPr/>
          </p:nvSpPr>
          <p:spPr>
            <a:xfrm>
              <a:off x="2057760" y="5906880"/>
              <a:ext cx="23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tocol=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447200" y="5410080"/>
              <a:ext cx="2210040" cy="795240"/>
            </a:xfrm>
            <a:custGeom>
              <a:avLst/>
              <a:gdLst>
                <a:gd name="textAreaLeft" fmla="*/ 736200 w 2210040"/>
                <a:gd name="textAreaRight" fmla="*/ 1892520 w 2210040"/>
                <a:gd name="textAreaTop" fmla="*/ 457920 h 795240"/>
                <a:gd name="textAreaBottom" fmla="*/ 68112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477120" y="461376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4615560"/>
            <a:ext cx="76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A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047-ED24-4FEC-B63C-272335D9F440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uthentication Header (AH) Protoco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25240" y="990720"/>
            <a:ext cx="380988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ource host authentication, data integrity, but not secre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H header inserted between IP header and IP data fie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field = 5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outers process datagrams as us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22680" y="990720"/>
            <a:ext cx="41976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H header inclu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on identif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data: signed message digest, calculated over original IP datagram, providing source authentication, data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header field: specifies type of data (TCP, UDP, ICMP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066680" y="5034960"/>
            <a:ext cx="6015960" cy="377280"/>
            <a:chOff x="1066680" y="5034960"/>
            <a:chExt cx="6015960" cy="377280"/>
          </a:xfrm>
        </p:grpSpPr>
        <p:sp>
          <p:nvSpPr>
            <p:cNvPr id="333" name=""/>
            <p:cNvSpPr/>
            <p:nvPr/>
          </p:nvSpPr>
          <p:spPr>
            <a:xfrm>
              <a:off x="1066680" y="5034960"/>
              <a:ext cx="16002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P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6880" y="5046120"/>
              <a:ext cx="17528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H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1600" y="5046120"/>
              <a:ext cx="26510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CP/UDP 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447560" y="5410080"/>
            <a:ext cx="2972160" cy="802080"/>
            <a:chOff x="1447560" y="5410080"/>
            <a:chExt cx="2972160" cy="802080"/>
          </a:xfrm>
        </p:grpSpPr>
        <p:sp>
          <p:nvSpPr>
            <p:cNvPr id="337" name=""/>
            <p:cNvSpPr/>
            <p:nvPr/>
          </p:nvSpPr>
          <p:spPr>
            <a:xfrm>
              <a:off x="2057760" y="5906880"/>
              <a:ext cx="23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tocol=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447200" y="5410080"/>
              <a:ext cx="2210040" cy="795240"/>
            </a:xfrm>
            <a:custGeom>
              <a:avLst/>
              <a:gdLst>
                <a:gd name="textAreaLeft" fmla="*/ 736200 w 2210040"/>
                <a:gd name="textAreaRight" fmla="*/ 1892520 w 2210040"/>
                <a:gd name="textAreaTop" fmla="*/ 457920 h 795240"/>
                <a:gd name="textAreaBottom" fmla="*/ 68112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FAD-37AB-4FCF-BB5F-1C46C0610BCE}" type="slidenum">
              <a:t>2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4840" y="15228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rewal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9720" y="3505320"/>
            <a:ext cx="689004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categories of firewa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 fil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 gatew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480" y="1295280"/>
            <a:ext cx="7772040" cy="1447560"/>
            <a:chOff x="609480" y="1295280"/>
            <a:chExt cx="7772040" cy="1447560"/>
          </a:xfrm>
        </p:grpSpPr>
        <p:sp>
          <p:nvSpPr>
            <p:cNvPr id="343" name=""/>
            <p:cNvSpPr/>
            <p:nvPr/>
          </p:nvSpPr>
          <p:spPr>
            <a:xfrm>
              <a:off x="609480" y="1295280"/>
              <a:ext cx="7754400" cy="14475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1200" y="1382400"/>
              <a:ext cx="769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solates organization’s internal ne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Intrane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from larger Internet, allowing some packets to pass, blocking ot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46200" y="1066680"/>
            <a:ext cx="1099080" cy="398880"/>
            <a:chOff x="646200" y="1066680"/>
            <a:chExt cx="1099080" cy="398880"/>
          </a:xfrm>
        </p:grpSpPr>
        <p:sp>
          <p:nvSpPr>
            <p:cNvPr id="346" name=""/>
            <p:cNvSpPr/>
            <p:nvPr/>
          </p:nvSpPr>
          <p:spPr>
            <a:xfrm>
              <a:off x="646200" y="1077120"/>
              <a:ext cx="1099080" cy="35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960" y="10666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firew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6C3-EF85-4D06-A9A1-37AA46EB41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280"/>
            <a:ext cx="7772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Key Distribution Center (KD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3962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Bob need shared symmetr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D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rver shares different secret key with each registered us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 Bob each have own symmetric keys,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or communicating with K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communicates with KDC, gets session key R1,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B-K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,R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3916440"/>
            <a:ext cx="42624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Bob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,R1), Bob extracts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 Bob now share the symmetric, secret key R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6784_" descr=""/>
          <p:cNvPicPr/>
          <p:nvPr/>
        </p:nvPicPr>
        <p:blipFill>
          <a:blip r:embed="rId1"/>
          <a:srcRect l="18745" t="0" r="0" b="0"/>
          <a:stretch/>
        </p:blipFill>
        <p:spPr>
          <a:xfrm>
            <a:off x="7797960" y="17524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bd06790_" descr=""/>
          <p:cNvPicPr/>
          <p:nvPr/>
        </p:nvPicPr>
        <p:blipFill>
          <a:blip r:embed="rId2"/>
          <a:srcRect l="0" t="0" r="38101" b="0"/>
          <a:stretch/>
        </p:blipFill>
        <p:spPr>
          <a:xfrm>
            <a:off x="4680000" y="914400"/>
            <a:ext cx="62856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12952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440" y="1072440"/>
            <a:ext cx="604080" cy="36612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990720"/>
            <a:ext cx="1371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334120" y="137160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75248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ice knows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701800">
            <a:off x="5519520" y="1735920"/>
            <a:ext cx="2026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1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,R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438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438280"/>
            <a:ext cx="13716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271476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ob knows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798640"/>
            <a:ext cx="3124080" cy="853200"/>
          </a:xfrm>
          <a:prstGeom prst="leftRightArrow">
            <a:avLst>
              <a:gd name="adj1" fmla="val 50000"/>
              <a:gd name="adj2" fmla="val 72893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ice, Bob communicate using shared session key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729-A059-44FA-A613-12312124568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rewalls are used to prevent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ial of Service (DoS) att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 flooding: attacker establishes many bogus TCP connections. Attacked  host alloc’s TCP buffers for bogus connections, none left for “real” conne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legal modification of internal da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ttacker replaces legitimate electronic banking records with false transaction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uders from obtaining secret internal da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proprietary software source code, such as MS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ering that could disrupt internal oper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configuration changes on corporate servers or network switc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9F1-41F2-4A01-9699-83C14D1159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cket Filter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234800"/>
            <a:ext cx="771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network is connected to Internet through a ro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manufacturer provides options for filtering packets, based 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UDP source and destination port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MP messag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SYN and ACK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BB6-463A-422B-A93B-37D7F72199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1: block incoming and outgoing datagrams with IP protocol field = 17 and with either source or dest port = 2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coming and outgoing UDP flows and telnet connections are block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2: Block inbound TCP segments with ACK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ents external clients from making TCP connections with internal clients, but allows internal clients to connect to out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cket Filtering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BB1-2AA8-4B2F-80E4-755E6E3CB9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plication gateway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3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ters packets based o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pplication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well as on IP/TCP/UDP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ow select internal users to telnet out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352680"/>
            <a:ext cx="76424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 all telnet users to telnet through gate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uthorized users, gateway sets up telnet connection to dest host. Gateway relays data between 2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r filter blocks all telnet connections not originating from gate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5680" y="685800"/>
            <a:ext cx="3787920" cy="273672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500800" y="1150560"/>
            <a:ext cx="889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00800" y="1824120"/>
            <a:ext cx="88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3240" y="1149480"/>
            <a:ext cx="144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94600" y="19476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5611320" y="1934640"/>
            <a:ext cx="180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520960" y="19411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556240" y="1424160"/>
            <a:ext cx="29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3280" y="1546200"/>
            <a:ext cx="54756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32240" y="1544760"/>
            <a:ext cx="515880" cy="49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64200" y="2109960"/>
            <a:ext cx="18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542360" y="1514160"/>
            <a:ext cx="14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543800" y="2273400"/>
            <a:ext cx="128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470720" y="942840"/>
            <a:ext cx="611280" cy="40824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165800" y="1300320"/>
            <a:ext cx="622080" cy="288360"/>
            <a:chOff x="7165800" y="1300320"/>
            <a:chExt cx="622080" cy="288360"/>
          </a:xfrm>
        </p:grpSpPr>
        <p:sp>
          <p:nvSpPr>
            <p:cNvPr id="372" name=""/>
            <p:cNvSpPr/>
            <p:nvPr/>
          </p:nvSpPr>
          <p:spPr>
            <a:xfrm>
              <a:off x="7170840" y="1428840"/>
              <a:ext cx="617040" cy="159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70840" y="14155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87880" y="14155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70840" y="1415520"/>
              <a:ext cx="611640" cy="97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65800" y="1300320"/>
              <a:ext cx="616680" cy="1861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314120" y="1341360"/>
              <a:ext cx="305640" cy="108720"/>
              <a:chOff x="7314120" y="1341360"/>
              <a:chExt cx="305640" cy="1087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7314120" y="13413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3640" y="145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14560" y="134352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314120" y="1339920"/>
              <a:ext cx="305640" cy="108720"/>
              <a:chOff x="7314120" y="1339920"/>
              <a:chExt cx="305640" cy="108720"/>
            </a:xfrm>
          </p:grpSpPr>
          <p:sp>
            <p:nvSpPr>
              <p:cNvPr id="382" name=""/>
              <p:cNvSpPr/>
              <p:nvPr/>
            </p:nvSpPr>
            <p:spPr>
              <a:xfrm>
                <a:off x="7314120" y="14464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23640" y="13399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414560" y="133992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 flipV="1">
            <a:off x="5972040" y="1665000"/>
            <a:ext cx="1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48160" y="2017800"/>
          <a:ext cx="4111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8160" y="2017800"/>
                    <a:ext cx="411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021360" y="1998720"/>
          <a:ext cx="40968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1360" y="1998720"/>
                    <a:ext cx="409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5068800" y="888840"/>
            <a:ext cx="473040" cy="352440"/>
            <a:chOff x="5068800" y="888840"/>
            <a:chExt cx="473040" cy="352440"/>
          </a:xfrm>
        </p:grpSpPr>
        <p:grpSp>
          <p:nvGrpSpPr>
            <p:cNvPr id="391" name=""/>
            <p:cNvGrpSpPr/>
            <p:nvPr/>
          </p:nvGrpSpPr>
          <p:grpSpPr>
            <a:xfrm>
              <a:off x="5068800" y="1151280"/>
              <a:ext cx="473040" cy="90000"/>
              <a:chOff x="5068800" y="1151280"/>
              <a:chExt cx="473040" cy="90000"/>
            </a:xfrm>
          </p:grpSpPr>
          <p:sp>
            <p:nvSpPr>
              <p:cNvPr id="392" name=""/>
              <p:cNvSpPr/>
              <p:nvPr/>
            </p:nvSpPr>
            <p:spPr>
              <a:xfrm>
                <a:off x="5068800" y="1151280"/>
                <a:ext cx="473040" cy="9000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95440" y="1169640"/>
                <a:ext cx="314640" cy="576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19080" y="1169640"/>
                <a:ext cx="96120" cy="576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149800" y="888840"/>
              <a:ext cx="303480" cy="261360"/>
              <a:chOff x="5149800" y="888840"/>
              <a:chExt cx="303480" cy="261360"/>
            </a:xfrm>
          </p:grpSpPr>
          <p:sp>
            <p:nvSpPr>
              <p:cNvPr id="396" name=""/>
              <p:cNvSpPr/>
              <p:nvPr/>
            </p:nvSpPr>
            <p:spPr>
              <a:xfrm>
                <a:off x="5149800" y="888840"/>
                <a:ext cx="303480" cy="26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169240" y="910800"/>
                <a:ext cx="263160" cy="219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03240" y="910800"/>
                <a:ext cx="28440" cy="219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12960" y="923040"/>
                <a:ext cx="7920" cy="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14760" y="10231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14760" y="1064880"/>
                <a:ext cx="3600" cy="4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14760" y="110592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176440" y="903600"/>
              <a:ext cx="246600" cy="223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076720" y="1565280"/>
            <a:ext cx="471600" cy="353880"/>
            <a:chOff x="5076720" y="1565280"/>
            <a:chExt cx="471600" cy="353880"/>
          </a:xfrm>
        </p:grpSpPr>
        <p:grpSp>
          <p:nvGrpSpPr>
            <p:cNvPr id="405" name=""/>
            <p:cNvGrpSpPr/>
            <p:nvPr/>
          </p:nvGrpSpPr>
          <p:grpSpPr>
            <a:xfrm>
              <a:off x="5076720" y="1828800"/>
              <a:ext cx="471600" cy="90360"/>
              <a:chOff x="5076720" y="1828800"/>
              <a:chExt cx="471600" cy="90360"/>
            </a:xfrm>
          </p:grpSpPr>
          <p:sp>
            <p:nvSpPr>
              <p:cNvPr id="406" name=""/>
              <p:cNvSpPr/>
              <p:nvPr/>
            </p:nvSpPr>
            <p:spPr>
              <a:xfrm>
                <a:off x="5076720" y="1828800"/>
                <a:ext cx="471600" cy="9036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03000" y="1847160"/>
                <a:ext cx="313560" cy="576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25920" y="1847160"/>
                <a:ext cx="95760" cy="576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157360" y="1565280"/>
              <a:ext cx="302400" cy="262440"/>
              <a:chOff x="5157360" y="1565280"/>
              <a:chExt cx="302400" cy="262440"/>
            </a:xfrm>
          </p:grpSpPr>
          <p:sp>
            <p:nvSpPr>
              <p:cNvPr id="410" name=""/>
              <p:cNvSpPr/>
              <p:nvPr/>
            </p:nvSpPr>
            <p:spPr>
              <a:xfrm>
                <a:off x="5157360" y="1565280"/>
                <a:ext cx="302400" cy="26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76800" y="1587600"/>
                <a:ext cx="262440" cy="220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0080" y="1587600"/>
                <a:ext cx="2808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19800" y="1599480"/>
                <a:ext cx="7920" cy="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21600" y="16999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21600" y="1742040"/>
                <a:ext cx="3600" cy="4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21600" y="178308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184000" y="1580040"/>
              <a:ext cx="245880" cy="22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756400" y="1284120"/>
            <a:ext cx="621720" cy="287280"/>
            <a:chOff x="5756400" y="1284120"/>
            <a:chExt cx="621720" cy="287280"/>
          </a:xfrm>
        </p:grpSpPr>
        <p:sp>
          <p:nvSpPr>
            <p:cNvPr id="419" name=""/>
            <p:cNvSpPr/>
            <p:nvPr/>
          </p:nvSpPr>
          <p:spPr>
            <a:xfrm>
              <a:off x="5761440" y="1412280"/>
              <a:ext cx="616680" cy="1591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440" y="13989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78120" y="13989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1440" y="1398960"/>
              <a:ext cx="611280" cy="9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6400" y="1284120"/>
              <a:ext cx="616320" cy="185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904720" y="1324800"/>
              <a:ext cx="304920" cy="108360"/>
              <a:chOff x="5904720" y="1324800"/>
              <a:chExt cx="304920" cy="10836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5904720" y="13248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13880" y="14331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05160" y="1326960"/>
                <a:ext cx="11304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904720" y="1323000"/>
              <a:ext cx="304920" cy="108360"/>
              <a:chOff x="5904720" y="1323000"/>
              <a:chExt cx="304920" cy="108360"/>
            </a:xfrm>
          </p:grpSpPr>
          <p:sp>
            <p:nvSpPr>
              <p:cNvPr id="429" name=""/>
              <p:cNvSpPr/>
              <p:nvPr/>
            </p:nvSpPr>
            <p:spPr>
              <a:xfrm>
                <a:off x="5904720" y="14292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13880" y="1323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05160" y="1323000"/>
                <a:ext cx="11304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6923160" y="2684520"/>
            <a:ext cx="469800" cy="414360"/>
            <a:chOff x="6923160" y="2684520"/>
            <a:chExt cx="469800" cy="414360"/>
          </a:xfrm>
        </p:grpSpPr>
        <p:pic>
          <p:nvPicPr>
            <p:cNvPr id="433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6923160" y="2684520"/>
              <a:ext cx="4698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6">
              <a:alphaModFix amt="50000"/>
            </a:blip>
            <a:stretch/>
          </p:blipFill>
          <p:spPr>
            <a:xfrm>
              <a:off x="7022520" y="2733480"/>
              <a:ext cx="198720" cy="1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6492960" y="1874880"/>
            <a:ext cx="621720" cy="285480"/>
            <a:chOff x="6492960" y="1874880"/>
            <a:chExt cx="621720" cy="285480"/>
          </a:xfrm>
        </p:grpSpPr>
        <p:sp>
          <p:nvSpPr>
            <p:cNvPr id="436" name=""/>
            <p:cNvSpPr/>
            <p:nvPr/>
          </p:nvSpPr>
          <p:spPr>
            <a:xfrm>
              <a:off x="6498000" y="2002320"/>
              <a:ext cx="616680" cy="1580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98000" y="198900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14680" y="198900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98000" y="1989000"/>
              <a:ext cx="611280" cy="9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92960" y="1874880"/>
              <a:ext cx="616320" cy="1843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641280" y="1915560"/>
              <a:ext cx="304920" cy="107640"/>
              <a:chOff x="6641280" y="1915560"/>
              <a:chExt cx="304920" cy="107640"/>
            </a:xfrm>
          </p:grpSpPr>
          <p:sp>
            <p:nvSpPr>
              <p:cNvPr id="442" name=""/>
              <p:cNvSpPr/>
              <p:nvPr/>
            </p:nvSpPr>
            <p:spPr>
              <a:xfrm flipV="1">
                <a:off x="6641280" y="19155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50440" y="20232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41720" y="1917720"/>
                <a:ext cx="113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641280" y="1913760"/>
              <a:ext cx="304920" cy="107640"/>
              <a:chOff x="6641280" y="1913760"/>
              <a:chExt cx="304920" cy="107640"/>
            </a:xfrm>
          </p:grpSpPr>
          <p:sp>
            <p:nvSpPr>
              <p:cNvPr id="446" name=""/>
              <p:cNvSpPr/>
              <p:nvPr/>
            </p:nvSpPr>
            <p:spPr>
              <a:xfrm>
                <a:off x="6641280" y="2019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50440" y="19137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741720" y="1913760"/>
                <a:ext cx="113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6224760" y="2654280"/>
            <a:ext cx="469800" cy="412920"/>
            <a:chOff x="6224760" y="2654280"/>
            <a:chExt cx="469800" cy="412920"/>
          </a:xfrm>
        </p:grpSpPr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6224760" y="2654280"/>
              <a:ext cx="46980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8"/>
            <a:stretch/>
          </p:blipFill>
          <p:spPr>
            <a:xfrm>
              <a:off x="6324120" y="2702880"/>
              <a:ext cx="198720" cy="17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"/>
          <p:cNvSpPr/>
          <p:nvPr/>
        </p:nvSpPr>
        <p:spPr>
          <a:xfrm>
            <a:off x="6602400" y="2720880"/>
            <a:ext cx="103320" cy="2224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2880" y="2754360"/>
            <a:ext cx="101520" cy="2221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65840" y="2228760"/>
            <a:ext cx="338400" cy="40500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008920" y="771480"/>
            <a:ext cx="622080" cy="288720"/>
            <a:chOff x="8008920" y="771480"/>
            <a:chExt cx="622080" cy="288720"/>
          </a:xfrm>
        </p:grpSpPr>
        <p:sp>
          <p:nvSpPr>
            <p:cNvPr id="456" name=""/>
            <p:cNvSpPr/>
            <p:nvPr/>
          </p:nvSpPr>
          <p:spPr>
            <a:xfrm>
              <a:off x="8013960" y="900360"/>
              <a:ext cx="617040" cy="159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13960" y="8866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31000" y="8866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3960" y="886680"/>
              <a:ext cx="611640" cy="97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08920" y="771480"/>
              <a:ext cx="616680" cy="186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8157240" y="812520"/>
              <a:ext cx="305640" cy="109080"/>
              <a:chOff x="8157240" y="812520"/>
              <a:chExt cx="305640" cy="109080"/>
            </a:xfrm>
          </p:grpSpPr>
          <p:sp>
            <p:nvSpPr>
              <p:cNvPr id="462" name=""/>
              <p:cNvSpPr/>
              <p:nvPr/>
            </p:nvSpPr>
            <p:spPr>
              <a:xfrm flipV="1">
                <a:off x="8157240" y="8125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66760" y="9216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57680" y="81468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8157240" y="810720"/>
              <a:ext cx="305640" cy="109080"/>
              <a:chOff x="8157240" y="810720"/>
              <a:chExt cx="305640" cy="109080"/>
            </a:xfrm>
          </p:grpSpPr>
          <p:sp>
            <p:nvSpPr>
              <p:cNvPr id="466" name=""/>
              <p:cNvSpPr/>
              <p:nvPr/>
            </p:nvSpPr>
            <p:spPr>
              <a:xfrm>
                <a:off x="8157240" y="9176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66760" y="8107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8257680" y="81108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69" name=""/>
          <p:cNvCxnSpPr>
            <a:stCxn id="451" idx="3"/>
          </p:cNvCxnSpPr>
          <p:nvPr/>
        </p:nvCxnSpPr>
        <p:spPr>
          <a:xfrm flipV="1">
            <a:off x="6522840" y="2039040"/>
            <a:ext cx="1253160" cy="753480"/>
          </a:xfrm>
          <a:prstGeom prst="curvedConnector5">
            <a:avLst>
              <a:gd name="adj1" fmla="val 43706"/>
              <a:gd name="adj2" fmla="val 89435"/>
              <a:gd name="adj3" fmla="val 4370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endCxn id="464" idx="0"/>
          </p:cNvCxnSpPr>
          <p:nvPr/>
        </p:nvCxnSpPr>
        <p:spPr>
          <a:xfrm flipV="1">
            <a:off x="7620120" y="799560"/>
            <a:ext cx="638280" cy="1502280"/>
          </a:xfrm>
          <a:prstGeom prst="curvedConnector5">
            <a:avLst>
              <a:gd name="adj1" fmla="val 8182"/>
              <a:gd name="adj2" fmla="val 53475"/>
              <a:gd name="adj3" fmla="val 818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471" name=""/>
          <p:cNvGraphicFramePr/>
          <p:nvPr/>
        </p:nvGraphicFramePr>
        <p:xfrm>
          <a:off x="7620120" y="2039760"/>
          <a:ext cx="31104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2039760"/>
                    <a:ext cx="311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7664400" y="2517840"/>
            <a:ext cx="125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pplication gateway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21600" y="2909880"/>
            <a:ext cx="164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st-to-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lnet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628560"/>
            <a:ext cx="71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outer an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48720" y="1143000"/>
            <a:ext cx="1295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ateway-to-remo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st telnet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C7B-914A-4152-9B0B-AA1369AC13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imitations of Filters and Gateways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388008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P spoof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r can’t know if data “really” originated at source listed in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multiple app’s. need special treatment, each has own app.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oftware must know how to contact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must set IP address of proxy in Web 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36800" y="1434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s often use all or nothing policy for UD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eoff:  degree of communication with outside world vs level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highly protected sites still suffer from attack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B42-D60D-469A-9F3A-87D7B963F58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etwork Security (summary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48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techniques…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ptography (symmetric and public ke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enti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s and application gate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used in many different security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Web transactions (htt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lectronic trans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structure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7A9-CE9B-40EB-9D55-D06BB32093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ertificate Autho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Certificate Authority (CA) binds public key to particular entity (person, router, et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6835680" y="3656160"/>
            <a:ext cx="105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ertificate Authority’s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g0439920.thm" descr=""/>
          <p:cNvPicPr/>
          <p:nvPr/>
        </p:nvPicPr>
        <p:blipFill>
          <a:blip r:embed="rId1"/>
          <a:stretch/>
        </p:blipFill>
        <p:spPr>
          <a:xfrm>
            <a:off x="5557680" y="1882800"/>
            <a:ext cx="1440000" cy="1639800"/>
          </a:xfrm>
          <a:prstGeom prst="rect">
            <a:avLst/>
          </a:prstGeom>
          <a:ln w="0">
            <a:noFill/>
          </a:ln>
        </p:spPr>
      </p:pic>
      <p:pic>
        <p:nvPicPr>
          <p:cNvPr id="65" name="hhgc025d.thm" descr=""/>
          <p:cNvPicPr/>
          <p:nvPr/>
        </p:nvPicPr>
        <p:blipFill>
          <a:blip r:embed="rId2"/>
          <a:stretch/>
        </p:blipFill>
        <p:spPr>
          <a:xfrm>
            <a:off x="5784840" y="3968640"/>
            <a:ext cx="987480" cy="52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67360" y="1239840"/>
            <a:ext cx="2506320" cy="517680"/>
          </a:xfrm>
          <a:custGeom>
            <a:avLst/>
            <a:gdLst>
              <a:gd name="textAreaLeft" fmla="*/ 438480 w 2506320"/>
              <a:gd name="textAreaRight" fmla="*/ 1817280 w 250632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763080" y="3570120"/>
            <a:ext cx="2829240" cy="478080"/>
          </a:xfrm>
          <a:custGeom>
            <a:avLst/>
            <a:gdLst>
              <a:gd name="textAreaLeft" fmla="*/ 495000 w 2829240"/>
              <a:gd name="textAreaRight" fmla="*/ 2051280 w 282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ile"/>
          <p:cNvSpPr/>
          <p:nvPr/>
        </p:nvSpPr>
        <p:spPr>
          <a:xfrm>
            <a:off x="1176480" y="1181160"/>
            <a:ext cx="1374480" cy="100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Identifying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6784_" descr=""/>
          <p:cNvPicPr/>
          <p:nvPr/>
        </p:nvPicPr>
        <p:blipFill>
          <a:blip r:embed="rId3"/>
          <a:stretch/>
        </p:blipFill>
        <p:spPr>
          <a:xfrm>
            <a:off x="609480" y="2189160"/>
            <a:ext cx="1051200" cy="103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7480" y="3375000"/>
            <a:ext cx="1198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encrypted certif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_oeq383.thm" descr=""/>
          <p:cNvPicPr/>
          <p:nvPr/>
        </p:nvPicPr>
        <p:blipFill>
          <a:blip r:embed="rId4"/>
          <a:stretch/>
        </p:blipFill>
        <p:spPr>
          <a:xfrm>
            <a:off x="2455920" y="3033720"/>
            <a:ext cx="13888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hhgc025d.thm" descr=""/>
          <p:cNvPicPr/>
          <p:nvPr/>
        </p:nvPicPr>
        <p:blipFill>
          <a:blip r:embed="rId5"/>
          <a:stretch/>
        </p:blipFill>
        <p:spPr>
          <a:xfrm>
            <a:off x="2963880" y="1638360"/>
            <a:ext cx="985680" cy="52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54160" y="1066680"/>
            <a:ext cx="13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public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201600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rtif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1643040"/>
            <a:ext cx="457200" cy="457200"/>
          </a:xfrm>
          <a:prstGeom prst="plus">
            <a:avLst>
              <a:gd name="adj" fmla="val 376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745-58F1-4449-A8F8-67C84ACA8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ertificate Autho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tity registers 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blic key with 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ity provides “proof of identity” to CA at time of registr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 creates certificate binding entity to public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digitally signed by 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2880" y="1312560"/>
            <a:ext cx="3927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lice wants Bob’s public ke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s Bob’s certificate (from Bob or elsewhe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CA’s public key to Bob’s certificate to get Bob’s publ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A83-5346-4622-B8D8-87FA455A7556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cure e-mail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e.g. PGP)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75720" y="114300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r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-mail message, m,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1800" y="1727280"/>
            <a:ext cx="8401320" cy="1891440"/>
            <a:chOff x="361800" y="1727280"/>
            <a:chExt cx="8401320" cy="1891440"/>
          </a:xfrm>
        </p:grpSpPr>
        <p:pic>
          <p:nvPicPr>
            <p:cNvPr id="82" name="bd06790_" descr=""/>
            <p:cNvPicPr/>
            <p:nvPr/>
          </p:nvPicPr>
          <p:blipFill>
            <a:blip r:embed="rId1"/>
            <a:srcRect l="0" t="0" r="38101" b="0"/>
            <a:stretch/>
          </p:blipFill>
          <p:spPr>
            <a:xfrm>
              <a:off x="361800" y="2209680"/>
              <a:ext cx="6858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bd06784_" descr=""/>
            <p:cNvPicPr/>
            <p:nvPr/>
          </p:nvPicPr>
          <p:blipFill>
            <a:blip r:embed="rId2"/>
            <a:srcRect l="18745" t="0" r="0" b="0"/>
            <a:stretch/>
          </p:blipFill>
          <p:spPr>
            <a:xfrm>
              <a:off x="7967520" y="2235240"/>
              <a:ext cx="795600" cy="10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2324160" y="2009880"/>
              <a:ext cx="761760" cy="480960"/>
              <a:chOff x="2324160" y="2009880"/>
              <a:chExt cx="761760" cy="480960"/>
            </a:xfrm>
          </p:grpSpPr>
          <p:sp>
            <p:nvSpPr>
              <p:cNvPr id="85" name=""/>
              <p:cNvSpPr/>
              <p:nvPr/>
            </p:nvSpPr>
            <p:spPr>
              <a:xfrm>
                <a:off x="2324160" y="20098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85920" y="2009880"/>
                <a:ext cx="0" cy="48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219320" y="1828800"/>
              <a:ext cx="1218960" cy="4406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sym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0640" y="3086280"/>
              <a:ext cx="685800" cy="440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489040"/>
              <a:ext cx="381240" cy="3812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3657600" y="2336760"/>
              <a:ext cx="1828800" cy="68580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1240" y="3108240"/>
              <a:ext cx="89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3276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540160" y="2869920"/>
              <a:ext cx="546120" cy="406440"/>
              <a:chOff x="2540160" y="2869920"/>
              <a:chExt cx="546120" cy="406440"/>
            </a:xfrm>
          </p:grpSpPr>
          <p:sp>
            <p:nvSpPr>
              <p:cNvPr id="94" name=""/>
              <p:cNvSpPr/>
              <p:nvPr/>
            </p:nvSpPr>
            <p:spPr>
              <a:xfrm>
                <a:off x="2540160" y="3276360"/>
                <a:ext cx="54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086280" y="2869920"/>
                <a:ext cx="0" cy="40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38080" y="2031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267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032520" y="2047680"/>
              <a:ext cx="520560" cy="415800"/>
              <a:chOff x="6032520" y="2047680"/>
              <a:chExt cx="520560" cy="4158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032520" y="204768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2520" y="2047680"/>
                <a:ext cx="52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91240" y="1841400"/>
              <a:ext cx="1219320" cy="4406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sym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2000" y="3137040"/>
              <a:ext cx="685800" cy="44064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54680" y="246384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91200" y="2476440"/>
              <a:ext cx="89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048440" y="220932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32520" y="2857680"/>
              <a:ext cx="596880" cy="495000"/>
              <a:chOff x="6032520" y="2857680"/>
              <a:chExt cx="596880" cy="4950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32520" y="2857680"/>
                <a:ext cx="0" cy="49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32520" y="3352680"/>
                <a:ext cx="59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899480" y="201924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765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4080" y="1765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3197160"/>
              <a:ext cx="120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(Key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sym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1160" y="1727280"/>
              <a:ext cx="1041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2666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6560" y="3213000"/>
              <a:ext cx="120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(Key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sym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55800" y="1733400"/>
              <a:ext cx="1041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9480" y="3809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te random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ivate session key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rypt message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rypt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Bob’s public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)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B19-C55A-4A48-A17F-EF62D596A2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uthenticated e-mai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265800" y="5259240"/>
            <a:ext cx="330120" cy="444600"/>
            <a:chOff x="6265800" y="5259240"/>
            <a:chExt cx="330120" cy="444600"/>
          </a:xfrm>
        </p:grpSpPr>
        <p:sp>
          <p:nvSpPr>
            <p:cNvPr id="120" name=""/>
            <p:cNvSpPr/>
            <p:nvPr/>
          </p:nvSpPr>
          <p:spPr>
            <a:xfrm>
              <a:off x="6265800" y="5259240"/>
              <a:ext cx="0" cy="44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5800" y="5703840"/>
              <a:ext cx="33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62960" y="5246640"/>
            <a:ext cx="304560" cy="457200"/>
            <a:chOff x="7662960" y="5246640"/>
            <a:chExt cx="304560" cy="457200"/>
          </a:xfrm>
        </p:grpSpPr>
        <p:sp>
          <p:nvSpPr>
            <p:cNvPr id="123" name=""/>
            <p:cNvSpPr/>
            <p:nvPr/>
          </p:nvSpPr>
          <p:spPr>
            <a:xfrm>
              <a:off x="7662960" y="5703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967520" y="52466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43240" y="4433760"/>
            <a:ext cx="304920" cy="457200"/>
            <a:chOff x="3243240" y="4433760"/>
            <a:chExt cx="304920" cy="457200"/>
          </a:xfrm>
        </p:grpSpPr>
        <p:sp>
          <p:nvSpPr>
            <p:cNvPr id="126" name=""/>
            <p:cNvSpPr/>
            <p:nvPr/>
          </p:nvSpPr>
          <p:spPr>
            <a:xfrm>
              <a:off x="3243240" y="4433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8160" y="44337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07080" y="50943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6790_" descr=""/>
          <p:cNvPicPr/>
          <p:nvPr/>
        </p:nvPicPr>
        <p:blipFill>
          <a:blip r:embed="rId1"/>
          <a:srcRect l="0" t="0" r="38101" b="0"/>
          <a:stretch/>
        </p:blipFill>
        <p:spPr>
          <a:xfrm>
            <a:off x="271440" y="45864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bd06784_" descr=""/>
          <p:cNvPicPr/>
          <p:nvPr/>
        </p:nvPicPr>
        <p:blipFill>
          <a:blip r:embed="rId2"/>
          <a:srcRect l="18745" t="0" r="0" b="0"/>
          <a:stretch/>
        </p:blipFill>
        <p:spPr>
          <a:xfrm>
            <a:off x="8120160" y="4560840"/>
            <a:ext cx="795240" cy="104148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4005360" y="4738680"/>
            <a:ext cx="17524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4120" y="508176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278400" y="4484160"/>
            <a:ext cx="546120" cy="435240"/>
            <a:chOff x="6278400" y="4484160"/>
            <a:chExt cx="546120" cy="435240"/>
          </a:xfrm>
        </p:grpSpPr>
        <p:sp>
          <p:nvSpPr>
            <p:cNvPr id="134" name=""/>
            <p:cNvSpPr/>
            <p:nvPr/>
          </p:nvSpPr>
          <p:spPr>
            <a:xfrm flipV="1">
              <a:off x="6278400" y="4484160"/>
              <a:ext cx="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78400" y="448416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75360" y="49039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05760" y="4927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Mat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360" y="4141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7840" y="5653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4130640"/>
            <a:ext cx="142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1800" spc="-1" strike="noStrike" baseline="-25000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(hash(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2160" y="41544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1800" spc="-1" strike="noStrike" baseline="-25000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(hash(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8440" y="4230720"/>
            <a:ext cx="99072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7440" y="4230720"/>
            <a:ext cx="76212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7056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4878360"/>
            <a:ext cx="38088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52480" y="46479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80920" y="5246640"/>
            <a:ext cx="2666880" cy="399600"/>
            <a:chOff x="880920" y="5246640"/>
            <a:chExt cx="2666880" cy="399600"/>
          </a:xfrm>
        </p:grpSpPr>
        <p:sp>
          <p:nvSpPr>
            <p:cNvPr id="148" name=""/>
            <p:cNvSpPr/>
            <p:nvPr/>
          </p:nvSpPr>
          <p:spPr>
            <a:xfrm>
              <a:off x="880920" y="564624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47800" y="5246640"/>
              <a:ext cx="0" cy="39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52520" y="4433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4520" y="4307040"/>
            <a:ext cx="68580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5920" y="5500800"/>
            <a:ext cx="99072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586640" y="4484520"/>
            <a:ext cx="380880" cy="457200"/>
            <a:chOff x="7586640" y="4484520"/>
            <a:chExt cx="380880" cy="457200"/>
          </a:xfrm>
        </p:grpSpPr>
        <p:sp>
          <p:nvSpPr>
            <p:cNvPr id="154" name=""/>
            <p:cNvSpPr/>
            <p:nvPr/>
          </p:nvSpPr>
          <p:spPr>
            <a:xfrm>
              <a:off x="7586640" y="44845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67520" y="4484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335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sender authentication and message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digitally signs message with secret ke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cleartext message together with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b compares a hash of the cleartext message with the decoded hash of the encoded hashe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300-D6D2-4A02-A29C-2441303228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secret e-mail to Bob with sender authentication and  message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, Alice uses both h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 and Bob’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, Authenticated e-mai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24560" y="4549680"/>
            <a:ext cx="761760" cy="480960"/>
            <a:chOff x="5524560" y="4549680"/>
            <a:chExt cx="761760" cy="480960"/>
          </a:xfrm>
        </p:grpSpPr>
        <p:sp>
          <p:nvSpPr>
            <p:cNvPr id="160" name=""/>
            <p:cNvSpPr/>
            <p:nvPr/>
          </p:nvSpPr>
          <p:spPr>
            <a:xfrm>
              <a:off x="5524560" y="45496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6320" y="4549680"/>
              <a:ext cx="0" cy="48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419720" y="4368960"/>
            <a:ext cx="1143000" cy="4406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5575320"/>
            <a:ext cx="685800" cy="44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5029200"/>
            <a:ext cx="38124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loud"/>
          <p:cNvSpPr/>
          <p:nvPr/>
        </p:nvSpPr>
        <p:spPr>
          <a:xfrm>
            <a:off x="6858000" y="4876920"/>
            <a:ext cx="182880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400" y="5597640"/>
            <a:ext cx="89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Key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Comic Sans MS"/>
              </a:rPr>
              <a:t>s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5791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778360" y="5410080"/>
            <a:ext cx="495360" cy="330480"/>
            <a:chOff x="5778360" y="5410080"/>
            <a:chExt cx="495360" cy="330480"/>
          </a:xfrm>
        </p:grpSpPr>
        <p:sp>
          <p:nvSpPr>
            <p:cNvPr id="169" name=""/>
            <p:cNvSpPr/>
            <p:nvPr/>
          </p:nvSpPr>
          <p:spPr>
            <a:xfrm>
              <a:off x="5778360" y="574056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273720" y="541008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59000" y="3720960"/>
            <a:ext cx="99036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17640" y="3720960"/>
            <a:ext cx="76212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1640" y="491508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4381560"/>
            <a:ext cx="38088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05120" y="414000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028880" y="4782960"/>
            <a:ext cx="2818800" cy="347760"/>
            <a:chOff x="1028880" y="4782960"/>
            <a:chExt cx="2818800" cy="347760"/>
          </a:xfrm>
        </p:grpSpPr>
        <p:sp>
          <p:nvSpPr>
            <p:cNvPr id="177" name=""/>
            <p:cNvSpPr/>
            <p:nvPr/>
          </p:nvSpPr>
          <p:spPr>
            <a:xfrm>
              <a:off x="1028880" y="5130720"/>
              <a:ext cx="28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47680" y="4782960"/>
              <a:ext cx="0" cy="34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56080" y="3924360"/>
            <a:ext cx="304560" cy="457200"/>
            <a:chOff x="3556080" y="3924360"/>
            <a:chExt cx="304560" cy="457200"/>
          </a:xfrm>
        </p:grpSpPr>
        <p:sp>
          <p:nvSpPr>
            <p:cNvPr id="180" name=""/>
            <p:cNvSpPr/>
            <p:nvPr/>
          </p:nvSpPr>
          <p:spPr>
            <a:xfrm>
              <a:off x="3556080" y="3924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60640" y="3924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413080" y="3924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2196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mailcol-1.thm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24452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B57-C940-4B98-B089-1D758CF784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etty Good Privacy (PGP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e-mail encryption scheme, a de-facto stand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symmetric key cryptography, public key cryptography, hash function, and digital sign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ecrecy, sender authentication, integrity and efficiency for handling large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57600" y="1828440"/>
            <a:ext cx="4205520" cy="426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b:Felix is out of town on a business trip tonight. Amorously yours,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449960" y="12952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PGP signed mes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5FF-F93D-434D-87A4-9FBCCA90EEB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4T18:35:32Z</dcterms:created>
  <dc:creator>CS</dc:creator>
  <dc:description/>
  <dc:language>en-US</dc:language>
  <cp:lastModifiedBy>Computing Centre</cp:lastModifiedBy>
  <dcterms:modified xsi:type="dcterms:W3CDTF">2001-11-28T16:05:12Z</dcterms:modified>
  <cp:revision>55</cp:revision>
  <dc:subject/>
  <dc:title>20 Message Digests, Firewalls</dc:title>
</cp:coreProperties>
</file>