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819FD0-CE1A-4D7A-853D-1A5E9570B9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Core platform relies on an internal tree-like representation of the document, and enables you to traverse the hierarchy accordingly. The standard model of viewing a document is as a hierarchy of elements, with the computer building up an internal model of the document based on a kind of tree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Range and Traversal modules can be used on the Core platform for tree manipul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XML extends the Core platform for specific XML 1.0 needs such as processing instructions, CDATA, and ent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HTML DOM provides a set of convenient easy-to-use ways to manipulate HTML documents. The initial HTML DOM merely describes methods, for example, for accessing an identifier by name, or a particular link. The HTML DOM is sometimes referred to as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0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but has been imported into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1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is part includes XML-tree manipulation oriented events with the Mutation events and the Web user-oriented events with mouse events and HTM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CSS provides a set of convenient easy-to-use ways to manipulate CSS documents.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Vi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 document may have one or more "views" associated with it, e.g., a computed view on a document after applying a CSS stylesheet, or multiple presentations (e.g., HTML Frame) of the same document in a client. That is, a view is some alternate representation of, or a presentation of, and associated with, a source doc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646-A027-4FD1-84CD-8D76695C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D62-E0E7-416B-82A6-1D47527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004-C0C7-4BBF-8181-C8969DD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FA5-5327-4123-AA39-0FB06C81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241-0061-4B2D-91F2-43C2FB8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D7E-FEA4-4D43-A8BC-9258444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FF5-DFC0-4066-90E9-D14BB06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458-4776-4D86-BBAF-4005092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9E8-7EA4-4921-9035-B7E0AC37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9F7-0E5F-4F65-A464-81FE28B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FD0-7D1D-4124-B2A8-0A4AB09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4B8-4A88-4A43-8EC8-4A04C5D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CD4-7C75-41BF-A4A2-8F9541AD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ent-Side Scrip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, the browser has only passively displayed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possible to download a program to the browser, and have it execute on the client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Script / Jscript / ECM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: JavaScrip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fac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F58-8D5A-4A6C-9809-F8FB19E137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he DOM is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 is defined using IDL (Interface Defini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was originally defined for use in 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RMI and Microsoft DCOM can also use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 is then mapp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AScript (JavaScript to the rest of 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924-99C8-4F9D-B719-AC477C74C4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IDL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interface HTMLTitleElement: HTMLElement { attribute DOMString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A5A-B98E-4EC2-8D6A-516950A72C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Java Language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ackage org.w3c.dom.htm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interface HTMLTitle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extends HTMLEleme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String getT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void setText(String te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9EE-A30E-4759-8D64-7B817AFF21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JavaScript Language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Object HTMLTitle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HTMLTitleElement has the all the properties and methods of the HTMLElement object as well as the properties and methods defined bel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The HTMLTitleElement object has the following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is property is of type </a:t>
            </a: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87D-CD22-4A4E-804F-C93B9441D2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re -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central interface is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a number of factory methods for creating elements, text nodes, comments, CDATA sections, PI's attributes, and entity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traverse the tree structure, star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Element documentEl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NodeList getElementsByTagName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FD9-AC5E-4710-8CFA-6FA1FC7619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re - N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resents the various types of nodes found in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thods for traversing to nearb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thods for adding new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rious specializations for the various types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cessingInstruction, Comment, CDATA, Notati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AEC-F750-49B0-B029-0E912B4F82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 Representation of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219320"/>
            <a:ext cx="449568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&gt;text1&lt;/B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&gt;child of C&lt;/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&gt;another child of C&lt;/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&gt;moreText&lt;/F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52880" y="1295280"/>
            <a:ext cx="3505320" cy="4803120"/>
            <a:chOff x="4952880" y="1295280"/>
            <a:chExt cx="3505320" cy="4803120"/>
          </a:xfrm>
        </p:grpSpPr>
        <p:pic>
          <p:nvPicPr>
            <p:cNvPr id="81" name="dom2" descr=""/>
            <p:cNvPicPr/>
            <p:nvPr/>
          </p:nvPicPr>
          <p:blipFill>
            <a:blip r:embed="rId1"/>
            <a:stretch/>
          </p:blipFill>
          <p:spPr>
            <a:xfrm>
              <a:off x="5181480" y="2664000"/>
              <a:ext cx="308304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52880" y="56386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M repres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1295280"/>
              <a:ext cx="1752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2057400"/>
              <a:ext cx="609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4572000"/>
              <a:ext cx="609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4572000"/>
              <a:ext cx="9907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ore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940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F10-8C9F-41E9-844B-42111AD339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 Representation of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om2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352680" cy="331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3505320"/>
            <a:ext cx="2210040" cy="2590560"/>
          </a:xfrm>
          <a:prstGeom prst="rect">
            <a:avLst/>
          </a:prstGeom>
          <a:solidFill>
            <a:srgbClr val="ff66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Befor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neNod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object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0]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2] =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irstChild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.length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parentNo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nextSibling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nextSibling =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1].firstChild =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arentNode.parentNo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ElementById(“id"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E50-1D46-4C99-99E2-1DF3FF2A8A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ient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is still somewhat theore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limited support for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6 is a big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s of JavaScript make use of the client-side environment objects supplied (somewhat incompatibly) by the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1F3-64E3-4AC2-AFDA-207D773724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cripting Languages in HTML p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rinsic ev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img src="image.gif" onclick="…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script&gt; elem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script type="text/javascript" src="script.js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depre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Courier New"/>
              </a:rPr>
              <a:t>&lt;script language="javascript" src="script.j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script type="text/javascript"&gt; &lt;!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javascript cod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// end of script --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no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alternate conten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no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1EF-669D-4244-800C-AF41A2421E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.k.a. ECM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ecma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ch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/ecma1/STAND/ECMA-262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 OO programming language for performing computations and manipulating computational objects within a hos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intended to be computationally self-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b browser provides an ECMAScript host environment for client-side computation including, for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, objects that represent windows, menus, pop-ups, dialog boxes, text areas, anchors, frames,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, cookies, and input/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developer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etscape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.com/docs/manuals/communicator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jsref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/contents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ther, the host environment provides a means to attach scripting cod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vents such as change of focus, page and image loading, unloading, error and abort, selection, form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ssion, and mouse 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441-44E5-4DE4-B8A3-6B96C490BC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ault Scripting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6868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 must determine the default scripting language for intrinsic event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 a META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META http-equiv="Content-Script-Type" content="</a:t>
            </a:r>
            <a:r>
              <a:rPr b="0" lang="en-CA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ext/javascript</a:t>
            </a: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HTTP h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Content-Script-Type: </a:t>
            </a:r>
            <a:r>
              <a:rPr b="0" lang="en-CA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ext/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wise: document is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though browsers may interpret them nonetheless but are not requi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&lt;script&gt; element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pecify a scripting language in eac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you don't browser may interpret them noneth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ED4-7488-4609-A50F-6ABCF170FA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cript UR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also embed a script in a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</a:rPr>
              <a:t>javascript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</a:rPr>
              <a:t>: alert("hello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EE9-4F29-43D0-AF0A-7279019E38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Replac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 that are executed when a document is loaded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ble to modify the document's contents dynam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&lt;script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e evaluated in order as the document is loa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cript constructs within a give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&lt;scrip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that generate SGML CDATA are evaluated. Their combined generated text is inserted in the document in place of th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&lt;script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ted CDATA is re-evalu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"document.write" or equivalent statements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inv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intrinsic event handlers create and write to a new document rather than modifying the current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572-E57C-4C04-BFA1-7A4CD8F7B4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Replacement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documents are constrained to conform to the HTML DTD both before and after processing any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script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Test Document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cript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 type="text/javascript"&gt; document.write("&lt;p&gt;&lt;b&gt;Hello World!&lt;\/b&gt;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cript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ame effect as this HTML mark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Test Document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P&gt;&lt;B&gt;Hello World!&lt;/B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2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plac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4C3-3349-4BA1-9AFC-EC7E7C2C45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etscape 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nsdom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35760" cy="50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94F-2B80-4973-810E-9C56CA29BF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ow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dow object represents the window (or frame) in which a JavaScript program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lobal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following mean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ndow.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self.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can access the Window object of other windows/f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654-B02C-4802-86F3-EC8909D004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ample Wind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s to the HTML currently 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s to the URL from whence it c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ndow, self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, top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opener, frames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s in the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ormation about the browser an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o about the display on which the window is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istory of UR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E35-177B-4EF8-9B19-B84728F63D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ample Window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ert(), confirm(), promp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cus(), blur(), close(), ope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veTo(), moveBy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tInterval(), setTimeo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aler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17F-3A16-4612-80AE-8B427618F2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cument object is a DOM object that represents the currently displayed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dom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et of colour buttons use deprecated DOM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set of buttons set stylesheet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E70-1DC8-402E-A5AE-8D72088B23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1 and CSS-P (CSS - Positioning) are scriptable from 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HTML elements to float around and grow and shr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rged in the CSS2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dynamic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 prematurely supported the &lt;layer&gt; tag in NN4. Not included in the final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E4 supports CSS-P qui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se slightly different APIs to 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992-948C-4EA8-8AF3-724DEB4B3E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ship to Ja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origin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ve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ater renamed to JavaScript at the last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by Brendan Eich at 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ived competition with Sun Microsystems Java for client-side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crosoft has a similar thing called J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draw, multi-thread, network or do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interact with Browser or control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184-9B23-4EB4-B936-5BD55B257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ient-Side JavaScri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interact with the host environment, there needs to be an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w3.org/TR/REC-DOM-Leve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 &amp; Microsoft stay somehwat in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eed a reference that distinguishes NN, IE, DOM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O'Reilly Dynamic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 only common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developer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netscap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.com/docs/manuals/communicator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jsref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/contents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5C3-F35E-458D-9B98-059103753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avaScript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guage/API limi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file/directory access defined in th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network access 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oad UR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end HTML form data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web servers, CGI scripts, e-mail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aves privacy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ny restri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read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hide/show menubar, status line, scrollbar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close a window not opened by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'same origin policy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can only read props of documents and windows from the same place: host, port,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50A-BC20-4744-9AC7-8DB70E2EB5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igned Scri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tter set of restrictions can be re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certain cases explicit dialog boxes will ask for user confi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close() oth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other cases user can grant privileges to signed scripts (more on this later in the cour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Browser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Filere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Send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Preferences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688-8BD4-4BDB-A323-DD36D21F6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 Object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ocument Object Model is a platform- and language-neutral interface that allows programs and scripts to dynamically access and update the content, structure and style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ocument can be further processed and the results of that processing can be incorporated back into (or even replace) the presented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BA9-ADCD-4F3C-AAC4-6D4D8C0B4C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OM Level 1 now being fully implemented in IE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inimal set of objects and interfaces for accessing and manipulating document object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(mainly XML orie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ds the Level 1 Core API to describe objects and methods specific to HTML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 differences between the core DOM and the HTML application of DOM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TML Document Object Model exposes a number of convenience methods and properties that are consistent with the existing models and are more appropriate to script wri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any cases, these enhancements are not applicable to a general DOM because they rely on the presence of a predefined D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DD-902C-47B0-A961-91EDA4151A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 Level 2 (Nov.,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DOM Level 2 Architecture"/>
          <p:cNvPicPr/>
          <p:nvPr/>
        </p:nvPicPr>
        <p:blipFill>
          <a:blip r:embed="rId1"/>
          <a:stretch/>
        </p:blipFill>
        <p:spPr>
          <a:xfrm>
            <a:off x="755640" y="1125360"/>
            <a:ext cx="777564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6C0-7F94-400E-9DF7-C2304CE349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4:52:32Z</dcterms:created>
  <dc:creator>David Penny</dc:creator>
  <dc:description/>
  <dc:language>en-US</dc:language>
  <cp:lastModifiedBy>penny</cp:lastModifiedBy>
  <dcterms:modified xsi:type="dcterms:W3CDTF">2001-10-15T15:48:15Z</dcterms:modified>
  <cp:revision>23</cp:revision>
  <dc:subject/>
  <dc:title>CSC309 - 21 - JavaScript</dc:title>
</cp:coreProperties>
</file>