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8BC5D-C83C-4938-BB0F-B67B95B47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25712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115A6-D972-40AC-A2C2-319D95251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2A173-03E4-48B7-9A18-7C39AE34C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685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1099B-A261-4DBF-A31E-B96FE356D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685800" y="1257120"/>
            <a:ext cx="7772400" cy="4902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F4512-7207-4F2E-B6E8-793A95189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A2985-75A5-4B0F-9FC6-C38524694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08EEC-6E40-41B0-9D4A-EA8E86765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68C22-3C47-4B08-9858-16AE88EFC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54160"/>
            <a:ext cx="7772400" cy="4179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F9213-56E9-41FB-A1D0-B1C412092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4DA08-158B-4F9A-A90B-0E571BAF5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52212-7A5F-4D37-A5C2-73B53FA98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2245-E15A-4191-BE86-890C776F2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DB1A-0EF2-451A-BC8D-C307FB1CB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file:///TrivialObject.html" TargetMode="External"/><Relationship Id="rId2" Type="http://schemas.openxmlformats.org/officeDocument/2006/relationships/hyperlink" Target="file:///TrivialObject.html" TargetMode="External"/><Relationship Id="rId3" Type="http://schemas.openxmlformats.org/officeDocument/2006/relationships/hyperlink" Target="file:///TrivialObject.html" TargetMode="External"/><Relationship Id="rId4" Type="http://schemas.openxmlformats.org/officeDocument/2006/relationships/hyperlink" Target="file:///TrivialApplet.html" TargetMode="External"/><Relationship Id="rId5" Type="http://schemas.openxmlformats.org/officeDocument/2006/relationships/hyperlink" Target="file:///TrivialApplet.html" TargetMode="External"/><Relationship Id="rId6" Type="http://schemas.openxmlformats.org/officeDocument/2006/relationships/hyperlink" Target="http://Trivial.java.html/" TargetMode="Externa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GUI.html" TargetMode="External"/><Relationship Id="rId2" Type="http://schemas.openxmlformats.org/officeDocument/2006/relationships/hyperlink" Target="http://GUI.java.html/"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file:///JS.html" TargetMode="External"/><Relationship Id="rId2" Type="http://schemas.openxmlformats.org/officeDocument/2006/relationships/hyperlink" Target="http://JS.java.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History</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reated by James Gosling et. al. at Sun Microsystems in 1991 "The Green Team"</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ere to investigate "convergence" technologie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sling created a processor-independent language for '*7', a 2-way wireless remote-control device</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lled the language 'Oak'</a:t>
            </a:r>
            <a:endParaRPr b="0" lang="en-US" sz="2400" spc="-1" strike="noStrike">
              <a:solidFill>
                <a:srgbClr val="000000"/>
              </a:solidFill>
              <a:latin typeface="Times New Roman"/>
            </a:endParaRPr>
          </a:p>
        </p:txBody>
      </p:sp>
      <p:grpSp>
        <p:nvGrpSpPr>
          <p:cNvPr id="43" name=""/>
          <p:cNvGrpSpPr/>
          <p:nvPr/>
        </p:nvGrpSpPr>
        <p:grpSpPr>
          <a:xfrm>
            <a:off x="3873600" y="3492360"/>
            <a:ext cx="1614240" cy="2422440"/>
            <a:chOff x="3873600" y="3492360"/>
            <a:chExt cx="1614240" cy="2422440"/>
          </a:xfrm>
        </p:grpSpPr>
        <p:sp>
          <p:nvSpPr>
            <p:cNvPr id="44" name=""/>
            <p:cNvSpPr/>
            <p:nvPr/>
          </p:nvSpPr>
          <p:spPr>
            <a:xfrm>
              <a:off x="3873600" y="3492360"/>
              <a:ext cx="1614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5" name=""/>
            <p:cNvGrpSpPr/>
            <p:nvPr/>
          </p:nvGrpSpPr>
          <p:grpSpPr>
            <a:xfrm>
              <a:off x="3873600" y="3492360"/>
              <a:ext cx="1614240" cy="2422440"/>
              <a:chOff x="3873600" y="3492360"/>
              <a:chExt cx="1614240" cy="2422440"/>
            </a:xfrm>
          </p:grpSpPr>
          <p:sp>
            <p:nvSpPr>
              <p:cNvPr id="46" name=""/>
              <p:cNvSpPr/>
              <p:nvPr/>
            </p:nvSpPr>
            <p:spPr>
              <a:xfrm>
                <a:off x="3873600" y="3492360"/>
                <a:ext cx="1614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3873600" y="3492360"/>
                <a:ext cx="1036440" cy="242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48" name="green.bbq" descr="The Green Team at a Barbecue"/>
          <p:cNvPicPr/>
          <p:nvPr/>
        </p:nvPicPr>
        <p:blipFill>
          <a:blip r:embed="rId1"/>
          <a:stretch/>
        </p:blipFill>
        <p:spPr>
          <a:xfrm>
            <a:off x="2725560" y="2421000"/>
            <a:ext cx="3314880" cy="2057400"/>
          </a:xfrm>
          <a:prstGeom prst="rect">
            <a:avLst/>
          </a:prstGeom>
          <a:ln w="0">
            <a:noFill/>
          </a:ln>
        </p:spPr>
      </p:pic>
      <p:sp>
        <p:nvSpPr>
          <p:cNvPr id="49" name=""/>
          <p:cNvSpPr/>
          <p:nvPr/>
        </p:nvSpPr>
        <p:spPr>
          <a:xfrm>
            <a:off x="4711680" y="1727280"/>
            <a:ext cx="266760" cy="9270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58604690-7D21-404F-A53F-552FEBBD69F4}" type="slidenum">
              <a:t>1</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DK 1.0 Security Model</a:t>
            </a:r>
            <a:endParaRPr b="0" lang="en-US" sz="4000" spc="-1" strike="noStrike">
              <a:solidFill>
                <a:srgbClr val="000000"/>
              </a:solidFill>
              <a:latin typeface="Times New Roman"/>
            </a:endParaRPr>
          </a:p>
        </p:txBody>
      </p:sp>
      <p:grpSp>
        <p:nvGrpSpPr>
          <p:cNvPr id="74" name=""/>
          <p:cNvGrpSpPr/>
          <p:nvPr/>
        </p:nvGrpSpPr>
        <p:grpSpPr>
          <a:xfrm>
            <a:off x="1409760" y="1244520"/>
            <a:ext cx="6006960" cy="4593240"/>
            <a:chOff x="1409760" y="1244520"/>
            <a:chExt cx="6006960" cy="4593240"/>
          </a:xfrm>
        </p:grpSpPr>
        <p:sp>
          <p:nvSpPr>
            <p:cNvPr id="75" name=""/>
            <p:cNvSpPr/>
            <p:nvPr/>
          </p:nvSpPr>
          <p:spPr>
            <a:xfrm>
              <a:off x="1828800" y="325116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76" name=""/>
            <p:cNvSpPr/>
            <p:nvPr/>
          </p:nvSpPr>
          <p:spPr>
            <a:xfrm>
              <a:off x="1828800" y="491472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334120" y="3429000"/>
              <a:ext cx="14605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78" name=""/>
            <p:cNvSpPr/>
            <p:nvPr/>
          </p:nvSpPr>
          <p:spPr>
            <a:xfrm>
              <a:off x="4546800" y="1625400"/>
              <a:ext cx="733320" cy="2484720"/>
            </a:xfrm>
            <a:custGeom>
              <a:avLst/>
              <a:gdLst>
                <a:gd name="textAreaLeft" fmla="*/ 98280 w 733320"/>
                <a:gd name="textAreaRight" fmla="*/ 635040 w 733320"/>
                <a:gd name="textAreaTop" fmla="*/ 456120 h 2484720"/>
                <a:gd name="textAreaBottom" fmla="*/ 1693800 h 2484720"/>
              </a:gdLst>
              <a:ahLst/>
              <a:rect l="textAreaLeft" t="textAreaTop" r="textAreaRight" b="textAreaBottom"/>
              <a:pathLst>
                <a:path w="21600" h="21600">
                  <a:moveTo>
                    <a:pt x="21600" y="0"/>
                  </a:moveTo>
                  <a:arcTo wR="21600" hR="7935" stAng="-5400000" swAng="-5400000"/>
                  <a:lnTo>
                    <a:pt x="0" y="10755"/>
                  </a:lnTo>
                  <a:arcTo wR="21600" hR="7935" stAng="10800000" swAng="-2765835"/>
                  <a:lnTo>
                    <a:pt x="14400" y="21146"/>
                  </a:lnTo>
                  <a:lnTo>
                    <a:pt x="21600" y="17280"/>
                  </a:lnTo>
                  <a:lnTo>
                    <a:pt x="14400" y="12506"/>
                  </a:lnTo>
                  <a:lnTo>
                    <a:pt x="14400" y="15416"/>
                  </a:lnTo>
                  <a:arcTo wR="21600" hR="7935" stAng="8034165" swAng="2538131"/>
                  <a:lnTo>
                    <a:pt x="344" y="9345"/>
                  </a:lnTo>
                  <a:arcTo wR="21600" hR="7935" stAng="-10572296" swAng="5172296"/>
                  <a:close/>
                </a:path>
                <a:path fill="darkenLess" w="21600" h="21600">
                  <a:moveTo>
                    <a:pt x="21600" y="0"/>
                  </a:moveTo>
                  <a:arcTo wR="21600" hR="7935" stAng="-5400000" swAng="-5400000"/>
                  <a:lnTo>
                    <a:pt x="0" y="7935"/>
                  </a:lnTo>
                  <a:arcTo wR="21600" hR="7935" stAng="10800000" swAng="-227704"/>
                  <a:lnTo>
                    <a:pt x="344" y="9345"/>
                  </a:lnTo>
                  <a:arcTo wR="21600" hR="7935" stAng="-10572296" swAng="5172296"/>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59320" y="1244520"/>
              <a:ext cx="1435320" cy="119376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80" name=""/>
            <p:cNvSpPr/>
            <p:nvPr/>
          </p:nvSpPr>
          <p:spPr>
            <a:xfrm>
              <a:off x="1409760" y="1752480"/>
              <a:ext cx="1181160" cy="102888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81" name=""/>
            <p:cNvSpPr/>
            <p:nvPr/>
          </p:nvSpPr>
          <p:spPr>
            <a:xfrm>
              <a:off x="2718000" y="1930320"/>
              <a:ext cx="733320" cy="2497320"/>
            </a:xfrm>
            <a:custGeom>
              <a:avLst/>
              <a:gdLst>
                <a:gd name="textAreaLeft" fmla="*/ 98280 w 733320"/>
                <a:gd name="textAreaRight" fmla="*/ 635040 w 733320"/>
                <a:gd name="textAreaTop" fmla="*/ 437040 h 2497320"/>
                <a:gd name="textAreaBottom" fmla="*/ 1810800 h 2497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0465E17D-ED34-404A-9422-02BE5A62455F}" type="slidenum">
              <a:t>10</a:t>
            </a:fld>
          </a:p>
        </p:txBody>
      </p:sp>
      <p:sp>
        <p:nvSpPr>
          <p:cNvPr id="5" name="PlaceHolder 4"/>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K 1.1 introduced the concept of a </a:t>
            </a:r>
            <a:r>
              <a:rPr b="0" i="1" lang="en-US" sz="2800" spc="-1" strike="noStrike">
                <a:solidFill>
                  <a:srgbClr val="000000"/>
                </a:solidFill>
                <a:latin typeface="Times New Roman"/>
              </a:rPr>
              <a:t>signed appl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rrectly digitally signed applet is treated as if it is trusted local code if the signature key is recognized as trusted by the system that receives the apple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applets, together with their signatures, are delivered in the JAR (Java Archive)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DK 1.1, unsigned applets still run in the sandbo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12FD2B3-61E4-46A3-BBB6-7BA2DAC070E5}" type="slidenum">
              <a:t>11</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DK 1.1 Security Model</a:t>
            </a:r>
            <a:endParaRPr b="0" lang="en-US" sz="4000" spc="-1" strike="noStrike">
              <a:solidFill>
                <a:srgbClr val="000000"/>
              </a:solidFill>
              <a:latin typeface="Times New Roman"/>
            </a:endParaRPr>
          </a:p>
        </p:txBody>
      </p:sp>
      <p:grpSp>
        <p:nvGrpSpPr>
          <p:cNvPr id="85" name=""/>
          <p:cNvGrpSpPr/>
          <p:nvPr/>
        </p:nvGrpSpPr>
        <p:grpSpPr>
          <a:xfrm>
            <a:off x="1359000" y="1333440"/>
            <a:ext cx="6197400" cy="4618800"/>
            <a:chOff x="1359000" y="1333440"/>
            <a:chExt cx="6197400" cy="4618800"/>
          </a:xfrm>
        </p:grpSpPr>
        <p:sp>
          <p:nvSpPr>
            <p:cNvPr id="86" name=""/>
            <p:cNvSpPr/>
            <p:nvPr/>
          </p:nvSpPr>
          <p:spPr>
            <a:xfrm>
              <a:off x="1968480" y="336564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87" name=""/>
            <p:cNvSpPr/>
            <p:nvPr/>
          </p:nvSpPr>
          <p:spPr>
            <a:xfrm>
              <a:off x="1968480" y="502920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830920" y="354348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89" name=""/>
            <p:cNvSpPr/>
            <p:nvPr/>
          </p:nvSpPr>
          <p:spPr>
            <a:xfrm>
              <a:off x="5843520" y="1359000"/>
              <a:ext cx="1420920" cy="119376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90" name=""/>
            <p:cNvSpPr/>
            <p:nvPr/>
          </p:nvSpPr>
          <p:spPr>
            <a:xfrm>
              <a:off x="1359000" y="1866960"/>
              <a:ext cx="1181160" cy="102888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91" name=""/>
            <p:cNvSpPr/>
            <p:nvPr/>
          </p:nvSpPr>
          <p:spPr>
            <a:xfrm>
              <a:off x="2667240" y="2044800"/>
              <a:ext cx="733320" cy="2496960"/>
            </a:xfrm>
            <a:custGeom>
              <a:avLst/>
              <a:gdLst>
                <a:gd name="textAreaLeft" fmla="*/ 98280 w 733320"/>
                <a:gd name="textAreaRight" fmla="*/ 635040 w 733320"/>
                <a:gd name="textAreaTop" fmla="*/ 436680 h 2496960"/>
                <a:gd name="textAreaBottom" fmla="*/ 1810440 h 2496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948200" y="1714680"/>
              <a:ext cx="814320" cy="2560680"/>
            </a:xfrm>
            <a:custGeom>
              <a:avLst/>
              <a:gdLst>
                <a:gd name="textAreaLeft" fmla="*/ 109080 w 814320"/>
                <a:gd name="textAreaRight" fmla="*/ 705240 w 814320"/>
                <a:gd name="textAreaTop" fmla="*/ 447840 h 2560680"/>
                <a:gd name="textAreaBottom" fmla="*/ 1856520 h 2560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37200" y="1765440"/>
              <a:ext cx="725400" cy="2763720"/>
            </a:xfrm>
            <a:custGeom>
              <a:avLst/>
              <a:gdLst>
                <a:gd name="textAreaLeft" fmla="*/ 97200 w 725400"/>
                <a:gd name="textAreaRight" fmla="*/ 628200 w 725400"/>
                <a:gd name="textAreaTop" fmla="*/ 585360 h 2763720"/>
                <a:gd name="textAreaBottom" fmla="*/ 1901880 h 2763720"/>
              </a:gdLst>
              <a:ahLst/>
              <a:rect l="textAreaLeft" t="textAreaTop" r="textAreaRight" b="textAreaBottom"/>
              <a:pathLst>
                <a:path w="21600" h="21600">
                  <a:moveTo>
                    <a:pt x="0" y="0"/>
                  </a:moveTo>
                  <a:arcTo wR="21600" hR="9151" stAng="-5400000" swAng="5400000"/>
                  <a:lnTo>
                    <a:pt x="21600" y="10290"/>
                  </a:lnTo>
                  <a:arcTo wR="21600" hR="9151" stAng="0" swAng="3102066"/>
                  <a:lnTo>
                    <a:pt x="6853" y="21127"/>
                  </a:lnTo>
                  <a:lnTo>
                    <a:pt x="0" y="18871"/>
                  </a:lnTo>
                  <a:lnTo>
                    <a:pt x="6853" y="15668"/>
                  </a:lnTo>
                  <a:lnTo>
                    <a:pt x="6853" y="17828"/>
                  </a:lnTo>
                  <a:arcTo wR="21600" hR="9151" stAng="3102066" swAng="-3011272"/>
                  <a:lnTo>
                    <a:pt x="21558" y="9720"/>
                  </a:lnTo>
                  <a:arcTo wR="21600" hR="9151" stAng="-90794" swAng="-5309206"/>
                  <a:close/>
                </a:path>
                <a:path fill="darkenLess" w="21600" h="21600">
                  <a:moveTo>
                    <a:pt x="0" y="0"/>
                  </a:moveTo>
                  <a:arcTo wR="21600" hR="9151" stAng="-5400000" swAng="5400000"/>
                  <a:lnTo>
                    <a:pt x="21600" y="10290"/>
                  </a:lnTo>
                  <a:arcTo wR="21600" hR="9151" stAng="0" swAng="-90794"/>
                  <a:lnTo>
                    <a:pt x="21558" y="9720"/>
                  </a:lnTo>
                  <a:arcTo wR="21600" hR="9151" stAng="-90794" swAng="-530920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22720" y="1549440"/>
              <a:ext cx="81756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13440" y="1333440"/>
              <a:ext cx="90468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06840" y="3429000"/>
              <a:ext cx="165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gned</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952C8C58-3728-468C-9876-3DE7368A4765}" type="slidenum">
              <a:t>12</a:t>
            </a:fld>
          </a:p>
        </p:txBody>
      </p:sp>
      <p:sp>
        <p:nvSpPr>
          <p:cNvPr id="5" name="PlaceHolder 4"/>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S</a:t>
            </a:r>
            <a:r>
              <a:rPr b="0" lang="en-US" sz="2600" spc="-1" strike="noStrike">
                <a:solidFill>
                  <a:srgbClr val="000000"/>
                </a:solidFill>
                <a:latin typeface="Times New Roman"/>
              </a:rPr>
              <a:t>igned applets contain a signature, which is a sequence of characters embedded in the applet's code, placed there by the originator of the applet, and which can't be altered or duplicated </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T</a:t>
            </a:r>
            <a:r>
              <a:rPr b="0" lang="en-US" sz="2600" spc="-1" strike="noStrike">
                <a:solidFill>
                  <a:srgbClr val="000000"/>
                </a:solidFill>
                <a:latin typeface="Times New Roman"/>
              </a:rPr>
              <a:t>he signature tells who the applet comes from, and that the applet has not been tampered with. A signature doesn't tell you anything about the content or quality of the applet, just that it comes from the source it's signed by</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an applet is signed with a name you recognize and trust, you can probably have confidence in it</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FE8545B-EE28-4C4B-AFDB-8D5E6C9194FB}" type="slidenum">
              <a:t>13</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t>
            </a:r>
            <a:r>
              <a:rPr b="0" lang="en-US" sz="2800" spc="-1" strike="noStrike">
                <a:solidFill>
                  <a:srgbClr val="000000"/>
                </a:solidFill>
                <a:latin typeface="Times New Roman"/>
              </a:rPr>
              <a:t>he applet should generate a Java Security dialog, indicating that a java applet from “the sender’s signature id" is requesting additional privileges, e.g. reading, modification, or deletion of any of your files. Granting the privilege is noted as high ris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ava Security dialog should indicate "Identity verified by </a:t>
            </a:r>
            <a:r>
              <a:rPr b="0" i="1" lang="en-US" sz="2800" spc="-1" strike="noStrike">
                <a:solidFill>
                  <a:srgbClr val="000000"/>
                </a:solidFill>
                <a:latin typeface="Times New Roman"/>
              </a:rPr>
              <a:t>original issuer of certificate</a:t>
            </a:r>
            <a:r>
              <a:rPr b="0" lang="en-US" sz="2800" spc="-1" strike="noStrike">
                <a:solidFill>
                  <a:srgbClr val="000000"/>
                </a:solidFill>
                <a:latin typeface="Times New Roman"/>
              </a:rPr>
              <a:t>" and display a button for you to examine the certifica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23F6857-4B47-4EF3-98AE-F5017CEE3E33}" type="slidenum">
              <a:t>14</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DK 1.2 Secuiry</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DK 1.2 designed to support easily configurable security polic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JDK 1.2, no longer a built-in concept that all local code is trust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code (e.g., non-system code, application packages installed on the local file system) is subject to the same security control as apple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principles apply to signed applets and any Java appl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B443CFE-7068-4F66-9250-4831A8C2397A}" type="slidenum">
              <a:t>15</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DK 1.2 Security Model</a:t>
            </a:r>
            <a:endParaRPr b="0" lang="en-US" sz="4000" spc="-1" strike="noStrike">
              <a:solidFill>
                <a:srgbClr val="000000"/>
              </a:solidFill>
              <a:latin typeface="Times New Roman"/>
            </a:endParaRPr>
          </a:p>
        </p:txBody>
      </p:sp>
      <p:grpSp>
        <p:nvGrpSpPr>
          <p:cNvPr id="104" name=""/>
          <p:cNvGrpSpPr/>
          <p:nvPr/>
        </p:nvGrpSpPr>
        <p:grpSpPr>
          <a:xfrm>
            <a:off x="749160" y="1028880"/>
            <a:ext cx="7912080" cy="5113800"/>
            <a:chOff x="749160" y="1028880"/>
            <a:chExt cx="7912080" cy="5113800"/>
          </a:xfrm>
        </p:grpSpPr>
        <p:sp>
          <p:nvSpPr>
            <p:cNvPr id="105" name=""/>
            <p:cNvSpPr/>
            <p:nvPr/>
          </p:nvSpPr>
          <p:spPr>
            <a:xfrm>
              <a:off x="762120" y="355608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106" name=""/>
            <p:cNvSpPr/>
            <p:nvPr/>
          </p:nvSpPr>
          <p:spPr>
            <a:xfrm>
              <a:off x="762120" y="521964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637160" y="373392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108" name=""/>
            <p:cNvSpPr/>
            <p:nvPr/>
          </p:nvSpPr>
          <p:spPr>
            <a:xfrm>
              <a:off x="2655720" y="1028880"/>
              <a:ext cx="1433520" cy="66024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code</a:t>
              </a:r>
              <a:endParaRPr b="0" lang="en-US" sz="2800" spc="-1" strike="noStrike">
                <a:solidFill>
                  <a:srgbClr val="000000"/>
                </a:solidFill>
                <a:latin typeface="Times New Roman"/>
              </a:endParaRPr>
            </a:p>
          </p:txBody>
        </p:sp>
        <p:sp>
          <p:nvSpPr>
            <p:cNvPr id="109" name=""/>
            <p:cNvSpPr/>
            <p:nvPr/>
          </p:nvSpPr>
          <p:spPr>
            <a:xfrm>
              <a:off x="3006720" y="1244520"/>
              <a:ext cx="90504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790640" y="2095560"/>
              <a:ext cx="3068640" cy="952560"/>
            </a:xfrm>
            <a:prstGeom prst="flowChartPreparati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loa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manager</a:t>
              </a:r>
              <a:endParaRPr b="0" lang="en-US" sz="2400" spc="-1" strike="noStrike">
                <a:solidFill>
                  <a:srgbClr val="000000"/>
                </a:solidFill>
                <a:latin typeface="Times New Roman"/>
              </a:endParaRPr>
            </a:p>
          </p:txBody>
        </p:sp>
        <p:sp>
          <p:nvSpPr>
            <p:cNvPr id="111" name=""/>
            <p:cNvSpPr/>
            <p:nvPr/>
          </p:nvSpPr>
          <p:spPr>
            <a:xfrm>
              <a:off x="749160" y="3543480"/>
              <a:ext cx="1155960" cy="101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663560" y="3543480"/>
              <a:ext cx="115596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225960" y="3556080"/>
              <a:ext cx="115560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174840" y="1727280"/>
              <a:ext cx="384480" cy="341280"/>
            </a:xfrm>
            <a:prstGeom prst="downArrow">
              <a:avLst>
                <a:gd name="adj1" fmla="val 44444"/>
                <a:gd name="adj2" fmla="val 390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5" name=""/>
            <p:cNvCxnSpPr>
              <a:stCxn id="110" idx="2"/>
              <a:endCxn id="111" idx="0"/>
            </p:cNvCxnSpPr>
            <p:nvPr/>
          </p:nvCxnSpPr>
          <p:spPr>
            <a:xfrm rot="5400000">
              <a:off x="2077920" y="2296440"/>
              <a:ext cx="496080" cy="1999440"/>
            </a:xfrm>
            <a:prstGeom prst="curvedConnector5">
              <a:avLst>
                <a:gd name="adj1" fmla="val 49963"/>
                <a:gd name="adj2" fmla="val 49990"/>
                <a:gd name="adj3" fmla="val 49963"/>
              </a:avLst>
            </a:prstGeom>
            <a:ln w="38160">
              <a:solidFill>
                <a:srgbClr val="000000"/>
              </a:solidFill>
              <a:miter/>
              <a:tailEnd len="med" type="triangle" w="med"/>
            </a:ln>
          </p:spPr>
        </p:cxnSp>
        <p:cxnSp>
          <p:nvCxnSpPr>
            <p:cNvPr id="116" name=""/>
            <p:cNvCxnSpPr>
              <a:stCxn id="110" idx="2"/>
              <a:endCxn id="112" idx="3"/>
            </p:cNvCxnSpPr>
            <p:nvPr/>
          </p:nvCxnSpPr>
          <p:spPr>
            <a:xfrm rot="5400000">
              <a:off x="2500560" y="3366360"/>
              <a:ext cx="1143720" cy="506880"/>
            </a:xfrm>
            <a:prstGeom prst="curvedConnector2">
              <a:avLst/>
            </a:prstGeom>
            <a:ln w="38160">
              <a:solidFill>
                <a:srgbClr val="000000"/>
              </a:solidFill>
              <a:miter/>
              <a:tailEnd len="med" type="triangle" w="med"/>
            </a:ln>
          </p:spPr>
        </p:cxnSp>
        <p:cxnSp>
          <p:nvCxnSpPr>
            <p:cNvPr id="117" name=""/>
            <p:cNvCxnSpPr>
              <a:stCxn id="110" idx="2"/>
              <a:endCxn id="113" idx="0"/>
            </p:cNvCxnSpPr>
            <p:nvPr/>
          </p:nvCxnSpPr>
          <p:spPr>
            <a:xfrm flipH="1" rot="16200000">
              <a:off x="3310560" y="3062520"/>
              <a:ext cx="508680" cy="478800"/>
            </a:xfrm>
            <a:prstGeom prst="curvedConnector5">
              <a:avLst>
                <a:gd name="adj1" fmla="val 50000"/>
                <a:gd name="adj2" fmla="val 49962"/>
                <a:gd name="adj3" fmla="val 50000"/>
              </a:avLst>
            </a:prstGeom>
            <a:ln w="38160">
              <a:solidFill>
                <a:srgbClr val="000000"/>
              </a:solidFill>
              <a:miter/>
              <a:tailEnd len="med" type="triangle" w="sm"/>
            </a:ln>
          </p:spPr>
        </p:cxnSp>
        <p:cxnSp>
          <p:nvCxnSpPr>
            <p:cNvPr id="118" name=""/>
            <p:cNvCxnSpPr>
              <a:stCxn id="110" idx="2"/>
              <a:endCxn id="107" idx="0"/>
            </p:cNvCxnSpPr>
            <p:nvPr/>
          </p:nvCxnSpPr>
          <p:spPr>
            <a:xfrm flipH="1" rot="16200000">
              <a:off x="4013280" y="2360160"/>
              <a:ext cx="660600" cy="2036160"/>
            </a:xfrm>
            <a:prstGeom prst="curvedConnector5">
              <a:avLst>
                <a:gd name="adj1" fmla="val 51908"/>
                <a:gd name="adj2" fmla="val 49991"/>
                <a:gd name="adj3" fmla="val 51908"/>
              </a:avLst>
            </a:prstGeom>
            <a:ln w="38160">
              <a:solidFill>
                <a:srgbClr val="ff0000"/>
              </a:solidFill>
              <a:miter/>
              <a:tailEnd len="med" type="triangle" w="med"/>
            </a:ln>
          </p:spPr>
        </p:cxnSp>
        <p:sp>
          <p:nvSpPr>
            <p:cNvPr id="119" name=""/>
            <p:cNvSpPr/>
            <p:nvPr/>
          </p:nvSpPr>
          <p:spPr>
            <a:xfrm>
              <a:off x="6642000" y="2324160"/>
              <a:ext cx="2019240" cy="3111480"/>
            </a:xfrm>
            <a:prstGeom prst="wedgeRoundRectCallout">
              <a:avLst>
                <a:gd name="adj1" fmla="val -178615"/>
                <a:gd name="adj2" fmla="val 35560"/>
                <a:gd name="adj3" fmla="val 16667"/>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built-in notion of trusted code, each applet runs with separate permissions </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71AD74B0-BA2C-4C7B-A530-571A5CE69F63}" type="slidenum">
              <a:t>16</a:t>
            </a:fld>
          </a:p>
        </p:txBody>
      </p:sp>
      <p:sp>
        <p:nvSpPr>
          <p:cNvPr id="5" name="PlaceHolder 4"/>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 Trivial Applet</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fficial (new way) of invoking applets (invokes SUN's jre1.3 plug-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hlinkClick r:id="rId1"/>
              </a:rPr>
              <a:t>Trivial</a:t>
            </a:r>
            <a:r>
              <a:rPr b="0" lang="en-CA" sz="2800" spc="-1" strike="noStrike" u="sng">
                <a:solidFill>
                  <a:srgbClr val="0033cc"/>
                </a:solidFill>
                <a:uFillTx/>
                <a:latin typeface="Times New Roman"/>
                <a:hlinkClick r:id="rId2"/>
              </a:rPr>
              <a:t>Object</a:t>
            </a:r>
            <a:r>
              <a:rPr b="0" lang="en-US" sz="2800" spc="-1" strike="noStrike" u="sng">
                <a:solidFill>
                  <a:srgbClr val="0033cc"/>
                </a:solidFill>
                <a:uFillTx/>
                <a:latin typeface="Times New Roman"/>
                <a:hlinkClick r:id="rId3"/>
              </a:rPr>
              <a:t>.html</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ld (and convenient way) of invoking applets (invokes built-in j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US" sz="2800" spc="-1" strike="noStrike" u="sng">
                <a:solidFill>
                  <a:srgbClr val="0033cc"/>
                </a:solidFill>
                <a:uFillTx/>
                <a:latin typeface="Times New Roman"/>
                <a:hlinkClick r:id="rId4"/>
              </a:rPr>
              <a:t>TrivialApplet</a:t>
            </a:r>
            <a:r>
              <a:rPr b="0" lang="en-US" sz="2800" spc="-1" strike="noStrike" u="sng">
                <a:solidFill>
                  <a:srgbClr val="0033cc"/>
                </a:solidFill>
                <a:uFillTx/>
                <a:latin typeface="Times New Roman"/>
                <a:hlinkClick r:id="rId5"/>
              </a:rPr>
              <a:t>.htm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33cc"/>
                </a:solidFill>
                <a:uFillTx/>
                <a:latin typeface="Times New Roman"/>
                <a:hlinkClick r:id="rId6"/>
              </a:rPr>
              <a:t>Trivial.java</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C9EB6950-0AB5-437D-83D4-5ECE1FFA40B3}" type="slidenum">
              <a:t>17</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applet.Applet lifecycle methods</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id ini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voked when applet is initially load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id star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voked when started or restarted as a result of user flipping Web pag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id stop()</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voked when user switches away from web pag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id destro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voked (usually) on browser termin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4CB3403-D561-4564-8E0C-88C45CF2005A}" type="slidenum">
              <a:t>18</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pplet contextual methods</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tring getParameter(St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udioClip getAudioClip(UR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mage getImage(UR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RL getCode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RL getDocument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ocale getLoca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void showStatus(str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89C2646-EA6A-4B6C-A030-11E24B5EA7EE}" type="slidenum">
              <a:t>19</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History (cont'd)</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uld not find a market for the technolog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uring a Sun offsite with Bill Joy in 1994:</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hy not use it on the Interne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arted development of "WebRunner", later to be renamed "HotJava" browser</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 browser capable of downloading and running Java bytecode.</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olks were impressed with interactive Web pa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g., spinning molecules, sorting dem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ny downloads of HotJava</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 big succes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rc Anrdreesen of Netscape agrees to support Java in Netscape browsers in 1995</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C82249B-B154-440B-9BEF-E6027A55B0D6}" type="slidenum">
              <a:t>2</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pplet GUI</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nherit from Applet and use the AWT GUI libr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nherit from JApplet and use the JFC/Swing GUI</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hlinkClick r:id="rId1"/>
              </a:rPr>
              <a:t>GUI.htm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hlinkClick r:id="rId2"/>
              </a:rPr>
              <a:t>GUI.jav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D62C1CE-DCCD-476A-86E1-EC3C5C3F6BFC}" type="slidenum">
              <a:t>20</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JavaScript Communications</a:t>
            </a:r>
            <a:endParaRPr b="0" lang="en-US" sz="4000" spc="-1" strike="noStrike">
              <a:solidFill>
                <a:srgbClr val="000000"/>
              </a:solidFill>
              <a:latin typeface="Times New Roman"/>
            </a:endParaRPr>
          </a:p>
        </p:txBody>
      </p:sp>
      <p:sp>
        <p:nvSpPr>
          <p:cNvPr id="129"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JavaScript can call methods defined in Java Appl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hlinkClick r:id="rId1"/>
              </a:rPr>
              <a:t>JS.htm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hlinkClick r:id="rId2"/>
              </a:rPr>
              <a:t>JS.jav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AF8C834-17E2-4938-B8A6-AF0B097D9464}" type="slidenum">
              <a:t>21</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How Java Applets Work</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al-estate on a Web page is set-aside for use by a Java applet via an &lt;embed&gt;, &lt;applet&gt;, or &lt;object&gt; tag (e.g., 2 inches by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Java "jar" files downloaded to client mach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ain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lass fil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other resources (images, sounds, property files,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lass indicated in the tag (must derive from </a:t>
            </a:r>
            <a:r>
              <a:rPr b="0" lang="en-CA" sz="2000" spc="-1" strike="noStrike">
                <a:solidFill>
                  <a:srgbClr val="000000"/>
                </a:solidFill>
                <a:latin typeface="Arial"/>
              </a:rPr>
              <a:t>java.applet.Applet</a:t>
            </a:r>
            <a:r>
              <a:rPr b="0" lang="en-CA" sz="2800" spc="-1" strike="noStrike">
                <a:solidFill>
                  <a:srgbClr val="000000"/>
                </a:solidFill>
                <a:latin typeface="Times New Roman"/>
              </a:rPr>
              <a:t>) is invok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8EF6CC1-9979-4A29-8805-C71AFE69C33E}" type="slidenum">
              <a:t>3</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Execution</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 JVM (Java Virtual Machine) running within the context of the client browser attempts to load the first clas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trusted Java  </a:t>
            </a:r>
            <a:r>
              <a:rPr b="0" lang="en-CA" sz="2000" spc="-1" strike="noStrike">
                <a:solidFill>
                  <a:srgbClr val="000000"/>
                </a:solidFill>
                <a:latin typeface="Arial"/>
              </a:rPr>
              <a:t>ClassLoader</a:t>
            </a:r>
            <a:r>
              <a:rPr b="0" lang="en-CA" sz="2800" spc="-1" strike="noStrike">
                <a:solidFill>
                  <a:srgbClr val="000000"/>
                </a:solidFill>
                <a:latin typeface="Times New Roman"/>
              </a:rPr>
              <a:t> does the work</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lassloader defines a local name space that can be used to ensure that an untrusted applet cannot interfere with the running of other program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tatic checks are made against the Java bytecode to ensure it attempts to do nothing improper</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ike treat an integer as a memory addres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79F4A0D-1F5A-432C-9F99-978E6544B4D4}" type="slidenum">
              <a:t>4</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Execution cont'd</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s the applet runs, whenever it needs access to a system resource it asks a trusted </a:t>
            </a:r>
            <a:r>
              <a:rPr b="0" lang="en-CA" sz="2400" spc="-1" strike="noStrike">
                <a:solidFill>
                  <a:srgbClr val="000000"/>
                </a:solidFill>
                <a:latin typeface="Arial"/>
              </a:rPr>
              <a:t>SecurityManager</a:t>
            </a:r>
            <a:r>
              <a:rPr b="0" lang="en-CA" sz="3200" spc="-1" strike="noStrike">
                <a:solidFill>
                  <a:srgbClr val="000000"/>
                </a:solidFill>
                <a:latin typeface="Times New Roman"/>
              </a:rPr>
              <a:t> for permiss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uses user-granted permissions associated with signed certificates to grant enhanced access to system resources (e.g., file deletion capab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ithout a signed certificate associated with the permission required by an applet, the applet will raise a security excep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2437D59C-AC27-4A67-9523-E10DBC88371B}" type="slidenum">
              <a:t>5</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 22 March 1996</a:t>
            </a:r>
            <a:endParaRPr b="0" lang="en-US" sz="30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rew Dean and Ed Felton of the Princeton Dept of Computer Science</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cessfully exploited a bug in Java to create a applet that deletes a file on the user's local disk.</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bug, a binary library file is first downloaded to the user's local disk using the Netscape caching mechanism. The Java interpreter is then tricked into loading the file into memory and executing i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D5457C5-6049-4AA7-86E6-0CF195329722}" type="slidenum">
              <a:t>6</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 cont'd</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plets are supposed to be able to talk only to the server that they originated from.</a:t>
            </a:r>
            <a:endParaRPr b="0" lang="en-US" sz="3000" spc="-1" strike="noStrike">
              <a:solidFill>
                <a:srgbClr val="000000"/>
              </a:solidFill>
              <a:latin typeface="Times New Roman"/>
            </a:endParaRPr>
          </a:p>
          <a:p>
            <a:pPr lvl="1" marL="735480" indent="-2829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ever in early March 1996, Steve Gibbons and Drew Dean independently discovered holes in the implementation that allows applets to make connections to any host on the Internet</a:t>
            </a:r>
            <a:endParaRPr b="0" lang="en-US" sz="2600" spc="-1" strike="noStrike">
              <a:solidFill>
                <a:srgbClr val="000000"/>
              </a:solidFill>
              <a:latin typeface="Times New Roman"/>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 March 5, 1997, an internal security audit at JavaSoft revealed a bug in the Java bytecode verifier.</a:t>
            </a:r>
            <a:endParaRPr b="0" lang="en-US" sz="3000" spc="-1" strike="noStrike">
              <a:solidFill>
                <a:srgbClr val="000000"/>
              </a:solidFill>
              <a:latin typeface="Times New Roman"/>
            </a:endParaRPr>
          </a:p>
          <a:p>
            <a:pPr lvl="1" marL="735480" indent="-2829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ory, this bug could be exploited to bypass the Java Security Manager and execute forbidden operations</a:t>
            </a:r>
            <a:endParaRPr b="0" lang="en-US" sz="2600" spc="-1" strike="noStrike">
              <a:solidFill>
                <a:srgbClr val="000000"/>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0DAB99B-9BF6-457B-92D0-A4A9A7BEEFF5}" type="slidenum">
              <a:t>7</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 cont'd</a:t>
            </a:r>
            <a:endParaRPr b="0" lang="en-US" sz="4000" spc="-1" strike="noStrike">
              <a:solidFill>
                <a:srgbClr val="000000"/>
              </a:solidFill>
              <a:latin typeface="Times New Roman"/>
            </a:endParaRPr>
          </a:p>
        </p:txBody>
      </p:sp>
      <p:grpSp>
        <p:nvGrpSpPr>
          <p:cNvPr id="63" name=""/>
          <p:cNvGrpSpPr/>
          <p:nvPr/>
        </p:nvGrpSpPr>
        <p:grpSpPr>
          <a:xfrm>
            <a:off x="1270080" y="1625760"/>
            <a:ext cx="6727320" cy="3966480"/>
            <a:chOff x="1270080" y="1625760"/>
            <a:chExt cx="6727320" cy="3966480"/>
          </a:xfrm>
        </p:grpSpPr>
        <p:sp>
          <p:nvSpPr>
            <p:cNvPr id="64" name=""/>
            <p:cNvSpPr/>
            <p:nvPr/>
          </p:nvSpPr>
          <p:spPr>
            <a:xfrm>
              <a:off x="1270080" y="1625760"/>
              <a:ext cx="6633720" cy="39664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586520" y="2193840"/>
              <a:ext cx="437868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Byte Code Verifier</a:t>
              </a:r>
              <a:endParaRPr b="0" lang="en-US" sz="2400" spc="-1" strike="noStrike">
                <a:solidFill>
                  <a:srgbClr val="000000"/>
                </a:solidFill>
                <a:latin typeface="Times New Roman"/>
              </a:endParaRPr>
            </a:p>
          </p:txBody>
        </p:sp>
        <p:sp>
          <p:nvSpPr>
            <p:cNvPr id="66" name=""/>
            <p:cNvSpPr/>
            <p:nvPr/>
          </p:nvSpPr>
          <p:spPr>
            <a:xfrm>
              <a:off x="1605240" y="3363120"/>
              <a:ext cx="437904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lass Loader</a:t>
              </a:r>
              <a:endParaRPr b="0" lang="en-US" sz="2400" spc="-1" strike="noStrike">
                <a:solidFill>
                  <a:srgbClr val="000000"/>
                </a:solidFill>
                <a:latin typeface="Times New Roman"/>
              </a:endParaRPr>
            </a:p>
          </p:txBody>
        </p:sp>
        <p:sp>
          <p:nvSpPr>
            <p:cNvPr id="67" name=""/>
            <p:cNvSpPr/>
            <p:nvPr/>
          </p:nvSpPr>
          <p:spPr>
            <a:xfrm>
              <a:off x="1586520" y="4553280"/>
              <a:ext cx="437868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curity Manager</a:t>
              </a:r>
              <a:endParaRPr b="0" lang="en-US" sz="2400" spc="-1" strike="noStrike">
                <a:solidFill>
                  <a:srgbClr val="000000"/>
                </a:solidFill>
                <a:latin typeface="Times New Roman"/>
              </a:endParaRPr>
            </a:p>
          </p:txBody>
        </p:sp>
        <p:sp>
          <p:nvSpPr>
            <p:cNvPr id="68" name=""/>
            <p:cNvSpPr/>
            <p:nvPr/>
          </p:nvSpPr>
          <p:spPr>
            <a:xfrm>
              <a:off x="6096960" y="177732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1</a:t>
              </a:r>
              <a:endParaRPr b="0" lang="en-US" sz="2400" spc="-1" strike="noStrike">
                <a:solidFill>
                  <a:srgbClr val="000000"/>
                </a:solidFill>
                <a:latin typeface="Times New Roman"/>
              </a:endParaRPr>
            </a:p>
          </p:txBody>
        </p:sp>
        <p:sp>
          <p:nvSpPr>
            <p:cNvPr id="69" name=""/>
            <p:cNvSpPr/>
            <p:nvPr/>
          </p:nvSpPr>
          <p:spPr>
            <a:xfrm>
              <a:off x="6096960" y="298656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2</a:t>
              </a:r>
              <a:endParaRPr b="0" lang="en-US" sz="2400" spc="-1" strike="noStrike">
                <a:solidFill>
                  <a:srgbClr val="000000"/>
                </a:solidFill>
                <a:latin typeface="Times New Roman"/>
              </a:endParaRPr>
            </a:p>
          </p:txBody>
        </p:sp>
        <p:sp>
          <p:nvSpPr>
            <p:cNvPr id="70" name=""/>
            <p:cNvSpPr/>
            <p:nvPr/>
          </p:nvSpPr>
          <p:spPr>
            <a:xfrm>
              <a:off x="6115320" y="415620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3</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087FC963-C31F-4EA0-A1C4-0A049AD19C6A}" type="slidenum">
              <a:t>8</a:t>
            </a:fld>
          </a:p>
        </p:txBody>
      </p:sp>
      <p:sp>
        <p:nvSpPr>
          <p:cNvPr id="5" name="PlaceHolder 4"/>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t>
            </a:r>
            <a:r>
              <a:rPr b="0" lang="en-US" sz="2800" spc="-1" strike="noStrike">
                <a:solidFill>
                  <a:srgbClr val="000000"/>
                </a:solidFill>
                <a:latin typeface="Times New Roman"/>
              </a:rPr>
              <a:t>he original security model provided by the Java platform is known as the </a:t>
            </a:r>
            <a:r>
              <a:rPr b="0" i="1" lang="en-US" sz="2800" spc="-1" strike="noStrike">
                <a:solidFill>
                  <a:srgbClr val="000000"/>
                </a:solidFill>
                <a:latin typeface="Times New Roman"/>
              </a:rPr>
              <a:t>sandbox model</a:t>
            </a:r>
            <a:r>
              <a:rPr b="0" lang="en-US" sz="2800" spc="-1" strike="noStrike">
                <a:solidFill>
                  <a:srgbClr val="000000"/>
                </a:solidFill>
                <a:latin typeface="Times New Roman"/>
              </a:rPr>
              <a:t>, which existed in order to provide a very restricted environment in which to run untrusted code obtained from the Interne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L</a:t>
            </a:r>
            <a:r>
              <a:rPr b="0" lang="en-US" sz="2800" spc="-1" strike="noStrike">
                <a:solidFill>
                  <a:srgbClr val="000000"/>
                </a:solidFill>
                <a:latin typeface="Times New Roman"/>
              </a:rPr>
              <a:t>ocal code is trusted to have full access to vital system resources (such as the file syste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a:t>
            </a:r>
            <a:r>
              <a:rPr b="0" lang="en-US" sz="2800" spc="-1" strike="noStrike">
                <a:solidFill>
                  <a:srgbClr val="000000"/>
                </a:solidFill>
                <a:latin typeface="Times New Roman"/>
              </a:rPr>
              <a:t>ownloaded remote code (an applet) is not trusted and can access only the limited resources provided inside the sandbo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2B66613-5813-4374-B2D4-410E87089E3A}" type="slidenum">
              <a:t>9</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0:39:14Z</dcterms:created>
  <dc:creator>David A. Penny</dc:creator>
  <dc:description/>
  <dc:language>en-US</dc:language>
  <cp:lastModifiedBy>penny</cp:lastModifiedBy>
  <dcterms:modified xsi:type="dcterms:W3CDTF">2001-10-16T18:34:04Z</dcterms:modified>
  <cp:revision>35</cp:revision>
  <dc:subject/>
  <dc:title>CSC309 - 22 - Java</dc:title>
</cp:coreProperties>
</file>