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AE73-B200-47DF-B820-5D17785CD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C7A3-221C-4A02-8F72-CD4E3FC1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F070-94B4-45F5-A5AB-390908715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2F9F-6803-430A-84CB-DB31054BB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5910-D011-4196-9914-2B932560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29F2-DE47-4761-9145-4A447571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6598-A213-4401-A23D-14CA0F83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4183-A823-4BCD-8CA9-0B9474C8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FA40-C8F4-4595-AED0-77EE5004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6E2E-CDB1-40B4-9903-5C16D578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47C3-C3B0-4317-BF8A-95C2B822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768A-E216-41D7-B651-06FA58B5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7CAA-28A3-4D24-B412-EE8ED2479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Fast Weights to Improve Persistent Contrastive Divergen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by Tijmen Tiele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work with Geoff Hin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of Toro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l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ient descent is itera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reuse data from the previous estim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Markov Chain for getting samp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: keep the Markov Chain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lose to equilibri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a few transitions after each weight up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the Chain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atches 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fter the model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reset the Markov Chain after a weight update (hence ‘Persistent’ C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 we always have samples from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very close to th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ixing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ov Chain (i.e. PCD with learning rate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9480" y="2006640"/>
            <a:ext cx="716292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ixing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rate: 0.00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9480" y="2023920"/>
            <a:ext cx="716292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ixing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rate: 0.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2022480"/>
            <a:ext cx="71629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ixing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rate: 0.0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09480" y="2022480"/>
            <a:ext cx="71629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ixing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rate: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480" y="2031840"/>
            <a:ext cx="71629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ixing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rate: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9480" y="2031840"/>
            <a:ext cx="71629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ixing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rate: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09480" y="2031840"/>
            <a:ext cx="71629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accelerates mix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phase: “wherev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gD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, reduce probabilit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learning)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ddenly, tho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gD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rkov Chains are in a low probability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they quickly move away, to a higher probability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… repea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but deterministic: “Herding Dynamical Weights to Learn” by Max Welling (poster to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makes the chain m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er learning makes the chain mix fast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oing too fast will mess up th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par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‘fast’ weights that learn rapi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them close to the regular we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ins mix using the fast we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ins provide good samples for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regular weights, the learning rate is sm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his is ab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lgorithm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supervi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arning: modeling data density. Not classification or regr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arkov Random F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known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-based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-linear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s of experts, or produc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as: Restricted Boltzmann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PCD Pseudo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gular the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mall random weigh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st the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ll z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g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bitrar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sitive gradi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a batch of training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gative gradi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g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learning on bo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gular the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st the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ing the difference of gradients (but with different LR’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g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ing a Gibbs update, with parameter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gular the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st the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: f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t the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st thet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0.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ast the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ll zeros, FPCD == PC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should be different learning rates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gular the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ast the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gular the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learn slowly, to prevent getting bad mode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ast the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learn rapidly, to enable fast mix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038480" y="161928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PCD helps a lot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not many updates can be done (i.e. large data dimensionalit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mall models (e.g. toy) with lots of training tim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me as PC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results: po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PCD = Fast PCD = Persistent Contrastive Divergence using Fast we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fast learning-causing-mixing, but not on the regular model parame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ixing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ov Chain (i.e. PCD with learning rate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480" y="2022480"/>
            <a:ext cx="71629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RF 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probability where training data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 probability when the model assigns much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finding those places (sampling) is intrac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 or PL: use surrogate samples, a few steps away from the training da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ork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st application paper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it’s not 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212760"/>
            <a:ext cx="8407440" cy="6065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lem with C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382240" cy="6049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lem with C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CD (part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ient descent is itera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reuse data from the previous gradient estim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Markov Chain for getting samp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: keep the Markov Chain close to equilibri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a few transitions after each weight up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the Chain catches up after the model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reset the Markov Chain after a weight update (hence ‘Persistent’ C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 we always have samples from very close to the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CD (part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would not change the model at all, we would ha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a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amples (after burn-in). It would be a regular Markov Ch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del chang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light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the Markov Chain is alway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 lit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h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CD Pseudo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e 100 Markov Chain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gData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bitrar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e the model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ith small random we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sitive gradi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a batch of train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gative gradi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g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learning 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ing the difference of grad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g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ing a Gibbs update on the current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take a step 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ient descent is itera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reuse data from the previous estim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Markov Chain for getting samp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: keep the Markov Chain close to equilibri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a few transitions after each weight up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the Chain catches up after the model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reset the Markov Chain after a weight update (hence ‘Persistent’ C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 we always have samples from very close to the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02:42:13Z</dcterms:created>
  <dc:creator>x</dc:creator>
  <dc:description/>
  <dc:language>en-US</dc:language>
  <cp:lastModifiedBy>x</cp:lastModifiedBy>
  <dcterms:modified xsi:type="dcterms:W3CDTF">2009-06-17T17:55:40Z</dcterms:modified>
  <cp:revision>24</cp:revision>
  <dc:subject/>
  <dc:title>Using fast weights to improve Persistent Contrastive Divergence </dc:title>
</cp:coreProperties>
</file>